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0FE-A83A-415F-95FF-3EC39DFB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38B-A518-4429-B051-2BB181E2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3E8-84DA-4E42-93B4-FE1F54A6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993-7C40-497B-AADF-8885BA8B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49A9-9FB2-4E41-BCFF-4956312E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80EE-2350-4A8B-95C7-F52ED1FE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4E11-6D52-4425-B29D-0019BE16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934C-3F2D-4B89-95D2-7DFDE772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33D7-FB31-4D31-B511-3423D739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F9D2-D045-4836-B7B3-FC232270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B36F-B6B1-442F-9514-6FFFE01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7E7-FEC5-4E54-8C3C-210D132E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3506-85FD-4322-A8DE-DFEFB121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A6AE-6A64-44E5-865D-E78EE850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130D-A7E6-47A5-8C6C-E2388640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DE4B-C4B5-47D9-9502-4964BD48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A14E-3D89-4009-AB17-2839AB3E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CFC-3B1E-4114-ABB9-C4346921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392-27B8-41E6-9C7C-E57C859B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033-A026-44C8-87FA-A2C02809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51B-5E9A-4686-B508-6DA6B5E9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97C-FFA9-4075-8FC4-23C1EE93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7AB-A6C2-4248-93AF-85B41F91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3E3-6D41-4718-8862-586D5C9A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7717-878B-4BA1-9B47-02DA491736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BCBD-9E08-4BFB-99A5-D5FB4CCF76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6920" y="4581360"/>
            <a:ext cx="4608360" cy="187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主  讲：程   华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电  话：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13424331470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Q   Q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845857496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765000"/>
            <a:ext cx="8540640" cy="182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色”眼识人 — 解析职场生存密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31640" y="1267920"/>
            <a:ext cx="684036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同事脾气火爆，容不得半点拖沓，一言不慎便触动引线，与其交流，动不动就吵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同事语缓行迟，三棒子打不出几句话。与其交流，累得你捶胸顿足，他也无动于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室友经常准时睡觉，容不得别人一点吵闹；还有的室友很晚也不睡，还把音乐声开得很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7280" y="1341360"/>
            <a:ext cx="662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属张三对你分配的事情随口答应，但你不天天催着要他就纹丝不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属李四不用给他分配任务，都能主动去完成，在你检查的时候给你意外的惊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属王二麻子做事情速度很慢，但是做事情的质量总是让你很放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843280" y="620640"/>
            <a:ext cx="3046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十二星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十二生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血液学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九型人格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液学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性格色彩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211640" y="907560"/>
            <a:ext cx="44863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乐 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性格色彩研究中心创办人，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P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性格色彩”创始人，畅销书作家，知名主持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代表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色眼识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让你的爱非诚勿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之初，性本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色眼再识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565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620640"/>
            <a:ext cx="1368360" cy="12240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红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916000" y="907920"/>
            <a:ext cx="3238200" cy="3600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他们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做事情的动机很大程度上是为了快乐，快乐是这些人的最大驱动力。他们积极、乐观，天赋超凡魅力无限，随性而又善于交际。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77080" y="2565360"/>
            <a:ext cx="1224000" cy="122400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8019720" y="836640"/>
            <a:ext cx="729000" cy="180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红色性格名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907920"/>
            <a:ext cx="0" cy="381636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940360" y="5013360"/>
            <a:ext cx="1224000" cy="122400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211640" y="5084640"/>
            <a:ext cx="1152360" cy="115272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411280" y="5013360"/>
            <a:ext cx="1224000" cy="122400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826920" y="2205000"/>
            <a:ext cx="936720" cy="1739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快乐的带动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6732720" y="907920"/>
            <a:ext cx="1296720" cy="1060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596360" y="4292640"/>
            <a:ext cx="12142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907920"/>
            <a:ext cx="1368360" cy="1152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1196640"/>
            <a:ext cx="1150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89640" y="620640"/>
            <a:ext cx="729000" cy="151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黄色性格名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093080" y="4581360"/>
            <a:ext cx="1168200" cy="116856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1079280" cy="107928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924360" y="5084640"/>
            <a:ext cx="1096920" cy="109692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340000" y="4869000"/>
            <a:ext cx="1241280" cy="124128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435640" y="5084640"/>
            <a:ext cx="13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020000" y="620640"/>
            <a:ext cx="1073160" cy="1465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43280" y="981000"/>
            <a:ext cx="3600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他们用深层次的驱动力来驾驭目标的实现和完成。他们一般都具有前瞻性和领导能力，通常都有很强的责任感、决策力和自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421000"/>
            <a:ext cx="79236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力的指挥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692280"/>
            <a:ext cx="1297080" cy="107928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11178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蓝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04000" y="2349360"/>
            <a:ext cx="1513080" cy="151308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8091000" y="620640"/>
            <a:ext cx="729000" cy="1513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蓝色性格名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836640"/>
            <a:ext cx="3168720" cy="3240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他们有着可贵的品质，对待朋友忠诚而真挚，善于独立思考，并在思想上有深层次的关心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979640" y="4653000"/>
            <a:ext cx="1225440" cy="122544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364000" y="4653000"/>
            <a:ext cx="1224000" cy="122400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708360" y="4653000"/>
            <a:ext cx="1224000" cy="122400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516720" y="746280"/>
            <a:ext cx="1584360" cy="1185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11280" y="2205000"/>
            <a:ext cx="863640" cy="1739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独特的思考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7093080" y="4292640"/>
            <a:ext cx="12459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620640"/>
            <a:ext cx="1295280" cy="100800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627280" y="836280"/>
            <a:ext cx="3240000" cy="3529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们的核心本质是对和谐与稳定的追求，缺乏锋芒和棱角，他们宽容透明，非常友善，适应性强，是很好的倾听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536320" y="416520"/>
            <a:ext cx="393480" cy="1548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绿色性格名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588000" y="2852640"/>
            <a:ext cx="1440000" cy="144000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780000" y="4941720"/>
            <a:ext cx="1081080" cy="1081080"/>
          </a:xfrm>
          <a:prstGeom prst="rect">
            <a:avLst/>
          </a:prstGeom>
          <a:ln w="50760">
            <a:solidFill>
              <a:srgbClr val="c0c0c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835280" y="4941720"/>
            <a:ext cx="1655640" cy="1100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219640" y="4941720"/>
            <a:ext cx="1584360" cy="1060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093080" y="4869000"/>
            <a:ext cx="1584360" cy="1093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00000" y="2060640"/>
            <a:ext cx="720720" cy="3385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平的促进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9079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6588000" y="692280"/>
            <a:ext cx="1287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常见的颜色组合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0560" y="1557360"/>
            <a:ext cx="48466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 色        黄 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蓝 色        绿 色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红＋黄       红＋绿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黄＋红       黄＋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蓝＋黄       蓝＋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＋红        绿＋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什么是职场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2781360"/>
            <a:ext cx="7490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职场是与工作相关的环境、场所、人和事，还包括与工作、职业相关的社会活动、人际关系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0920" y="475920"/>
            <a:ext cx="54007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红色优势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50560" y="1916280"/>
            <a:ext cx="51850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阳光心态，积极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激情澎湃，梦想万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热情开朗，喜欢交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童心未泯，富有趣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乐于助人，不记仇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善于表达，调动气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真诚信任，创新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63640" y="380520"/>
            <a:ext cx="5688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黄色优势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68000" y="1773000"/>
            <a:ext cx="453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目标导向，永无止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求胜心强，敢说敢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坚定自信，永不言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控制欲强，抗压力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坦率直接，实用主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快速决断，敢冒风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抓大放小，高效行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7640" y="380520"/>
            <a:ext cx="568836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蓝色优势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10920" y="1752480"/>
            <a:ext cx="46818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思想深邃，独立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成熟稳重，安全放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情感细腻，一诺千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计划周详，注重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讲究精确，迷恋细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考虑全面，善于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执着有恒，坚持到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24000" y="380520"/>
            <a:ext cx="540072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绿色优势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56000" y="1700280"/>
            <a:ext cx="4752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中庸之道，稳定低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乐天知命，与世无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毕生无火，巧卸冲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镇定自若，处事不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天性宽容，耐心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先人后己，欲取先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重视和谐，以人为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8920" y="380520"/>
            <a:ext cx="54738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红色局限性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79280" y="1916280"/>
            <a:ext cx="48466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聒噪咋呼，惹人厌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口无遮拦，缺少分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情绪波动，要死要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随意性强，变化无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不守承诺，杂乱粗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虎头蛇尾，缺乏自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逃避责任，拒绝长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496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黄色局限性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195640" y="2133360"/>
            <a:ext cx="5207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以为是，死不认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控制欲强，操纵心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缺乏耐心，脾气暴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强硬严厉，喜欢批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意孤行，刚愎自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我中心，忽视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7640" y="380520"/>
            <a:ext cx="568836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蓝色局限性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50560" y="1773360"/>
            <a:ext cx="52786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消极悲观，迂腐封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敏感多疑，脆弱自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心机深重，相处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要求苛刻，压抑紧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死板固执，缺乏幽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顾虑重重，行动缓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挑剔较真，化简为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63640" y="380520"/>
            <a:ext cx="561672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绿色局限性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95640" y="1773360"/>
            <a:ext cx="50623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懦弱无刚，胆小怕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不思进取，拒绝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信匮乏，缺少主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羞于拒绝，惹火烧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逃避责任，能拖就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粉饰太平，迷失自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袖手旁观，姑息养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</a:rPr>
              <a:t>思  考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7273800" cy="2232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红黄蓝绿四种性格的人都喜欢上了同一个女孩子会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633744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红色在工作值得表扬的地方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00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工作主动性强，愿意寻找新任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富有感染力，能够吸引他人参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激发团队的热情和进取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令人愉悦的工作伙伴，善于赞美和鼓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完成短期目标时，极富爆发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反应快，工作活泼化，富有创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236000" y="260280"/>
            <a:ext cx="172692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职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人能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政治能力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0643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人能力：时间掌控能力、知识水平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力、现场问题解决能力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职场政治能力：判断自身所处环境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力，创造利于自己条件的能力，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际关系建立的能力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27416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红色在工作中该批评的地方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12944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跳槽频率高，这山望着那山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没有规划，散漫，随心而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没有焦点，精力分散太多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很难全神贯注，经常性的走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喜欢高估自己，爱打包票，爱吹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不切实际的希望工作都有趣味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63280" y="475920"/>
            <a:ext cx="5257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黄色在工作中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736596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动作干脆利落，讲求效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强烈的结果导向，善于设定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高瞻远瞩，有全局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善于委派工作，天生具备领导风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竞争越强，精力越旺，愈挫愈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善于快速决策并处理所遇到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6934320" cy="10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色在工作表现不好的方面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352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生活在无尽的工作中，典型的工作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目标没有完成时，容易发怒且迁怒于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完成工作第一，人的事情第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武断，自我意识强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寻求更多的权力，有较强的控制欲，让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属口服心不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为了自己的面子，不妥协且毫不认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676908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蓝色在工作中的好品质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895400"/>
            <a:ext cx="73454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强调制度、程序、规范、细节和流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做事之前首先计划，且严格的按照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划去执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喜欢探究及根据事实行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高度自律，尽忠职守，追求卓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注重承诺，一丝不苟的执行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力求完美，有较高的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在工作中让你咬牙切齿的地方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6624720" cy="42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过度计划和绸缪导致行动缓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较真，挑剔他人及自己的表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导致人员关系紧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专注于细节，有时因小失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吝啬表扬，强烈的形式主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墨守成规，死板教条不懂变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为了维护原则缺乏团队融合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绿色在工作中让你佩服的地方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5837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高超的协调人际关系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善于自我调节，能从容的面对压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能超脱游离政治斗争之外，很少敌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注重人本管理，尊重员工的独立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自然低调的行事手法处理事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以团体为导向，善于为别人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56144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绿色让你恨铁不成钢的时候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40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安于现状，不思进取，很难取得高效的业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害怕冒风险，缺乏自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做事拖拖拉拉，且缺少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宁愿做旁观者，不肯做参与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缺乏主见，压抑自己的感受以迁就别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太在意别人的反应，很少大胆表达自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立场和原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4920" y="980640"/>
            <a:ext cx="51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   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58920" y="2492280"/>
            <a:ext cx="7200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何修炼我们的性格，让我们在职场上表现更精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31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红色一起欢乐，与蓝色一起统筹，与黄色一起行动，与绿色一起放松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258560" y="1988640"/>
            <a:ext cx="6357960" cy="218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675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职业定位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确定自己你是谁？你适合做什么工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告诉别人你是谁？你擅长做什么工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自己 ，了解职业 ，了解自己和职业要求的差距，如何把自己的定位展示给面试官或上司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职场的辛酸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424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能力强的却没有提拔，能力一般的却提 拔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阿谀奉承的人得到重视，默默做事总却被人忽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说实话被领导斥责，说假话却得到欣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上司脾气暴躁，动不动就把人骂得鸡飞狗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拿着辛薄的工资，做着没完没了的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想陪陪家人度个周末，却被一个电话叫回去开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2520720" cy="792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么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4440960"/>
            <a:ext cx="6476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你选哪一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51640" y="314172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03640" y="2060640"/>
            <a:ext cx="251928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么混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56360" y="1268280"/>
            <a:ext cx="2448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么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2049480" cy="2809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132000" y="549360"/>
            <a:ext cx="2519640" cy="71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么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35344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对职场上的“为人处世”存在困惑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40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很难把握跟领导打交道的分寸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4.1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面对‘潜规则’不知该不该坚持自己。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9.7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搞不清办公室政治 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9.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逢年过节不知如何表示 。          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6.1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人际交往细节不知该怎么样好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4.2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工作不顺利，不被理解和肯定。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.5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在影响职场表现的诸多因素中，到底哪些最重要？调查结果依次是：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0074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“领导关系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4.3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“为人处世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2.8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关系背景”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8.3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工作能力”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6.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工作态度”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4.4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“同事关系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6.8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道德品质”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2.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资  历”     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.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学  历”     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.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上司决策很快，对你的报告很快给了回应，有的上司对你的报告十天半月也没个动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上司喜欢语言交流，有的上司喜欢书面报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时候你觉得你的上司的专业能力和处理事情的水平还不如你，你鄙夷他却无可奈何，因为他受老板待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0:52:04Z</dcterms:created>
  <dc:creator>David Liu</dc:creator>
  <dc:description/>
  <dc:language>en-US</dc:language>
  <cp:lastModifiedBy>微软用户</cp:lastModifiedBy>
  <dcterms:modified xsi:type="dcterms:W3CDTF">2013-11-30T16:10:05Z</dcterms:modified>
  <cp:revision>142</cp:revision>
  <dc:subject/>
  <dc:title>四大名著中的职场生存法则</dc:title>
</cp:coreProperties>
</file>