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67385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9F45-1520-4C95-BFB3-333931E28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6828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F767-A437-4952-82FB-B3E06186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6828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21960" y="36828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6563-94A7-489F-AC64-487124E9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7360" y="12189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9800" y="12189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6828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7360" y="36828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9800" y="36828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21D2-0461-42FC-AE80-31E4FD690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1022C-9747-47F8-8A7B-80527786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a1853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8B9B6-ED45-45A2-BB60-EB0C6D99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7892E-0370-43C9-8DDD-3719E83E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C0937-B2EA-4293-90B2-75E99A16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580F4-2755-48BE-A0D7-324C5292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428400"/>
            <a:ext cx="7696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a185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12951-9486-4985-A347-BC5C42C9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6828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56E9A-FCB3-455A-9C28-8980EAAB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a1853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08CF-2128-41BE-8157-8E5D008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21960" y="36828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94797-4B37-4A62-A8BF-ED93393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6828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37573-4946-4733-9C77-2CC8E80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6828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9CF39-2E66-49AB-BA98-662D9D76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6828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21960" y="36828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E86E4-659C-48EB-B576-F1704630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7360" y="12189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9800" y="121896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6828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7360" y="36828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9800" y="36828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9A8BB-54A1-46C2-AD23-7A89E06E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C268-DA6F-4BCE-A4E7-F9697D69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9EB2-DBFC-4649-87F5-A069D0F9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F507-BEED-4FE8-B266-54B2B580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428400"/>
            <a:ext cx="7696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a185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81B3-1E93-42A8-AC92-BF0B844B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6828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47DF-BE0B-413A-AE87-8A514B9D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21960" y="36828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CE06-8768-4C03-A6B3-51800A49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1960" y="121896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6828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C7C3-9275-4A94-B5DB-B70F7B05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189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483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a185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4832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4832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4832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4832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4832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4832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8240" y="6384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B12C-2644-4BC8-AE5F-C370E30008D8}" type="datetime2">
              <a:rPr b="1" lang="zh-TW" sz="1000" spc="-1" strike="noStrike">
                <a:solidFill>
                  <a:srgbClr val="000000"/>
                </a:solidFill>
                <a:latin typeface="Verdana"/>
              </a:rPr>
              <a:t>二〇二六年七月三十日 星期四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7813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6B5F-25FA-4F86-A3CD-A4ADCE49D219}" type="slidenum">
              <a:rPr b="0" lang="zh-TW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51920" y="428400"/>
            <a:ext cx="7696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60199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B86C-5FB7-4C11-8DD4-E35009828517}" type="datetime2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二〇二六年七月三十日 星期四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28C-DEDB-4A4C-B3CC-753D3BDBE85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0948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8537"/>
                </a:solidFill>
                <a:latin typeface="Verdana"/>
              </a:rPr>
              <a:t>Click to edit the outline text format</a:t>
            </a:r>
            <a:endParaRPr b="0" lang="en-US" sz="1200" spc="-1" strike="noStrike">
              <a:solidFill>
                <a:srgbClr val="a18537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subview/18070/5064958.htm" TargetMode="External"/><Relationship Id="rId3" Type="http://schemas.openxmlformats.org/officeDocument/2006/relationships/hyperlink" Target="http://baike.baidu.com/view/3523787.htm" TargetMode="External"/><Relationship Id="rId4" Type="http://schemas.openxmlformats.org/officeDocument/2006/relationships/hyperlink" Target="http://baike.baidu.com/subview/1664023/5119243.htm" TargetMode="External"/><Relationship Id="rId5" Type="http://schemas.openxmlformats.org/officeDocument/2006/relationships/hyperlink" Target="http://baike.baidu.com/view/715640.htm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" name=""/>
          <p:cNvSpPr txBox="1"/>
          <p:nvPr/>
        </p:nvSpPr>
        <p:spPr>
          <a:xfrm>
            <a:off x="900000" y="765000"/>
            <a:ext cx="475308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新宋体"/>
              </a:rPr>
              <a:t>五项管理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新宋体"/>
              <a:ea typeface="新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00360" y="2133720"/>
            <a:ext cx="5256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助你事业腾飞的基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8920" y="4365720"/>
            <a:ext cx="3228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讲 师：程 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 </a:t>
            </a: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 话：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3424331470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151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155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158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三个人在砌一面墙。有一个好管闲事的人过来问：“你们在干什么？”  第一个工人爱理不理地说：“没看见吗？我在砌墙。”  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个工人抬头看了一眼好管闲事的人，说：“我们在盖一幢楼房。”  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个工人真诚而又自信地说：“我们在建一座城市。”  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十年后，第一个人在另一个工地上砌墙；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个人坐在办公室中画图纸，他成了工程师；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个人呢，成了一家房地产公司的总裁，是前两个人的老板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331640" y="333360"/>
            <a:ext cx="2879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人翁心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71C4-AC56-484F-A5B7-74C5BA0578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164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171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"/>
          <p:cNvSpPr/>
          <p:nvPr/>
        </p:nvSpPr>
        <p:spPr>
          <a:xfrm>
            <a:off x="826920" y="1989000"/>
            <a:ext cx="75600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用力做事只能将事情做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用心做事才能将事情做好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简单的事做好不简单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平凡的事做好不平凡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今天的结果是昨天的努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今天的行为会带来明天的结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2879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认真的心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8C2A-D4D2-4274-A3B7-498AF360EC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177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181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184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7" name=""/>
          <p:cNvSpPr/>
          <p:nvPr/>
        </p:nvSpPr>
        <p:spPr>
          <a:xfrm>
            <a:off x="179280" y="1413000"/>
            <a:ext cx="871236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在日本有一位刚毕业的女大学生来到日本最顶尖的酒店，做第一份工作打扫厕所，每天脏臭陪伴着她，这让她很难受，所以她不愿意投入和付出，更谈不上工作精益求精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一次她的师傅对她说：虽然你是个大学生，但是打扫厕所都打扫不干净，不能做到精益求精，其他的事能做好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说完她师傅就跪下来抱着马桶，认真打扫，把马桶打扫得干干净净，最后拿着口杯舀起马桶里的蓄水一饮而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女大学生很震惊，瞬间她明白了：不管现在多有能力多有知识多有抱负，如果连眼前这么简单的工作都做不好，再有抱负又怎么去实现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于是她全身心投入到工作中，精益求精专心致志仔仔细细注重每一个细节。她后来成为日本的邮电大臣，她叫野田圣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2879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认真的心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5AD5-75A3-401E-9A74-536E0E3F11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190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194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197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2879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积极主动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916280"/>
            <a:ext cx="69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心世界控制外在世界，决定一个人的成就，主要不是外在的环境，而是你内在的信念，心态，积极地心态能帮助我们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何的限制都是从自己的内心开始，世界上的事，总有好坏两面，当你只看到事物消极 的一面时，你就会自我设限，怀疑退缩，丧失机会，当你换个角度，用积极的心态来看事物，事情就会立刻转向积极的那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446C-178D-46D4-9241-8EF7ACE55B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713800" cy="615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5FC4-6AAF-4D50-84C6-930633A154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6360" y="22320"/>
            <a:ext cx="8999640" cy="68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4A26-F0E0-4A4F-8A18-A299130673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1484280"/>
            <a:ext cx="820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如果你只想剩下一只眼睛，你会不会哭泣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如果你只剩下一条腿，你会不会悲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如果你失去两只手，你会不会痛不欲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要是你同时失去一只眼睛一条腿两只手，设想一下假如我现在没有两只手，你吃饭用什么办法？洗手间怎么上？衣服怎么穿？这挑战有多大啊，有个男孩在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岁时辍学了，出去被迫打工在工地上钢管导电，意外遭到高压电击，失去了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···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这样一个人能活下去吗？答案是活的非常好，非常快乐自信喜悦成功。这位就是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新宋体"/>
              </a:rPr>
              <a:t>谢坤山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新宋体"/>
              </a:rPr>
              <a:t>，成为画家，演说家，作家，慈善家，用他的身体激励了无数的遭过各种创伤失去信心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206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210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213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6" name=""/>
          <p:cNvSpPr/>
          <p:nvPr/>
        </p:nvSpPr>
        <p:spPr>
          <a:xfrm>
            <a:off x="1403280" y="404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新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新宋体"/>
              </a:rPr>
              <a:t>乐观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B04C-A05C-40B4-B7B1-729FBC283F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永远想你得到的，不要想你失去的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功的人要学会转换心态，把挫折当成是积累经验，把压力当成前进的动力，把障碍当成生活对自己的磨砺，要想着困难不是来阻拦我们的，而是来帮助我们成长和成功的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219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223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226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9" name=""/>
          <p:cNvSpPr/>
          <p:nvPr/>
        </p:nvSpPr>
        <p:spPr>
          <a:xfrm>
            <a:off x="1403280" y="404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新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新宋体"/>
              </a:rPr>
              <a:t>乐观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C03F-A5ED-451E-ACEB-0BE0C75B38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4199040" cy="583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9933-B352-4DB3-83AA-B59B619552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442440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EEC0-552B-4ED3-A45D-C9AF2BAA22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324000" y="404640"/>
            <a:ext cx="2733480" cy="1008360"/>
            <a:chOff x="324000" y="404640"/>
            <a:chExt cx="2733480" cy="1008360"/>
          </a:xfrm>
        </p:grpSpPr>
        <p:sp>
          <p:nvSpPr>
            <p:cNvPr id="88" name="AutoShape 3"/>
            <p:cNvSpPr/>
            <p:nvPr/>
          </p:nvSpPr>
          <p:spPr>
            <a:xfrm>
              <a:off x="324360" y="404640"/>
              <a:ext cx="2732760" cy="100836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3"/>
            <p:cNvSpPr/>
            <p:nvPr/>
          </p:nvSpPr>
          <p:spPr>
            <a:xfrm>
              <a:off x="324000" y="529200"/>
              <a:ext cx="2733480" cy="75924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"/>
          <p:cNvSpPr/>
          <p:nvPr/>
        </p:nvSpPr>
        <p:spPr>
          <a:xfrm>
            <a:off x="611280" y="620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心态管理</a:t>
            </a:r>
            <a:r>
              <a:rPr b="1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63640" y="1773360"/>
            <a:ext cx="2519280" cy="1008000"/>
            <a:chOff x="1763640" y="1773360"/>
            <a:chExt cx="2519280" cy="1008000"/>
          </a:xfrm>
        </p:grpSpPr>
        <p:sp>
          <p:nvSpPr>
            <p:cNvPr id="92" name="AutoShape 3"/>
            <p:cNvSpPr/>
            <p:nvPr/>
          </p:nvSpPr>
          <p:spPr>
            <a:xfrm>
              <a:off x="1763640" y="1773360"/>
              <a:ext cx="2519280" cy="100800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"/>
            <p:cNvSpPr/>
            <p:nvPr/>
          </p:nvSpPr>
          <p:spPr>
            <a:xfrm>
              <a:off x="1763640" y="1897920"/>
              <a:ext cx="2519280" cy="7588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6"/>
          <p:cNvSpPr/>
          <p:nvPr/>
        </p:nvSpPr>
        <p:spPr>
          <a:xfrm>
            <a:off x="1763640" y="1989000"/>
            <a:ext cx="27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目标管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92360" y="3068640"/>
            <a:ext cx="2592360" cy="1079640"/>
            <a:chOff x="3492360" y="3068640"/>
            <a:chExt cx="2592360" cy="1079640"/>
          </a:xfrm>
        </p:grpSpPr>
        <p:sp>
          <p:nvSpPr>
            <p:cNvPr id="96" name="AutoShape 3"/>
            <p:cNvSpPr/>
            <p:nvPr/>
          </p:nvSpPr>
          <p:spPr>
            <a:xfrm>
              <a:off x="3492360" y="3068640"/>
              <a:ext cx="2592360" cy="1079640"/>
            </a:xfrm>
            <a:prstGeom prst="roundRect">
              <a:avLst>
                <a:gd name="adj" fmla="val 16667"/>
              </a:avLst>
            </a:prstGeom>
            <a:solidFill>
              <a:srgbClr val="844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3"/>
            <p:cNvSpPr/>
            <p:nvPr/>
          </p:nvSpPr>
          <p:spPr>
            <a:xfrm>
              <a:off x="3492360" y="3201840"/>
              <a:ext cx="2592360" cy="812880"/>
            </a:xfrm>
            <a:prstGeom prst="roundRect">
              <a:avLst>
                <a:gd name="adj" fmla="val 16667"/>
              </a:avLst>
            </a:prstGeom>
            <a:solidFill>
              <a:srgbClr val="844b9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6"/>
          <p:cNvSpPr/>
          <p:nvPr/>
        </p:nvSpPr>
        <p:spPr>
          <a:xfrm>
            <a:off x="3564000" y="3284640"/>
            <a:ext cx="23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新宋体"/>
                <a:ea typeface="新宋体"/>
              </a:rPr>
              <a:t>时间管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500720" y="4292640"/>
            <a:ext cx="2590560" cy="1081080"/>
            <a:chOff x="4500720" y="4292640"/>
            <a:chExt cx="2590560" cy="1081080"/>
          </a:xfrm>
        </p:grpSpPr>
        <p:sp>
          <p:nvSpPr>
            <p:cNvPr id="100" name="AutoShape 3"/>
            <p:cNvSpPr/>
            <p:nvPr/>
          </p:nvSpPr>
          <p:spPr>
            <a:xfrm>
              <a:off x="4500720" y="4292640"/>
              <a:ext cx="259020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"/>
            <p:cNvSpPr/>
            <p:nvPr/>
          </p:nvSpPr>
          <p:spPr>
            <a:xfrm>
              <a:off x="4500720" y="4426200"/>
              <a:ext cx="2590560" cy="813960"/>
            </a:xfrm>
            <a:prstGeom prst="roundRect">
              <a:avLst>
                <a:gd name="adj" fmla="val 16667"/>
              </a:avLst>
            </a:prstGeom>
            <a:solidFill>
              <a:srgbClr val="c5b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6"/>
          <p:cNvSpPr/>
          <p:nvPr/>
        </p:nvSpPr>
        <p:spPr>
          <a:xfrm>
            <a:off x="4427640" y="4508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新宋体"/>
                <a:ea typeface="新宋体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新宋体"/>
                <a:ea typeface="新宋体"/>
              </a:rPr>
              <a:t>学习管理</a:t>
            </a:r>
            <a:r>
              <a:rPr b="1" lang="zh-CN" sz="3600" spc="-1" strike="noStrike">
                <a:solidFill>
                  <a:srgbClr val="262626"/>
                </a:solidFill>
                <a:latin typeface="微软雅黑"/>
                <a:ea typeface="新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012000" y="5516640"/>
            <a:ext cx="2663640" cy="1081080"/>
            <a:chOff x="6012000" y="5516640"/>
            <a:chExt cx="2663640" cy="1081080"/>
          </a:xfrm>
        </p:grpSpPr>
        <p:sp>
          <p:nvSpPr>
            <p:cNvPr id="104" name="AutoShape 3"/>
            <p:cNvSpPr/>
            <p:nvPr/>
          </p:nvSpPr>
          <p:spPr>
            <a:xfrm>
              <a:off x="6012360" y="5516640"/>
              <a:ext cx="2662920" cy="108108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"/>
            <p:cNvSpPr/>
            <p:nvPr/>
          </p:nvSpPr>
          <p:spPr>
            <a:xfrm>
              <a:off x="6012000" y="5650200"/>
              <a:ext cx="2663640" cy="81396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16"/>
          <p:cNvSpPr/>
          <p:nvPr/>
        </p:nvSpPr>
        <p:spPr>
          <a:xfrm>
            <a:off x="6084720" y="566100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新宋体"/>
                <a:ea typeface="新宋体"/>
              </a:rPr>
              <a:t>行动管理</a:t>
            </a:r>
            <a:r>
              <a:rPr b="1" lang="zh-CN" sz="3600" spc="-1" strike="noStrike">
                <a:solidFill>
                  <a:srgbClr val="8c007d"/>
                </a:solidFill>
                <a:latin typeface="新宋体"/>
                <a:ea typeface="新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a4832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雷庆瑶，女，四川省成都市温江区残联肢残协会副主席，四川博爱感恩文化传播有限公司总经理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雷庆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被电击致失去双臂，但却克服困难学会用双脚穿衣、做饭、吃饭、写字、缝补衣裳、骑自行车、游泳、绘画等等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成功出演电影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 u="sng">
                <a:solidFill>
                  <a:srgbClr val="844b91"/>
                </a:solidFill>
                <a:uFillTx/>
                <a:latin typeface="Verdana"/>
                <a:ea typeface="宋体"/>
                <a:hlinkClick r:id="rId2"/>
              </a:rPr>
              <a:t>隐形的翅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主角，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华表奖优秀儿童女演员奖。雷庆瑶被称为“</a:t>
            </a:r>
            <a:r>
              <a:rPr b="1" lang="zh-CN" sz="2400" spc="-1" strike="noStrike" u="sng">
                <a:solidFill>
                  <a:srgbClr val="844b91"/>
                </a:solidFill>
                <a:uFillTx/>
                <a:latin typeface="Verdana"/>
                <a:ea typeface="宋体"/>
                <a:hlinkClick r:id="rId3"/>
              </a:rPr>
              <a:t>东方维纳斯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、“断臂天使”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，荣获第二届“四川省助人为乐道德模范”称号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，获第三届全国道德模范提名奖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，雷庆瑶参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 u="sng">
                <a:solidFill>
                  <a:srgbClr val="844b91"/>
                </a:solidFill>
                <a:uFillTx/>
                <a:latin typeface="Verdana"/>
                <a:ea typeface="宋体"/>
                <a:hlinkClick r:id="rId4"/>
              </a:rPr>
              <a:t>非诚勿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节目一经播出，感动了所有观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，雷庆瑶正式签约</a:t>
            </a:r>
            <a:r>
              <a:rPr b="1" lang="zh-CN" sz="2400" spc="-1" strike="noStrike" u="sng">
                <a:solidFill>
                  <a:srgbClr val="844b91"/>
                </a:solidFill>
                <a:uFillTx/>
                <a:latin typeface="Verdana"/>
                <a:ea typeface="宋体"/>
                <a:hlinkClick r:id="rId5"/>
              </a:rPr>
              <a:t>成都电视台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主持人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234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238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241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4" name=""/>
          <p:cNvSpPr/>
          <p:nvPr/>
        </p:nvSpPr>
        <p:spPr>
          <a:xfrm>
            <a:off x="1547640" y="333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雷庆瑶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99BB-99AC-40F9-AF60-57E59283A8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总想着自己得到了多少，就会经常抱怨指责，就会不坚守承诺，就会找借口而不承担责任，就必然被负面情绪控制心态，这与积极心态背道而驰，这样的人当然不会快乐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快乐不是因为拥有的多而是计较的少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247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251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254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7" name=""/>
          <p:cNvSpPr/>
          <p:nvPr/>
        </p:nvSpPr>
        <p:spPr>
          <a:xfrm>
            <a:off x="1403280" y="404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新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新宋体"/>
              </a:rPr>
              <a:t>乐观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646B-3E69-47B7-8BB8-2794E91031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47640" y="2061000"/>
            <a:ext cx="61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别人的智慧可以用来充实自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不能用来贬低自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别人的成功可以激励自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不可用来折磨自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别人的错误恰好用来提醒自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千万不能用来娱乐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260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264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267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0" name=""/>
          <p:cNvSpPr/>
          <p:nvPr/>
        </p:nvSpPr>
        <p:spPr>
          <a:xfrm>
            <a:off x="1403280" y="404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新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新宋体"/>
              </a:rPr>
              <a:t>乐观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8DC1-C62B-4AE5-95F3-07C3536557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5" descr="db5fac004aa315437aec2cc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矩形 3"/>
          <p:cNvSpPr/>
          <p:nvPr/>
        </p:nvSpPr>
        <p:spPr>
          <a:xfrm>
            <a:off x="0" y="6337440"/>
            <a:ext cx="914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6"/>
          <p:cNvSpPr/>
          <p:nvPr/>
        </p:nvSpPr>
        <p:spPr>
          <a:xfrm>
            <a:off x="1724040" y="493560"/>
            <a:ext cx="0" cy="262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5"/>
          <p:cNvSpPr/>
          <p:nvPr/>
        </p:nvSpPr>
        <p:spPr>
          <a:xfrm>
            <a:off x="4932360" y="4437000"/>
            <a:ext cx="3960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a7e2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照亮别人是为了照亮自己。</a:t>
            </a:r>
            <a:r>
              <a:rPr b="1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工作中每个人应该明白</a:t>
            </a:r>
            <a:r>
              <a:rPr b="1" lang="zh-CN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对别人最好的时候，就是对自己最好的时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95280" y="1268280"/>
            <a:ext cx="4105440" cy="2343960"/>
            <a:chOff x="395280" y="1268280"/>
            <a:chExt cx="4105440" cy="2343960"/>
          </a:xfrm>
        </p:grpSpPr>
        <p:sp>
          <p:nvSpPr>
            <p:cNvPr id="276" name="TextBox 13"/>
            <p:cNvSpPr/>
            <p:nvPr/>
          </p:nvSpPr>
          <p:spPr>
            <a:xfrm>
              <a:off x="395280" y="1709640"/>
              <a:ext cx="4105440" cy="1902600"/>
            </a:xfrm>
            <a:prstGeom prst="rect">
              <a:avLst/>
            </a:prstGeom>
            <a:noFill/>
            <a:ln w="28440">
              <a:solidFill>
                <a:srgbClr val="00a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有位盲人在夜晚走路时，手里总是提着一个明亮的灯笼，别人看了很好奇，就问他：“你自己看不见，为什么还要提灯笼？”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盲人满心欢喜地说：“这个道理很简单，我提灯笼并不是为自己照路，而是让别人容易看到我，不会误撞到我，这样就可保护自己的安全，也等于帮助自己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24"/>
            <p:cNvSpPr/>
            <p:nvPr/>
          </p:nvSpPr>
          <p:spPr>
            <a:xfrm>
              <a:off x="616320" y="1268280"/>
              <a:ext cx="2729880" cy="537840"/>
            </a:xfrm>
            <a:prstGeom prst="roundRect">
              <a:avLst>
                <a:gd name="adj" fmla="val 16667"/>
              </a:avLst>
            </a:prstGeom>
            <a:solidFill>
              <a:srgbClr val="a5a5a5"/>
            </a:solidFill>
            <a:ln w="25560">
              <a:solidFill>
                <a:srgbClr val="00a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盲人提灯的故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图片 7" descr=""/>
          <p:cNvPicPr/>
          <p:nvPr/>
        </p:nvPicPr>
        <p:blipFill>
          <a:blip r:embed="rId3"/>
          <a:stretch/>
        </p:blipFill>
        <p:spPr>
          <a:xfrm>
            <a:off x="4932360" y="1125360"/>
            <a:ext cx="3852720" cy="28893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755640" y="-4320"/>
            <a:ext cx="4464000" cy="1129320"/>
            <a:chOff x="755640" y="-4320"/>
            <a:chExt cx="4464000" cy="1129320"/>
          </a:xfrm>
        </p:grpSpPr>
        <p:sp>
          <p:nvSpPr>
            <p:cNvPr id="280" name=""/>
            <p:cNvSpPr/>
            <p:nvPr/>
          </p:nvSpPr>
          <p:spPr>
            <a:xfrm>
              <a:off x="891360" y="158040"/>
              <a:ext cx="4328280" cy="9669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64680" y="263880"/>
              <a:ext cx="37742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5640" y="18360"/>
              <a:ext cx="510840" cy="59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835200" y="-4320"/>
              <a:ext cx="317160" cy="450000"/>
              <a:chOff x="835200" y="-4320"/>
              <a:chExt cx="317160" cy="450000"/>
            </a:xfrm>
          </p:grpSpPr>
          <p:sp>
            <p:nvSpPr>
              <p:cNvPr id="284" name=""/>
              <p:cNvSpPr/>
              <p:nvPr/>
            </p:nvSpPr>
            <p:spPr>
              <a:xfrm>
                <a:off x="835200" y="292680"/>
                <a:ext cx="317160" cy="15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85240" y="166680"/>
                <a:ext cx="222480" cy="2318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909000" y="-4320"/>
                <a:ext cx="169920" cy="229680"/>
                <a:chOff x="909000" y="-4320"/>
                <a:chExt cx="169920" cy="229680"/>
              </a:xfrm>
            </p:grpSpPr>
            <p:sp>
              <p:nvSpPr>
                <p:cNvPr id="287" name="未知"/>
                <p:cNvSpPr/>
                <p:nvPr/>
              </p:nvSpPr>
              <p:spPr>
                <a:xfrm rot="18580800">
                  <a:off x="933840" y="3600"/>
                  <a:ext cx="558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未知"/>
                <p:cNvSpPr/>
                <p:nvPr/>
              </p:nvSpPr>
              <p:spPr>
                <a:xfrm rot="2400000">
                  <a:off x="1001520" y="0"/>
                  <a:ext cx="50760" cy="100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993960" y="86760"/>
                  <a:ext cx="9360" cy="1386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0" name=""/>
          <p:cNvSpPr/>
          <p:nvPr/>
        </p:nvSpPr>
        <p:spPr>
          <a:xfrm>
            <a:off x="1332000" y="333360"/>
            <a:ext cx="3168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爱与奉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95280" y="1628280"/>
            <a:ext cx="49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要认为你赢了很多人，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你就成功了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要认为你输了很多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你就失败了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成功不全是以金钱来衡量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成功也不全是以权贵来衡量的 ，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就算你家财万贯，但你从来没有帮助过人，你就不是成功者；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就算你穷困潦倒，只要你帮助了很多人，奉献了你的爱，你也是成功者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346200" cy="502596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755640" y="-3600"/>
            <a:ext cx="4464000" cy="1200240"/>
            <a:chOff x="755640" y="-3600"/>
            <a:chExt cx="4464000" cy="1200240"/>
          </a:xfrm>
        </p:grpSpPr>
        <p:sp>
          <p:nvSpPr>
            <p:cNvPr id="294" name=""/>
            <p:cNvSpPr/>
            <p:nvPr/>
          </p:nvSpPr>
          <p:spPr>
            <a:xfrm>
              <a:off x="891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64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5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835200" y="-3600"/>
              <a:ext cx="317160" cy="478080"/>
              <a:chOff x="835200" y="-3600"/>
              <a:chExt cx="317160" cy="478080"/>
            </a:xfrm>
          </p:grpSpPr>
          <p:sp>
            <p:nvSpPr>
              <p:cNvPr id="298" name=""/>
              <p:cNvSpPr/>
              <p:nvPr/>
            </p:nvSpPr>
            <p:spPr>
              <a:xfrm>
                <a:off x="835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85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907920" y="-3600"/>
                <a:ext cx="173160" cy="243000"/>
                <a:chOff x="907920" y="-3600"/>
                <a:chExt cx="173160" cy="243000"/>
              </a:xfrm>
            </p:grpSpPr>
            <p:sp>
              <p:nvSpPr>
                <p:cNvPr id="301" name="未知"/>
                <p:cNvSpPr/>
                <p:nvPr/>
              </p:nvSpPr>
              <p:spPr>
                <a:xfrm rot="18580800">
                  <a:off x="932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未知"/>
                <p:cNvSpPr/>
                <p:nvPr/>
              </p:nvSpPr>
              <p:spPr>
                <a:xfrm rot="2400000">
                  <a:off x="1001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993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"/>
          <p:cNvSpPr/>
          <p:nvPr/>
        </p:nvSpPr>
        <p:spPr>
          <a:xfrm>
            <a:off x="1332000" y="333360"/>
            <a:ext cx="3168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与奉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2EEE-21A3-405F-970D-92F3DE5B75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971280" y="2133720"/>
            <a:ext cx="7056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黑体"/>
              </a:rPr>
              <a:t>主人翁心态，让我们全身心投入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黑体"/>
              </a:rPr>
              <a:t>认真的心态，要做就做到极致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黑体"/>
              </a:rPr>
              <a:t>积极主动，把命运掌握在你自己手中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黑体"/>
              </a:rPr>
              <a:t>乐观自信，相信自己，快乐每一天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黑体"/>
              </a:rPr>
              <a:t>爱与奉献，懂得感恩，利他就是利己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11280" y="329760"/>
            <a:ext cx="4464000" cy="1200240"/>
            <a:chOff x="611280" y="329760"/>
            <a:chExt cx="4464000" cy="1200240"/>
          </a:xfrm>
        </p:grpSpPr>
        <p:sp>
          <p:nvSpPr>
            <p:cNvPr id="307" name=""/>
            <p:cNvSpPr/>
            <p:nvPr/>
          </p:nvSpPr>
          <p:spPr>
            <a:xfrm>
              <a:off x="747000" y="50148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20320" y="61380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1280" y="35316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90840" y="329760"/>
              <a:ext cx="317160" cy="478080"/>
              <a:chOff x="690840" y="329760"/>
              <a:chExt cx="317160" cy="478080"/>
            </a:xfrm>
          </p:grpSpPr>
          <p:sp>
            <p:nvSpPr>
              <p:cNvPr id="311" name=""/>
              <p:cNvSpPr/>
              <p:nvPr/>
            </p:nvSpPr>
            <p:spPr>
              <a:xfrm>
                <a:off x="690840" y="64476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40880" y="51048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763560" y="329760"/>
                <a:ext cx="173160" cy="243000"/>
                <a:chOff x="763560" y="329760"/>
                <a:chExt cx="173160" cy="243000"/>
              </a:xfrm>
            </p:grpSpPr>
            <p:sp>
              <p:nvSpPr>
                <p:cNvPr id="314" name="未知"/>
                <p:cNvSpPr/>
                <p:nvPr/>
              </p:nvSpPr>
              <p:spPr>
                <a:xfrm rot="18580800">
                  <a:off x="787680" y="33984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 rot="2400000">
                  <a:off x="857520" y="33336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49600" y="42552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7" name=""/>
          <p:cNvSpPr/>
          <p:nvPr/>
        </p:nvSpPr>
        <p:spPr>
          <a:xfrm>
            <a:off x="1835280" y="692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心态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0520-BE21-43CF-B07D-4C1448CA13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4"/>
          <p:cNvSpPr/>
          <p:nvPr/>
        </p:nvSpPr>
        <p:spPr>
          <a:xfrm>
            <a:off x="1414440" y="3632040"/>
            <a:ext cx="54000" cy="5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9"/>
          <p:cNvSpPr/>
          <p:nvPr/>
        </p:nvSpPr>
        <p:spPr>
          <a:xfrm>
            <a:off x="2654280" y="4524480"/>
            <a:ext cx="54000" cy="5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4"/>
          <p:cNvSpPr/>
          <p:nvPr/>
        </p:nvSpPr>
        <p:spPr>
          <a:xfrm>
            <a:off x="5126040" y="4135320"/>
            <a:ext cx="54000" cy="5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9"/>
          <p:cNvSpPr/>
          <p:nvPr/>
        </p:nvSpPr>
        <p:spPr>
          <a:xfrm>
            <a:off x="6370560" y="3652920"/>
            <a:ext cx="54000" cy="5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1"/>
          <p:cNvSpPr/>
          <p:nvPr/>
        </p:nvSpPr>
        <p:spPr>
          <a:xfrm>
            <a:off x="1405080" y="4184640"/>
            <a:ext cx="72720" cy="71280"/>
          </a:xfrm>
          <a:prstGeom prst="rect">
            <a:avLst/>
          </a:prstGeom>
          <a:solidFill>
            <a:srgbClr val="60e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3457440" y="527220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4699080" y="527220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5927760" y="527220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552840" y="3032280"/>
            <a:ext cx="311040" cy="374400"/>
            <a:chOff x="3552840" y="3032280"/>
            <a:chExt cx="311040" cy="374400"/>
          </a:xfrm>
        </p:grpSpPr>
        <p:sp>
          <p:nvSpPr>
            <p:cNvPr id="327" name="任意多边形 89"/>
            <p:cNvSpPr/>
            <p:nvPr/>
          </p:nvSpPr>
          <p:spPr>
            <a:xfrm>
              <a:off x="3560760" y="3032280"/>
              <a:ext cx="360" cy="32364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90"/>
            <p:cNvSpPr/>
            <p:nvPr/>
          </p:nvSpPr>
          <p:spPr>
            <a:xfrm>
              <a:off x="3552840" y="3184560"/>
              <a:ext cx="311040" cy="22212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26"/>
          <p:cNvSpPr/>
          <p:nvPr/>
        </p:nvSpPr>
        <p:spPr>
          <a:xfrm>
            <a:off x="5830920" y="46080"/>
            <a:ext cx="30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-61920"/>
            <a:ext cx="9252000" cy="692136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4932360" y="476280"/>
            <a:ext cx="2087640" cy="5689440"/>
            <a:chOff x="4932360" y="476280"/>
            <a:chExt cx="2087640" cy="5689440"/>
          </a:xfrm>
        </p:grpSpPr>
        <p:sp>
          <p:nvSpPr>
            <p:cNvPr id="332" name="AutoShape 3"/>
            <p:cNvSpPr/>
            <p:nvPr/>
          </p:nvSpPr>
          <p:spPr>
            <a:xfrm rot="16200000">
              <a:off x="3132000" y="2277000"/>
              <a:ext cx="5688000" cy="208764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"/>
            <p:cNvSpPr/>
            <p:nvPr/>
          </p:nvSpPr>
          <p:spPr>
            <a:xfrm rot="16200000">
              <a:off x="3131280" y="2535120"/>
              <a:ext cx="5689440" cy="157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 rot="5400000">
            <a:off x="3419280" y="2636640"/>
            <a:ext cx="5111640" cy="122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目标管理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8482-C19D-42BE-8889-883DAA2C34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14" descr="06.png"/>
          <p:cNvPicPr/>
          <p:nvPr/>
        </p:nvPicPr>
        <p:blipFill>
          <a:blip r:embed="rId2"/>
          <a:stretch/>
        </p:blipFill>
        <p:spPr>
          <a:xfrm>
            <a:off x="324000" y="1916280"/>
            <a:ext cx="4911480" cy="3163680"/>
          </a:xfrm>
          <a:prstGeom prst="rect">
            <a:avLst/>
          </a:prstGeom>
          <a:ln w="0">
            <a:noFill/>
          </a:ln>
        </p:spPr>
      </p:pic>
      <p:pic>
        <p:nvPicPr>
          <p:cNvPr id="336" name="矩形 16" descr=""/>
          <p:cNvPicPr/>
          <p:nvPr/>
        </p:nvPicPr>
        <p:blipFill>
          <a:blip r:embed="rId3"/>
          <a:stretch/>
        </p:blipFill>
        <p:spPr>
          <a:xfrm>
            <a:off x="5364000" y="1628640"/>
            <a:ext cx="3200400" cy="331308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4427640" y="4508640"/>
            <a:ext cx="43974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迅速制定工作目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得以顺利达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405480" y="6580080"/>
            <a:ext cx="1574280" cy="200160"/>
            <a:chOff x="6405480" y="6580080"/>
            <a:chExt cx="1574280" cy="200160"/>
          </a:xfrm>
        </p:grpSpPr>
        <p:sp>
          <p:nvSpPr>
            <p:cNvPr id="339" name="未知"/>
            <p:cNvSpPr/>
            <p:nvPr/>
          </p:nvSpPr>
          <p:spPr>
            <a:xfrm>
              <a:off x="6405480" y="6582600"/>
              <a:ext cx="117720" cy="194400"/>
            </a:xfrm>
            <a:custGeom>
              <a:avLst/>
              <a:gdLst/>
              <a:ahLst/>
              <a:rect l="l" t="t" r="r" b="b"/>
              <a:pathLst>
                <a:path w="109" h="183">
                  <a:moveTo>
                    <a:pt x="0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99" y="0"/>
                    <a:pt x="109" y="21"/>
                    <a:pt x="109" y="49"/>
                  </a:cubicBezTo>
                  <a:cubicBezTo>
                    <a:pt x="109" y="136"/>
                    <a:pt x="109" y="136"/>
                    <a:pt x="109" y="136"/>
                  </a:cubicBezTo>
                  <a:cubicBezTo>
                    <a:pt x="109" y="169"/>
                    <a:pt x="85" y="183"/>
                    <a:pt x="63" y="183"/>
                  </a:cubicBezTo>
                  <a:cubicBezTo>
                    <a:pt x="0" y="183"/>
                    <a:pt x="0" y="183"/>
                    <a:pt x="0" y="183"/>
                  </a:cubicBezTo>
                  <a:lnTo>
                    <a:pt x="0" y="0"/>
                  </a:lnTo>
                  <a:close/>
                  <a:moveTo>
                    <a:pt x="42" y="152"/>
                  </a:moveTo>
                  <a:cubicBezTo>
                    <a:pt x="49" y="152"/>
                    <a:pt x="49" y="152"/>
                    <a:pt x="49" y="152"/>
                  </a:cubicBezTo>
                  <a:cubicBezTo>
                    <a:pt x="60" y="152"/>
                    <a:pt x="67" y="147"/>
                    <a:pt x="67" y="13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7" y="36"/>
                    <a:pt x="60" y="31"/>
                    <a:pt x="49" y="31"/>
                  </a:cubicBezTo>
                  <a:cubicBezTo>
                    <a:pt x="42" y="31"/>
                    <a:pt x="42" y="31"/>
                    <a:pt x="42" y="31"/>
                  </a:cubicBezTo>
                  <a:lnTo>
                    <a:pt x="42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6543000" y="6580080"/>
              <a:ext cx="115920" cy="200160"/>
            </a:xfrm>
            <a:custGeom>
              <a:avLst/>
              <a:gdLst/>
              <a:ahLst/>
              <a:rect l="l" t="t" r="r" b="b"/>
              <a:pathLst>
                <a:path w="108" h="189">
                  <a:moveTo>
                    <a:pt x="0" y="53"/>
                  </a:moveTo>
                  <a:cubicBezTo>
                    <a:pt x="0" y="17"/>
                    <a:pt x="23" y="0"/>
                    <a:pt x="54" y="0"/>
                  </a:cubicBezTo>
                  <a:cubicBezTo>
                    <a:pt x="85" y="0"/>
                    <a:pt x="108" y="17"/>
                    <a:pt x="108" y="53"/>
                  </a:cubicBezTo>
                  <a:cubicBezTo>
                    <a:pt x="108" y="136"/>
                    <a:pt x="108" y="136"/>
                    <a:pt x="108" y="136"/>
                  </a:cubicBezTo>
                  <a:cubicBezTo>
                    <a:pt x="108" y="168"/>
                    <a:pt x="87" y="189"/>
                    <a:pt x="54" y="189"/>
                  </a:cubicBezTo>
                  <a:cubicBezTo>
                    <a:pt x="21" y="189"/>
                    <a:pt x="0" y="168"/>
                    <a:pt x="0" y="136"/>
                  </a:cubicBezTo>
                  <a:lnTo>
                    <a:pt x="0" y="53"/>
                  </a:lnTo>
                  <a:close/>
                  <a:moveTo>
                    <a:pt x="42" y="140"/>
                  </a:moveTo>
                  <a:cubicBezTo>
                    <a:pt x="42" y="144"/>
                    <a:pt x="42" y="156"/>
                    <a:pt x="54" y="156"/>
                  </a:cubicBezTo>
                  <a:cubicBezTo>
                    <a:pt x="66" y="156"/>
                    <a:pt x="66" y="144"/>
                    <a:pt x="66" y="140"/>
                  </a:cubicBezTo>
                  <a:cubicBezTo>
                    <a:pt x="66" y="49"/>
                    <a:pt x="66" y="49"/>
                    <a:pt x="66" y="49"/>
                  </a:cubicBezTo>
                  <a:cubicBezTo>
                    <a:pt x="66" y="43"/>
                    <a:pt x="66" y="32"/>
                    <a:pt x="54" y="32"/>
                  </a:cubicBezTo>
                  <a:cubicBezTo>
                    <a:pt x="42" y="32"/>
                    <a:pt x="42" y="43"/>
                    <a:pt x="42" y="49"/>
                  </a:cubicBezTo>
                  <a:lnTo>
                    <a:pt x="4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6679440" y="6582600"/>
              <a:ext cx="130680" cy="194400"/>
            </a:xfrm>
            <a:custGeom>
              <a:avLst/>
              <a:gdLst/>
              <a:ahLst/>
              <a:rect l="l" t="t" r="r" b="b"/>
              <a:pathLst>
                <a:path w="286" h="432">
                  <a:moveTo>
                    <a:pt x="0" y="0"/>
                  </a:moveTo>
                  <a:lnTo>
                    <a:pt x="108" y="0"/>
                  </a:lnTo>
                  <a:lnTo>
                    <a:pt x="189" y="255"/>
                  </a:lnTo>
                  <a:lnTo>
                    <a:pt x="189" y="255"/>
                  </a:lnTo>
                  <a:lnTo>
                    <a:pt x="189" y="0"/>
                  </a:lnTo>
                  <a:lnTo>
                    <a:pt x="286" y="0"/>
                  </a:lnTo>
                  <a:lnTo>
                    <a:pt x="286" y="432"/>
                  </a:lnTo>
                  <a:lnTo>
                    <a:pt x="177" y="432"/>
                  </a:lnTo>
                  <a:lnTo>
                    <a:pt x="97" y="165"/>
                  </a:lnTo>
                  <a:lnTo>
                    <a:pt x="97" y="165"/>
                  </a:lnTo>
                  <a:lnTo>
                    <a:pt x="97" y="432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6835680" y="6582600"/>
              <a:ext cx="36720" cy="684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33"/>
                  </a:moveTo>
                  <a:cubicBezTo>
                    <a:pt x="35" y="46"/>
                    <a:pt x="26" y="56"/>
                    <a:pt x="19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7" y="57"/>
                    <a:pt x="15" y="50"/>
                    <a:pt x="17" y="39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3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6891120" y="6582600"/>
              <a:ext cx="103680" cy="194400"/>
            </a:xfrm>
            <a:custGeom>
              <a:avLst/>
              <a:gdLst/>
              <a:ahLst/>
              <a:rect l="l" t="t" r="r" b="b"/>
              <a:pathLst>
                <a:path w="227" h="432">
                  <a:moveTo>
                    <a:pt x="0" y="0"/>
                  </a:moveTo>
                  <a:lnTo>
                    <a:pt x="227" y="0"/>
                  </a:lnTo>
                  <a:lnTo>
                    <a:pt x="227" y="82"/>
                  </a:lnTo>
                  <a:lnTo>
                    <a:pt x="163" y="82"/>
                  </a:lnTo>
                  <a:lnTo>
                    <a:pt x="163" y="432"/>
                  </a:lnTo>
                  <a:lnTo>
                    <a:pt x="64" y="432"/>
                  </a:lnTo>
                  <a:lnTo>
                    <a:pt x="64" y="82"/>
                  </a:ln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048800" y="6580080"/>
              <a:ext cx="567360" cy="194400"/>
              <a:chOff x="7048800" y="6580080"/>
              <a:chExt cx="567360" cy="194400"/>
            </a:xfrm>
          </p:grpSpPr>
          <p:sp>
            <p:nvSpPr>
              <p:cNvPr id="345" name="未知"/>
              <p:cNvSpPr/>
              <p:nvPr/>
            </p:nvSpPr>
            <p:spPr>
              <a:xfrm>
                <a:off x="7048800" y="6580080"/>
                <a:ext cx="168840" cy="194400"/>
              </a:xfrm>
              <a:custGeom>
                <a:avLst/>
                <a:gdLst/>
                <a:ahLst/>
                <a:rect l="l" t="t" r="r" b="b"/>
                <a:pathLst>
                  <a:path w="373" h="432">
                    <a:moveTo>
                      <a:pt x="0" y="0"/>
                    </a:moveTo>
                    <a:lnTo>
                      <a:pt x="158" y="0"/>
                    </a:lnTo>
                    <a:lnTo>
                      <a:pt x="186" y="212"/>
                    </a:lnTo>
                    <a:lnTo>
                      <a:pt x="186" y="212"/>
                    </a:lnTo>
                    <a:lnTo>
                      <a:pt x="215" y="0"/>
                    </a:lnTo>
                    <a:lnTo>
                      <a:pt x="373" y="0"/>
                    </a:lnTo>
                    <a:lnTo>
                      <a:pt x="373" y="432"/>
                    </a:lnTo>
                    <a:lnTo>
                      <a:pt x="276" y="432"/>
                    </a:lnTo>
                    <a:lnTo>
                      <a:pt x="276" y="94"/>
                    </a:lnTo>
                    <a:lnTo>
                      <a:pt x="274" y="94"/>
                    </a:lnTo>
                    <a:lnTo>
                      <a:pt x="219" y="432"/>
                    </a:lnTo>
                    <a:lnTo>
                      <a:pt x="153" y="432"/>
                    </a:lnTo>
                    <a:lnTo>
                      <a:pt x="99" y="94"/>
                    </a:lnTo>
                    <a:lnTo>
                      <a:pt x="97" y="94"/>
                    </a:lnTo>
                    <a:lnTo>
                      <a:pt x="97" y="432"/>
                    </a:lnTo>
                    <a:lnTo>
                      <a:pt x="0" y="4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7230240" y="6580080"/>
                <a:ext cx="133560" cy="194400"/>
              </a:xfrm>
              <a:custGeom>
                <a:avLst/>
                <a:gdLst/>
                <a:ahLst/>
                <a:rect l="l" t="t" r="r" b="b"/>
                <a:pathLst>
                  <a:path w="293" h="432">
                    <a:moveTo>
                      <a:pt x="81" y="0"/>
                    </a:moveTo>
                    <a:lnTo>
                      <a:pt x="213" y="0"/>
                    </a:lnTo>
                    <a:lnTo>
                      <a:pt x="293" y="432"/>
                    </a:lnTo>
                    <a:lnTo>
                      <a:pt x="189" y="432"/>
                    </a:lnTo>
                    <a:lnTo>
                      <a:pt x="180" y="354"/>
                    </a:lnTo>
                    <a:lnTo>
                      <a:pt x="109" y="354"/>
                    </a:lnTo>
                    <a:lnTo>
                      <a:pt x="100" y="432"/>
                    </a:lnTo>
                    <a:lnTo>
                      <a:pt x="0" y="432"/>
                    </a:lnTo>
                    <a:lnTo>
                      <a:pt x="81" y="0"/>
                    </a:lnTo>
                    <a:close/>
                    <a:moveTo>
                      <a:pt x="121" y="279"/>
                    </a:moveTo>
                    <a:lnTo>
                      <a:pt x="170" y="279"/>
                    </a:lnTo>
                    <a:lnTo>
                      <a:pt x="147" y="66"/>
                    </a:lnTo>
                    <a:lnTo>
                      <a:pt x="144" y="66"/>
                    </a:lnTo>
                    <a:lnTo>
                      <a:pt x="121" y="2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7376760" y="6580080"/>
                <a:ext cx="121680" cy="194400"/>
              </a:xfrm>
              <a:custGeom>
                <a:avLst/>
                <a:gdLst/>
                <a:ahLst/>
                <a:rect l="l" t="t" r="r" b="b"/>
                <a:pathLst>
                  <a:path w="270" h="432">
                    <a:moveTo>
                      <a:pt x="0" y="0"/>
                    </a:moveTo>
                    <a:lnTo>
                      <a:pt x="97" y="0"/>
                    </a:lnTo>
                    <a:lnTo>
                      <a:pt x="97" y="177"/>
                    </a:lnTo>
                    <a:lnTo>
                      <a:pt x="97" y="177"/>
                    </a:lnTo>
                    <a:lnTo>
                      <a:pt x="163" y="0"/>
                    </a:lnTo>
                    <a:lnTo>
                      <a:pt x="270" y="0"/>
                    </a:lnTo>
                    <a:lnTo>
                      <a:pt x="187" y="177"/>
                    </a:lnTo>
                    <a:lnTo>
                      <a:pt x="270" y="432"/>
                    </a:lnTo>
                    <a:lnTo>
                      <a:pt x="163" y="432"/>
                    </a:lnTo>
                    <a:lnTo>
                      <a:pt x="121" y="276"/>
                    </a:lnTo>
                    <a:lnTo>
                      <a:pt x="97" y="312"/>
                    </a:lnTo>
                    <a:lnTo>
                      <a:pt x="97" y="432"/>
                    </a:lnTo>
                    <a:lnTo>
                      <a:pt x="0" y="4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7512840" y="6580080"/>
                <a:ext cx="103320" cy="194400"/>
              </a:xfrm>
              <a:custGeom>
                <a:avLst/>
                <a:gdLst/>
                <a:ahLst/>
                <a:rect l="l" t="t" r="r" b="b"/>
                <a:pathLst>
                  <a:path w="227" h="432">
                    <a:moveTo>
                      <a:pt x="0" y="0"/>
                    </a:moveTo>
                    <a:lnTo>
                      <a:pt x="222" y="0"/>
                    </a:lnTo>
                    <a:lnTo>
                      <a:pt x="222" y="83"/>
                    </a:lnTo>
                    <a:lnTo>
                      <a:pt x="100" y="83"/>
                    </a:lnTo>
                    <a:lnTo>
                      <a:pt x="100" y="168"/>
                    </a:lnTo>
                    <a:lnTo>
                      <a:pt x="208" y="168"/>
                    </a:lnTo>
                    <a:lnTo>
                      <a:pt x="208" y="253"/>
                    </a:lnTo>
                    <a:lnTo>
                      <a:pt x="100" y="253"/>
                    </a:lnTo>
                    <a:lnTo>
                      <a:pt x="100" y="347"/>
                    </a:lnTo>
                    <a:lnTo>
                      <a:pt x="227" y="347"/>
                    </a:lnTo>
                    <a:lnTo>
                      <a:pt x="227" y="432"/>
                    </a:lnTo>
                    <a:lnTo>
                      <a:pt x="0" y="4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686720" y="6580080"/>
              <a:ext cx="293040" cy="192960"/>
              <a:chOff x="7686720" y="6580080"/>
              <a:chExt cx="293040" cy="192960"/>
            </a:xfrm>
          </p:grpSpPr>
          <p:sp>
            <p:nvSpPr>
              <p:cNvPr id="350" name="未知"/>
              <p:cNvSpPr/>
              <p:nvPr/>
            </p:nvSpPr>
            <p:spPr>
              <a:xfrm>
                <a:off x="7686720" y="6580080"/>
                <a:ext cx="168480" cy="192960"/>
              </a:xfrm>
              <a:custGeom>
                <a:avLst/>
                <a:gdLst/>
                <a:ahLst/>
                <a:rect l="l" t="t" r="r" b="b"/>
                <a:pathLst>
                  <a:path w="373" h="432">
                    <a:moveTo>
                      <a:pt x="0" y="0"/>
                    </a:moveTo>
                    <a:lnTo>
                      <a:pt x="158" y="0"/>
                    </a:lnTo>
                    <a:lnTo>
                      <a:pt x="186" y="212"/>
                    </a:lnTo>
                    <a:lnTo>
                      <a:pt x="186" y="212"/>
                    </a:lnTo>
                    <a:lnTo>
                      <a:pt x="215" y="0"/>
                    </a:lnTo>
                    <a:lnTo>
                      <a:pt x="373" y="0"/>
                    </a:lnTo>
                    <a:lnTo>
                      <a:pt x="373" y="432"/>
                    </a:lnTo>
                    <a:lnTo>
                      <a:pt x="276" y="432"/>
                    </a:lnTo>
                    <a:lnTo>
                      <a:pt x="276" y="94"/>
                    </a:lnTo>
                    <a:lnTo>
                      <a:pt x="274" y="94"/>
                    </a:lnTo>
                    <a:lnTo>
                      <a:pt x="219" y="432"/>
                    </a:lnTo>
                    <a:lnTo>
                      <a:pt x="153" y="432"/>
                    </a:lnTo>
                    <a:lnTo>
                      <a:pt x="99" y="94"/>
                    </a:lnTo>
                    <a:lnTo>
                      <a:pt x="97" y="94"/>
                    </a:lnTo>
                    <a:lnTo>
                      <a:pt x="97" y="432"/>
                    </a:lnTo>
                    <a:lnTo>
                      <a:pt x="0" y="4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7877880" y="6580080"/>
                <a:ext cx="101880" cy="192960"/>
              </a:xfrm>
              <a:custGeom>
                <a:avLst/>
                <a:gdLst/>
                <a:ahLst/>
                <a:rect l="l" t="t" r="r" b="b"/>
                <a:pathLst>
                  <a:path w="225" h="432">
                    <a:moveTo>
                      <a:pt x="0" y="0"/>
                    </a:moveTo>
                    <a:lnTo>
                      <a:pt x="220" y="0"/>
                    </a:lnTo>
                    <a:lnTo>
                      <a:pt x="220" y="83"/>
                    </a:lnTo>
                    <a:lnTo>
                      <a:pt x="99" y="83"/>
                    </a:lnTo>
                    <a:lnTo>
                      <a:pt x="99" y="168"/>
                    </a:lnTo>
                    <a:lnTo>
                      <a:pt x="206" y="168"/>
                    </a:lnTo>
                    <a:lnTo>
                      <a:pt x="206" y="253"/>
                    </a:lnTo>
                    <a:lnTo>
                      <a:pt x="99" y="253"/>
                    </a:lnTo>
                    <a:lnTo>
                      <a:pt x="99" y="347"/>
                    </a:lnTo>
                    <a:lnTo>
                      <a:pt x="225" y="347"/>
                    </a:lnTo>
                    <a:lnTo>
                      <a:pt x="225" y="432"/>
                    </a:lnTo>
                    <a:lnTo>
                      <a:pt x="0" y="4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9227-D87D-47F1-B4D3-F937B24E8D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2000" cy="406584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0" y="252720"/>
            <a:ext cx="5292360" cy="1132920"/>
            <a:chOff x="0" y="252720"/>
            <a:chExt cx="5292360" cy="1132920"/>
          </a:xfrm>
        </p:grpSpPr>
        <p:sp>
          <p:nvSpPr>
            <p:cNvPr id="354" name=""/>
            <p:cNvSpPr/>
            <p:nvPr/>
          </p:nvSpPr>
          <p:spPr>
            <a:xfrm>
              <a:off x="160920" y="418320"/>
              <a:ext cx="5131440" cy="96732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" y="524160"/>
              <a:ext cx="44737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279000"/>
              <a:ext cx="605880" cy="59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94680" y="252720"/>
              <a:ext cx="376200" cy="453960"/>
              <a:chOff x="94680" y="252720"/>
              <a:chExt cx="376200" cy="453960"/>
            </a:xfrm>
          </p:grpSpPr>
          <p:sp>
            <p:nvSpPr>
              <p:cNvPr id="358" name=""/>
              <p:cNvSpPr/>
              <p:nvPr/>
            </p:nvSpPr>
            <p:spPr>
              <a:xfrm>
                <a:off x="94680" y="553320"/>
                <a:ext cx="376200" cy="153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4080" y="426960"/>
                <a:ext cx="263520" cy="2322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85400" y="252720"/>
                <a:ext cx="192960" cy="232920"/>
                <a:chOff x="185400" y="252720"/>
                <a:chExt cx="192960" cy="232920"/>
              </a:xfrm>
            </p:grpSpPr>
            <p:sp>
              <p:nvSpPr>
                <p:cNvPr id="361" name="未知"/>
                <p:cNvSpPr/>
                <p:nvPr/>
              </p:nvSpPr>
              <p:spPr>
                <a:xfrm rot="18580800">
                  <a:off x="216720" y="255240"/>
                  <a:ext cx="55800" cy="1083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未知"/>
                <p:cNvSpPr/>
                <p:nvPr/>
              </p:nvSpPr>
              <p:spPr>
                <a:xfrm rot="2400000">
                  <a:off x="292320" y="260280"/>
                  <a:ext cx="60480" cy="100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82960" y="347040"/>
                  <a:ext cx="11520" cy="1386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4" name=""/>
          <p:cNvSpPr/>
          <p:nvPr/>
        </p:nvSpPr>
        <p:spPr>
          <a:xfrm>
            <a:off x="1332000" y="549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目标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403D-1B2C-4305-A0A5-BBCB61890F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4"/>
          <p:cNvSpPr/>
          <p:nvPr/>
        </p:nvSpPr>
        <p:spPr>
          <a:xfrm>
            <a:off x="1414440" y="3632040"/>
            <a:ext cx="54000" cy="5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2654280" y="4524480"/>
            <a:ext cx="54000" cy="5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4"/>
          <p:cNvSpPr/>
          <p:nvPr/>
        </p:nvSpPr>
        <p:spPr>
          <a:xfrm>
            <a:off x="5126040" y="4135320"/>
            <a:ext cx="54000" cy="5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370560" y="3652920"/>
            <a:ext cx="54000" cy="5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1"/>
          <p:cNvSpPr/>
          <p:nvPr/>
        </p:nvSpPr>
        <p:spPr>
          <a:xfrm>
            <a:off x="1405080" y="4184640"/>
            <a:ext cx="72720" cy="71280"/>
          </a:xfrm>
          <a:prstGeom prst="rect">
            <a:avLst/>
          </a:prstGeom>
          <a:solidFill>
            <a:srgbClr val="60e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552840" y="3032280"/>
            <a:ext cx="311040" cy="374400"/>
            <a:chOff x="3552840" y="3032280"/>
            <a:chExt cx="311040" cy="374400"/>
          </a:xfrm>
        </p:grpSpPr>
        <p:sp>
          <p:nvSpPr>
            <p:cNvPr id="371" name="任意多边形 89"/>
            <p:cNvSpPr/>
            <p:nvPr/>
          </p:nvSpPr>
          <p:spPr>
            <a:xfrm>
              <a:off x="3560760" y="3032280"/>
              <a:ext cx="360" cy="32364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90"/>
            <p:cNvSpPr/>
            <p:nvPr/>
          </p:nvSpPr>
          <p:spPr>
            <a:xfrm>
              <a:off x="3552840" y="3184560"/>
              <a:ext cx="311040" cy="22212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26"/>
          <p:cNvSpPr/>
          <p:nvPr/>
        </p:nvSpPr>
        <p:spPr>
          <a:xfrm>
            <a:off x="5830920" y="46080"/>
            <a:ext cx="30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-7560"/>
            <a:ext cx="5292360" cy="1132560"/>
            <a:chOff x="0" y="-7560"/>
            <a:chExt cx="5292360" cy="1132560"/>
          </a:xfrm>
        </p:grpSpPr>
        <p:sp>
          <p:nvSpPr>
            <p:cNvPr id="375" name=""/>
            <p:cNvSpPr/>
            <p:nvPr/>
          </p:nvSpPr>
          <p:spPr>
            <a:xfrm>
              <a:off x="160920" y="158040"/>
              <a:ext cx="5131440" cy="96696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4440" y="263880"/>
              <a:ext cx="447372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18360"/>
              <a:ext cx="605880" cy="59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94680" y="-7560"/>
              <a:ext cx="376200" cy="453240"/>
              <a:chOff x="94680" y="-7560"/>
              <a:chExt cx="376200" cy="453240"/>
            </a:xfrm>
          </p:grpSpPr>
          <p:sp>
            <p:nvSpPr>
              <p:cNvPr id="379" name=""/>
              <p:cNvSpPr/>
              <p:nvPr/>
            </p:nvSpPr>
            <p:spPr>
              <a:xfrm>
                <a:off x="94680" y="292680"/>
                <a:ext cx="376200" cy="15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4080" y="166680"/>
                <a:ext cx="263520" cy="2318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185400" y="-7560"/>
                <a:ext cx="192960" cy="232920"/>
                <a:chOff x="185400" y="-7560"/>
                <a:chExt cx="192960" cy="232920"/>
              </a:xfrm>
            </p:grpSpPr>
            <p:sp>
              <p:nvSpPr>
                <p:cNvPr id="382" name="未知"/>
                <p:cNvSpPr/>
                <p:nvPr/>
              </p:nvSpPr>
              <p:spPr>
                <a:xfrm rot="18580800">
                  <a:off x="216720" y="-4680"/>
                  <a:ext cx="55800" cy="1083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未知"/>
                <p:cNvSpPr/>
                <p:nvPr/>
              </p:nvSpPr>
              <p:spPr>
                <a:xfrm rot="2400000">
                  <a:off x="292320" y="0"/>
                  <a:ext cx="60480" cy="100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82960" y="86760"/>
                  <a:ext cx="11520" cy="1386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5" name=""/>
          <p:cNvSpPr/>
          <p:nvPr/>
        </p:nvSpPr>
        <p:spPr>
          <a:xfrm>
            <a:off x="1258920" y="1773360"/>
            <a:ext cx="640872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：害怕失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：害怕耻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：不知道目标重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：不知道目标设定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5: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不知道目标是否正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32868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人为什么不设定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47BA-FEC6-4739-AA2B-B8CDA41F20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6"/>
          <p:cNvSpPr/>
          <p:nvPr/>
        </p:nvSpPr>
        <p:spPr>
          <a:xfrm>
            <a:off x="7259760" y="460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128520"/>
            <a:ext cx="9180360" cy="68691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2050920" y="476280"/>
            <a:ext cx="2114640" cy="5616720"/>
            <a:chOff x="2050920" y="476280"/>
            <a:chExt cx="2114640" cy="5616720"/>
          </a:xfrm>
        </p:grpSpPr>
        <p:sp>
          <p:nvSpPr>
            <p:cNvPr id="110" name="AutoShape 3"/>
            <p:cNvSpPr/>
            <p:nvPr/>
          </p:nvSpPr>
          <p:spPr>
            <a:xfrm rot="16200000">
              <a:off x="300600" y="2227320"/>
              <a:ext cx="5615280" cy="211464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"/>
            <p:cNvSpPr/>
            <p:nvPr/>
          </p:nvSpPr>
          <p:spPr>
            <a:xfrm rot="16200000">
              <a:off x="299880" y="2488680"/>
              <a:ext cx="5616720" cy="159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 rot="5400000">
            <a:off x="754920" y="2637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宋体"/>
              </a:rPr>
              <a:t>心态管理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宋体"/>
              <a:ea typeface="新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ACD3-6708-4FD6-9081-DB5235F29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5"/>
          <p:cNvSpPr/>
          <p:nvPr/>
        </p:nvSpPr>
        <p:spPr>
          <a:xfrm>
            <a:off x="826920" y="1628640"/>
            <a:ext cx="61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明确具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量化衡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具有挑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长短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完成时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0" y="252720"/>
            <a:ext cx="5292360" cy="1132920"/>
            <a:chOff x="0" y="252720"/>
            <a:chExt cx="5292360" cy="1132920"/>
          </a:xfrm>
        </p:grpSpPr>
        <p:sp>
          <p:nvSpPr>
            <p:cNvPr id="389" name=""/>
            <p:cNvSpPr/>
            <p:nvPr/>
          </p:nvSpPr>
          <p:spPr>
            <a:xfrm>
              <a:off x="160920" y="418320"/>
              <a:ext cx="5131440" cy="96732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4440" y="524160"/>
              <a:ext cx="44737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279000"/>
              <a:ext cx="605880" cy="59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94680" y="252720"/>
              <a:ext cx="376200" cy="453960"/>
              <a:chOff x="94680" y="252720"/>
              <a:chExt cx="376200" cy="453960"/>
            </a:xfrm>
          </p:grpSpPr>
          <p:sp>
            <p:nvSpPr>
              <p:cNvPr id="393" name=""/>
              <p:cNvSpPr/>
              <p:nvPr/>
            </p:nvSpPr>
            <p:spPr>
              <a:xfrm>
                <a:off x="94680" y="553320"/>
                <a:ext cx="376200" cy="153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4080" y="426960"/>
                <a:ext cx="263520" cy="2322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185400" y="252720"/>
                <a:ext cx="192960" cy="232920"/>
                <a:chOff x="185400" y="252720"/>
                <a:chExt cx="192960" cy="232920"/>
              </a:xfrm>
            </p:grpSpPr>
            <p:sp>
              <p:nvSpPr>
                <p:cNvPr id="396" name="未知"/>
                <p:cNvSpPr/>
                <p:nvPr/>
              </p:nvSpPr>
              <p:spPr>
                <a:xfrm rot="18580800">
                  <a:off x="216720" y="255240"/>
                  <a:ext cx="55800" cy="1083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未知"/>
                <p:cNvSpPr/>
                <p:nvPr/>
              </p:nvSpPr>
              <p:spPr>
                <a:xfrm rot="2400000">
                  <a:off x="292320" y="260280"/>
                  <a:ext cx="60480" cy="100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82960" y="347040"/>
                  <a:ext cx="11520" cy="1386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9" name=""/>
          <p:cNvSpPr/>
          <p:nvPr/>
        </p:nvSpPr>
        <p:spPr>
          <a:xfrm>
            <a:off x="1711800" y="333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目标设定的五大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B022-0CE5-48B2-80B2-2CBA0DB27F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195280" y="1773000"/>
            <a:ext cx="455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财富目标</a:t>
            </a: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事业目标</a:t>
            </a: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家庭生活目标</a:t>
            </a: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健康生活目标</a:t>
            </a: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目标</a:t>
            </a: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学习成长目标</a:t>
            </a: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0" y="252720"/>
            <a:ext cx="5292360" cy="1132920"/>
            <a:chOff x="0" y="252720"/>
            <a:chExt cx="5292360" cy="1132920"/>
          </a:xfrm>
        </p:grpSpPr>
        <p:sp>
          <p:nvSpPr>
            <p:cNvPr id="402" name=""/>
            <p:cNvSpPr/>
            <p:nvPr/>
          </p:nvSpPr>
          <p:spPr>
            <a:xfrm>
              <a:off x="160920" y="418320"/>
              <a:ext cx="5131440" cy="96732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4440" y="524160"/>
              <a:ext cx="44737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279000"/>
              <a:ext cx="605880" cy="59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94680" y="252720"/>
              <a:ext cx="376200" cy="453960"/>
              <a:chOff x="94680" y="252720"/>
              <a:chExt cx="376200" cy="453960"/>
            </a:xfrm>
          </p:grpSpPr>
          <p:sp>
            <p:nvSpPr>
              <p:cNvPr id="406" name=""/>
              <p:cNvSpPr/>
              <p:nvPr/>
            </p:nvSpPr>
            <p:spPr>
              <a:xfrm>
                <a:off x="94680" y="553320"/>
                <a:ext cx="376200" cy="153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4080" y="426960"/>
                <a:ext cx="263520" cy="2322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185400" y="252720"/>
                <a:ext cx="192960" cy="232920"/>
                <a:chOff x="185400" y="252720"/>
                <a:chExt cx="192960" cy="232920"/>
              </a:xfrm>
            </p:grpSpPr>
            <p:sp>
              <p:nvSpPr>
                <p:cNvPr id="409" name="未知"/>
                <p:cNvSpPr/>
                <p:nvPr/>
              </p:nvSpPr>
              <p:spPr>
                <a:xfrm rot="18580800">
                  <a:off x="216720" y="255240"/>
                  <a:ext cx="55800" cy="1083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未知"/>
                <p:cNvSpPr/>
                <p:nvPr/>
              </p:nvSpPr>
              <p:spPr>
                <a:xfrm rot="2400000">
                  <a:off x="292320" y="260280"/>
                  <a:ext cx="60480" cy="100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2960" y="347040"/>
                  <a:ext cx="11520" cy="1386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"/>
          <p:cNvSpPr/>
          <p:nvPr/>
        </p:nvSpPr>
        <p:spPr>
          <a:xfrm>
            <a:off x="539640" y="549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目标设定的六大范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37CF-005D-4314-A980-07CC72DEC9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-19080" y="-9360"/>
            <a:ext cx="9271080" cy="696564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1692360" y="188640"/>
            <a:ext cx="2111400" cy="5616360"/>
            <a:chOff x="1692360" y="188640"/>
            <a:chExt cx="2111400" cy="5616360"/>
          </a:xfrm>
        </p:grpSpPr>
        <p:sp>
          <p:nvSpPr>
            <p:cNvPr id="415" name="AutoShape 3"/>
            <p:cNvSpPr/>
            <p:nvPr/>
          </p:nvSpPr>
          <p:spPr>
            <a:xfrm rot="16200000">
              <a:off x="-59040" y="1940760"/>
              <a:ext cx="5614920" cy="2111400"/>
            </a:xfrm>
            <a:prstGeom prst="roundRect">
              <a:avLst>
                <a:gd name="adj" fmla="val 16667"/>
              </a:avLst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"/>
            <p:cNvSpPr/>
            <p:nvPr/>
          </p:nvSpPr>
          <p:spPr>
            <a:xfrm rot="16200000">
              <a:off x="-59760" y="2202120"/>
              <a:ext cx="5616360" cy="1589400"/>
            </a:xfrm>
            <a:prstGeom prst="roundRect">
              <a:avLst>
                <a:gd name="adj" fmla="val 16667"/>
              </a:avLst>
            </a:prstGeom>
            <a:solidFill>
              <a:srgbClr val="9900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 txBox="1"/>
          <p:nvPr/>
        </p:nvSpPr>
        <p:spPr>
          <a:xfrm rot="5400000">
            <a:off x="215640" y="231264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时间管理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C844-D83F-4870-A4D8-5DF87C49A8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245880"/>
            <a:ext cx="6012000" cy="1019160"/>
            <a:chOff x="0" y="245880"/>
            <a:chExt cx="6012000" cy="1019160"/>
          </a:xfrm>
        </p:grpSpPr>
        <p:sp>
          <p:nvSpPr>
            <p:cNvPr id="419" name=""/>
            <p:cNvSpPr/>
            <p:nvPr/>
          </p:nvSpPr>
          <p:spPr>
            <a:xfrm>
              <a:off x="182880" y="401400"/>
              <a:ext cx="5829120" cy="86364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6520" y="495000"/>
              <a:ext cx="5081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276840"/>
              <a:ext cx="688320" cy="53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07280" y="245880"/>
              <a:ext cx="427320" cy="412920"/>
              <a:chOff x="107280" y="245880"/>
              <a:chExt cx="427320" cy="412920"/>
            </a:xfrm>
          </p:grpSpPr>
          <p:sp>
            <p:nvSpPr>
              <p:cNvPr id="423" name=""/>
              <p:cNvSpPr/>
              <p:nvPr/>
            </p:nvSpPr>
            <p:spPr>
              <a:xfrm>
                <a:off x="107280" y="522000"/>
                <a:ext cx="42732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4960" y="408960"/>
                <a:ext cx="299520" cy="20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214920" y="245880"/>
                <a:ext cx="206640" cy="215640"/>
                <a:chOff x="214920" y="245880"/>
                <a:chExt cx="206640" cy="215640"/>
              </a:xfrm>
            </p:grpSpPr>
            <p:sp>
              <p:nvSpPr>
                <p:cNvPr id="426" name="未知"/>
                <p:cNvSpPr/>
                <p:nvPr/>
              </p:nvSpPr>
              <p:spPr>
                <a:xfrm rot="18580800">
                  <a:off x="253080" y="242640"/>
                  <a:ext cx="50040" cy="123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未知"/>
                <p:cNvSpPr/>
                <p:nvPr/>
              </p:nvSpPr>
              <p:spPr>
                <a:xfrm rot="2400000">
                  <a:off x="331920" y="260280"/>
                  <a:ext cx="68760" cy="89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1480" y="337680"/>
                  <a:ext cx="12960" cy="1238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2665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时间的特性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供给毫无弹性：时间的供给量是固定不变的，在任何情况下不会增加、也不会减少，每天都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，所以我们无法开源。 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无法蓄积：时间不象人力、财力、物力和技术那样被积蓄储藏。不论愿不愿意，我们都必须消费时间，所以我们无法节流。 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无法取代：任何一项活动都有赖于时间的堆砌，这就是说，时间是任何活动所不可缺少的基本资源。因此，时间是无法取代的。 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无法失而复得：时间无法象失物一样失而复得。它一但丧失，则会永远丧失。花费了金钱，尚可赚回，但倘若挥霍了时间，任何人都无力挽回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CC04-0722-4FCE-8F12-C10FBC8DF9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0" y="245880"/>
            <a:ext cx="6012000" cy="1019160"/>
            <a:chOff x="0" y="245880"/>
            <a:chExt cx="6012000" cy="1019160"/>
          </a:xfrm>
        </p:grpSpPr>
        <p:sp>
          <p:nvSpPr>
            <p:cNvPr id="432" name=""/>
            <p:cNvSpPr/>
            <p:nvPr/>
          </p:nvSpPr>
          <p:spPr>
            <a:xfrm>
              <a:off x="182880" y="401400"/>
              <a:ext cx="5829120" cy="86364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6520" y="495000"/>
              <a:ext cx="5081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276840"/>
              <a:ext cx="688320" cy="53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107280" y="245880"/>
              <a:ext cx="427320" cy="412920"/>
              <a:chOff x="107280" y="245880"/>
              <a:chExt cx="427320" cy="412920"/>
            </a:xfrm>
          </p:grpSpPr>
          <p:sp>
            <p:nvSpPr>
              <p:cNvPr id="436" name=""/>
              <p:cNvSpPr/>
              <p:nvPr/>
            </p:nvSpPr>
            <p:spPr>
              <a:xfrm>
                <a:off x="107280" y="522000"/>
                <a:ext cx="42732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4960" y="408960"/>
                <a:ext cx="299520" cy="20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214920" y="245880"/>
                <a:ext cx="206640" cy="215640"/>
                <a:chOff x="214920" y="245880"/>
                <a:chExt cx="206640" cy="215640"/>
              </a:xfrm>
            </p:grpSpPr>
            <p:sp>
              <p:nvSpPr>
                <p:cNvPr id="439" name="未知"/>
                <p:cNvSpPr/>
                <p:nvPr/>
              </p:nvSpPr>
              <p:spPr>
                <a:xfrm rot="18580800">
                  <a:off x="253080" y="242640"/>
                  <a:ext cx="50040" cy="123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未知"/>
                <p:cNvSpPr/>
                <p:nvPr/>
              </p:nvSpPr>
              <p:spPr>
                <a:xfrm rot="2400000">
                  <a:off x="331920" y="260280"/>
                  <a:ext cx="68760" cy="89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21480" y="337680"/>
                  <a:ext cx="12960" cy="1238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345744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工作时间</a:t>
            </a:r>
            <a:endParaRPr b="1" lang="en-US" sz="32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家庭时间</a:t>
            </a:r>
            <a:endParaRPr b="1" lang="en-US" sz="32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休闲时间</a:t>
            </a:r>
            <a:endParaRPr b="1" lang="en-US" sz="32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学习时间</a:t>
            </a:r>
            <a:endParaRPr b="1" lang="en-US" sz="32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思考时间</a:t>
            </a:r>
            <a:endParaRPr b="1" lang="en-US" sz="32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2391480" y="620640"/>
            <a:ext cx="14000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时间的划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1989000"/>
            <a:ext cx="20160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B0CE-B8E7-480A-9A0A-627134477A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a4832"/>
                </a:solidFill>
                <a:latin typeface="Verdana"/>
                <a:ea typeface="宋体"/>
              </a:rPr>
              <a:t>　　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企业家请教禅师：我每日忙得焦头烂额，生活质量严重下降，有什么好办法呢？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禅师不说话，微笑着拿出一个精致的茶杯放在桌上，并取来三个小皮口袋一字排开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第一个口袋里装着鹅卵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饱满圆润，禅师让企业家把石头放进杯子，企业家依言而行，把石头放在杯子里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接着打开第二个小口袋，细腻的小沙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晶莹剔透，禅师让企业家把沙子倒进杯里，企业家见石头有缝隙，毫不费力的把沙子倒进了杯子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开第三个小袋子，晶亮的山泉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甘列清凉，禅师示意企业家把水倒进杯子，企业家把水也倒进了杯里，石头、沙子、水，满满的，平平的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接禅师又拿了一个水杯，让企业家把把水倒满，禅师再让企业家把沙子放进去，才放少许，水便溢了出来，禅师又让企业家把石头放在杯子里，企业家放进石子后，水流了一桌子，狼籍一片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5280" y="-5760"/>
            <a:ext cx="4824000" cy="1130760"/>
            <a:chOff x="395280" y="-5760"/>
            <a:chExt cx="4824000" cy="1130760"/>
          </a:xfrm>
        </p:grpSpPr>
        <p:sp>
          <p:nvSpPr>
            <p:cNvPr id="447" name=""/>
            <p:cNvSpPr/>
            <p:nvPr/>
          </p:nvSpPr>
          <p:spPr>
            <a:xfrm>
              <a:off x="541800" y="158040"/>
              <a:ext cx="4677480" cy="96696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46440" y="263880"/>
              <a:ext cx="40770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5280" y="18360"/>
              <a:ext cx="552240" cy="59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81320" y="-5760"/>
              <a:ext cx="342720" cy="451440"/>
              <a:chOff x="481320" y="-5760"/>
              <a:chExt cx="342720" cy="451440"/>
            </a:xfrm>
          </p:grpSpPr>
          <p:sp>
            <p:nvSpPr>
              <p:cNvPr id="451" name=""/>
              <p:cNvSpPr/>
              <p:nvPr/>
            </p:nvSpPr>
            <p:spPr>
              <a:xfrm>
                <a:off x="481320" y="292680"/>
                <a:ext cx="342720" cy="15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35680" y="166680"/>
                <a:ext cx="240120" cy="2318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562680" y="-5760"/>
                <a:ext cx="179640" cy="231120"/>
                <a:chOff x="562680" y="-5760"/>
                <a:chExt cx="179640" cy="231120"/>
              </a:xfrm>
            </p:grpSpPr>
            <p:sp>
              <p:nvSpPr>
                <p:cNvPr id="454" name="未知"/>
                <p:cNvSpPr/>
                <p:nvPr/>
              </p:nvSpPr>
              <p:spPr>
                <a:xfrm rot="18580800">
                  <a:off x="590400" y="0"/>
                  <a:ext cx="55800" cy="98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未知"/>
                <p:cNvSpPr/>
                <p:nvPr/>
              </p:nvSpPr>
              <p:spPr>
                <a:xfrm rot="2400000">
                  <a:off x="661320" y="0"/>
                  <a:ext cx="55080" cy="100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53040" y="86760"/>
                  <a:ext cx="10440" cy="1386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7" name=""/>
          <p:cNvSpPr/>
          <p:nvPr/>
        </p:nvSpPr>
        <p:spPr>
          <a:xfrm>
            <a:off x="1403280" y="333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思考一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0DD0-5666-4B86-80FC-DF3C780DB3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杯子就是人一天的精力，石头是大事、沙子是例行的事、水是琐碎的事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只有你先做大事，才有时间做例行的事，做完例行的事，才有时间做琐碎的事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每天要给自己安排几件重要的事情，不要为琐碎的事情浪费时间，否则会让你焦头烂额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0920" y="252360"/>
            <a:ext cx="5003280" cy="1012680"/>
            <a:chOff x="250920" y="252360"/>
            <a:chExt cx="5003280" cy="1012680"/>
          </a:xfrm>
        </p:grpSpPr>
        <p:sp>
          <p:nvSpPr>
            <p:cNvPr id="460" name=""/>
            <p:cNvSpPr/>
            <p:nvPr/>
          </p:nvSpPr>
          <p:spPr>
            <a:xfrm>
              <a:off x="402840" y="401400"/>
              <a:ext cx="4851360" cy="86364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22240" y="495000"/>
              <a:ext cx="422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0920" y="276840"/>
              <a:ext cx="572760" cy="53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40200" y="252360"/>
              <a:ext cx="355680" cy="406440"/>
              <a:chOff x="340200" y="252360"/>
              <a:chExt cx="355680" cy="406440"/>
            </a:xfrm>
          </p:grpSpPr>
          <p:sp>
            <p:nvSpPr>
              <p:cNvPr id="464" name=""/>
              <p:cNvSpPr/>
              <p:nvPr/>
            </p:nvSpPr>
            <p:spPr>
              <a:xfrm>
                <a:off x="340200" y="522000"/>
                <a:ext cx="35568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96360" y="408960"/>
                <a:ext cx="249480" cy="20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427320" y="252360"/>
                <a:ext cx="178920" cy="209160"/>
                <a:chOff x="427320" y="252360"/>
                <a:chExt cx="178920" cy="209160"/>
              </a:xfrm>
            </p:grpSpPr>
            <p:sp>
              <p:nvSpPr>
                <p:cNvPr id="467" name="未知"/>
                <p:cNvSpPr/>
                <p:nvPr/>
              </p:nvSpPr>
              <p:spPr>
                <a:xfrm rot="18580800">
                  <a:off x="457560" y="253080"/>
                  <a:ext cx="50040" cy="1022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未知"/>
                <p:cNvSpPr/>
                <p:nvPr/>
              </p:nvSpPr>
              <p:spPr>
                <a:xfrm rot="2400000">
                  <a:off x="527040" y="259920"/>
                  <a:ext cx="56880" cy="89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18400" y="337680"/>
                  <a:ext cx="10800" cy="1238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0" name=""/>
          <p:cNvSpPr/>
          <p:nvPr/>
        </p:nvSpPr>
        <p:spPr>
          <a:xfrm>
            <a:off x="1332000" y="476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石头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2BF9-1B94-42B4-AEB9-6228BE4B59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332000" y="2205000"/>
            <a:ext cx="5688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新宋体"/>
              </a:rPr>
              <a:t>我们的出生是偶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新宋体"/>
              </a:rPr>
              <a:t>我们的死亡是必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新宋体"/>
              </a:rPr>
              <a:t>我们从出生那天起就在走向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新宋体"/>
              </a:rPr>
              <a:t>没有人知道自己的最终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0" y="390240"/>
            <a:ext cx="6012000" cy="1019160"/>
            <a:chOff x="0" y="390240"/>
            <a:chExt cx="6012000" cy="1019160"/>
          </a:xfrm>
        </p:grpSpPr>
        <p:sp>
          <p:nvSpPr>
            <p:cNvPr id="473" name=""/>
            <p:cNvSpPr/>
            <p:nvPr/>
          </p:nvSpPr>
          <p:spPr>
            <a:xfrm>
              <a:off x="182880" y="545760"/>
              <a:ext cx="5829120" cy="86364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6520" y="639360"/>
              <a:ext cx="5081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421200"/>
              <a:ext cx="688320" cy="53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107280" y="390240"/>
              <a:ext cx="427320" cy="412920"/>
              <a:chOff x="107280" y="390240"/>
              <a:chExt cx="427320" cy="412920"/>
            </a:xfrm>
          </p:grpSpPr>
          <p:sp>
            <p:nvSpPr>
              <p:cNvPr id="477" name=""/>
              <p:cNvSpPr/>
              <p:nvPr/>
            </p:nvSpPr>
            <p:spPr>
              <a:xfrm>
                <a:off x="107280" y="666360"/>
                <a:ext cx="42732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4960" y="553320"/>
                <a:ext cx="299520" cy="20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214920" y="390240"/>
                <a:ext cx="206640" cy="215640"/>
                <a:chOff x="214920" y="390240"/>
                <a:chExt cx="206640" cy="215640"/>
              </a:xfrm>
            </p:grpSpPr>
            <p:sp>
              <p:nvSpPr>
                <p:cNvPr id="480" name="未知"/>
                <p:cNvSpPr/>
                <p:nvPr/>
              </p:nvSpPr>
              <p:spPr>
                <a:xfrm rot="18580800">
                  <a:off x="253080" y="387000"/>
                  <a:ext cx="50040" cy="123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未知"/>
                <p:cNvSpPr/>
                <p:nvPr/>
              </p:nvSpPr>
              <p:spPr>
                <a:xfrm rot="2400000">
                  <a:off x="331920" y="404640"/>
                  <a:ext cx="68760" cy="89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21480" y="482040"/>
                  <a:ext cx="12960" cy="1238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"/>
          <p:cNvSpPr/>
          <p:nvPr/>
        </p:nvSpPr>
        <p:spPr>
          <a:xfrm>
            <a:off x="1476360" y="6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珍惜眼前的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D8E8-D351-4FE1-A780-4730D7052E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a4832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会自动占满一个人所有可用的时间。如果一个人给自己安排了充裕的时间去完成一项工作，他就会放慢节奏或者增加其他项目以便用掉所有的时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你多少时间，你就花多少时间，时间太多反而使你拖延工作，效率低下，甚至拖到最后一刻。时间紧张时，反而能让你抓紧时间，提高工作效效率，很快的完成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79280" y="378000"/>
            <a:ext cx="8748360" cy="1250280"/>
            <a:chOff x="179280" y="378000"/>
            <a:chExt cx="8748360" cy="1250280"/>
          </a:xfrm>
        </p:grpSpPr>
        <p:sp>
          <p:nvSpPr>
            <p:cNvPr id="486" name=""/>
            <p:cNvSpPr/>
            <p:nvPr/>
          </p:nvSpPr>
          <p:spPr>
            <a:xfrm>
              <a:off x="445320" y="576360"/>
              <a:ext cx="8482320" cy="105192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78640" y="690480"/>
              <a:ext cx="73947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9280" y="424800"/>
              <a:ext cx="1001520" cy="64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35880" y="378000"/>
              <a:ext cx="621720" cy="511920"/>
              <a:chOff x="335880" y="378000"/>
              <a:chExt cx="621720" cy="511920"/>
            </a:xfrm>
          </p:grpSpPr>
          <p:sp>
            <p:nvSpPr>
              <p:cNvPr id="490" name=""/>
              <p:cNvSpPr/>
              <p:nvPr/>
            </p:nvSpPr>
            <p:spPr>
              <a:xfrm>
                <a:off x="335880" y="723240"/>
                <a:ext cx="621720" cy="166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34520" y="585720"/>
                <a:ext cx="435600" cy="252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496080" y="378000"/>
                <a:ext cx="289800" cy="271800"/>
                <a:chOff x="496080" y="378000"/>
                <a:chExt cx="289800" cy="271800"/>
              </a:xfrm>
            </p:grpSpPr>
            <p:sp>
              <p:nvSpPr>
                <p:cNvPr id="493" name="未知"/>
                <p:cNvSpPr/>
                <p:nvPr/>
              </p:nvSpPr>
              <p:spPr>
                <a:xfrm rot="18580800">
                  <a:off x="553680" y="369000"/>
                  <a:ext cx="60840" cy="1789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未知"/>
                <p:cNvSpPr/>
                <p:nvPr/>
              </p:nvSpPr>
              <p:spPr>
                <a:xfrm rot="2400000">
                  <a:off x="662760" y="404640"/>
                  <a:ext cx="99720" cy="1090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47280" y="498960"/>
                  <a:ext cx="18720" cy="1508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6" name=""/>
          <p:cNvSpPr/>
          <p:nvPr/>
        </p:nvSpPr>
        <p:spPr>
          <a:xfrm>
            <a:off x="3244320" y="692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时间管理上的帕金森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6920" y="5373720"/>
            <a:ext cx="763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b0b61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ab0b61"/>
                </a:solidFill>
                <a:latin typeface="Verdana"/>
                <a:ea typeface="宋体"/>
              </a:rPr>
              <a:t>时间一挤就出来了，事情一逼就完成了！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E147-8DE6-4443-8B73-130F9D082E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395280" y="166680"/>
            <a:ext cx="8352720" cy="1317240"/>
            <a:chOff x="395280" y="166680"/>
            <a:chExt cx="8352720" cy="1317240"/>
          </a:xfrm>
        </p:grpSpPr>
        <p:sp>
          <p:nvSpPr>
            <p:cNvPr id="499" name=""/>
            <p:cNvSpPr/>
            <p:nvPr/>
          </p:nvSpPr>
          <p:spPr>
            <a:xfrm>
              <a:off x="649080" y="370800"/>
              <a:ext cx="8098920" cy="111312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49640" y="492480"/>
              <a:ext cx="70606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5280" y="210240"/>
              <a:ext cx="956160" cy="68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44680" y="166680"/>
              <a:ext cx="593640" cy="535680"/>
              <a:chOff x="544680" y="166680"/>
              <a:chExt cx="593640" cy="535680"/>
            </a:xfrm>
          </p:grpSpPr>
          <p:sp>
            <p:nvSpPr>
              <p:cNvPr id="503" name=""/>
              <p:cNvSpPr/>
              <p:nvPr/>
            </p:nvSpPr>
            <p:spPr>
              <a:xfrm>
                <a:off x="544680" y="525960"/>
                <a:ext cx="593640" cy="17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38640" y="380520"/>
                <a:ext cx="416160" cy="2671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695880" y="166680"/>
                <a:ext cx="282600" cy="281520"/>
                <a:chOff x="695880" y="166680"/>
                <a:chExt cx="282600" cy="281520"/>
              </a:xfrm>
            </p:grpSpPr>
            <p:sp>
              <p:nvSpPr>
                <p:cNvPr id="506" name="未知"/>
                <p:cNvSpPr/>
                <p:nvPr/>
              </p:nvSpPr>
              <p:spPr>
                <a:xfrm rot="18580800">
                  <a:off x="749880" y="160560"/>
                  <a:ext cx="64440" cy="170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未知"/>
                <p:cNvSpPr/>
                <p:nvPr/>
              </p:nvSpPr>
              <p:spPr>
                <a:xfrm rot="2400000">
                  <a:off x="857160" y="189000"/>
                  <a:ext cx="95400" cy="1152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41680" y="288720"/>
                  <a:ext cx="18000" cy="15948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9" name=""/>
          <p:cNvSpPr/>
          <p:nvPr/>
        </p:nvSpPr>
        <p:spPr>
          <a:xfrm>
            <a:off x="1692360" y="549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小张的一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5280" y="1601640"/>
            <a:ext cx="8352000" cy="43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今天小张给自己的目标：一上班就着手制定明年的部门预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他九点整走进办公室，打开电脑准备工作，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QQ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上跳出来的新闻题目很吸引人，随手点进去看了一下，国内外发生了很多事情，身为主管怎能不关心时事，会被别人说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OUT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的，这一浏览不知不觉花了三十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未遵守原订计划，小张丝毫不感到后悔，反而得意地伸了伸懒腰，稍作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6733-DD5D-4093-B675-BF6DB0E0C6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113440" cy="1150920"/>
          </a:xfrm>
          <a:prstGeom prst="rect">
            <a:avLst/>
          </a:prstGeom>
          <a:solidFill>
            <a:srgbClr val="518d4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你有这样想过和做过吗？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777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每天卡点上下班，认为替老板打工，拿多少钱，做多少事；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做事情马虎，没耐心，犯点小错正常，差不多就行；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做错事总有一堆的借口和理由，出了问题都是别人的错，懒得反省自己，喜欢挑选简单的、轻松的活，把复杂的、重的活留给别人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爱抱怨，公司制度不完善，上司安排不合理造成工作无法正常进行下去，工资太低，没法干。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法官的心态，带着审判的眼光去办理上级交代你的任务，问题多，疑惑多，怀疑、执行力差；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88D9-A144-4B2C-9718-EFB2CD6AED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395280" y="238680"/>
            <a:ext cx="7099200" cy="1026360"/>
            <a:chOff x="395280" y="238680"/>
            <a:chExt cx="7099200" cy="1026360"/>
          </a:xfrm>
        </p:grpSpPr>
        <p:sp>
          <p:nvSpPr>
            <p:cNvPr id="512" name=""/>
            <p:cNvSpPr/>
            <p:nvPr/>
          </p:nvSpPr>
          <p:spPr>
            <a:xfrm>
              <a:off x="611280" y="401400"/>
              <a:ext cx="6883200" cy="86364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06360" y="495000"/>
              <a:ext cx="6000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5280" y="276840"/>
              <a:ext cx="812880" cy="53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522360" y="238680"/>
              <a:ext cx="504720" cy="420120"/>
              <a:chOff x="522360" y="238680"/>
              <a:chExt cx="504720" cy="420120"/>
            </a:xfrm>
          </p:grpSpPr>
          <p:sp>
            <p:nvSpPr>
              <p:cNvPr id="516" name=""/>
              <p:cNvSpPr/>
              <p:nvPr/>
            </p:nvSpPr>
            <p:spPr>
              <a:xfrm>
                <a:off x="522360" y="522000"/>
                <a:ext cx="50472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2280" y="408960"/>
                <a:ext cx="353880" cy="2073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652320" y="238680"/>
                <a:ext cx="236160" cy="222840"/>
                <a:chOff x="652320" y="238680"/>
                <a:chExt cx="236160" cy="222840"/>
              </a:xfrm>
            </p:grpSpPr>
            <p:sp>
              <p:nvSpPr>
                <p:cNvPr id="519" name="未知"/>
                <p:cNvSpPr/>
                <p:nvPr/>
              </p:nvSpPr>
              <p:spPr>
                <a:xfrm rot="18580800">
                  <a:off x="699120" y="231480"/>
                  <a:ext cx="5004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未知"/>
                <p:cNvSpPr/>
                <p:nvPr/>
              </p:nvSpPr>
              <p:spPr>
                <a:xfrm rot="2400000">
                  <a:off x="788040" y="260280"/>
                  <a:ext cx="81000" cy="89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75080" y="337680"/>
                  <a:ext cx="15120" cy="1238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"/>
          <p:cNvSpPr/>
          <p:nvPr/>
        </p:nvSpPr>
        <p:spPr>
          <a:xfrm>
            <a:off x="169236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小张的一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68360" y="1484280"/>
            <a:ext cx="8064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此时，他无意中发现桌上报纸的彩图是自己喜欢的明星，于是情不自禁地看起来。时间又过了二十分钟。他有点自责，赶紧合上报纸准备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就在这时电话响了顾客投诉，他连解释带赔罪地花了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分钟的时间，挂上电话思考怎样做预算，发现没啥头绪，他去了洗手间，转一转也许就有灵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在回办公室途中，他闻到了咖啡的香味。原来别的同事正享受上午茶，他应邀加入，前言不搭后语的聊了一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A3A9-551F-497A-A570-25EE527E9D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95280" y="312120"/>
            <a:ext cx="7099200" cy="1026000"/>
            <a:chOff x="395280" y="312120"/>
            <a:chExt cx="7099200" cy="1026000"/>
          </a:xfrm>
        </p:grpSpPr>
        <p:sp>
          <p:nvSpPr>
            <p:cNvPr id="525" name=""/>
            <p:cNvSpPr/>
            <p:nvPr/>
          </p:nvSpPr>
          <p:spPr>
            <a:xfrm>
              <a:off x="611280" y="474480"/>
              <a:ext cx="6883200" cy="86364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06360" y="567720"/>
              <a:ext cx="600084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80" y="349920"/>
              <a:ext cx="812880" cy="53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522360" y="312120"/>
              <a:ext cx="504720" cy="419400"/>
              <a:chOff x="522360" y="312120"/>
              <a:chExt cx="504720" cy="419400"/>
            </a:xfrm>
          </p:grpSpPr>
          <p:sp>
            <p:nvSpPr>
              <p:cNvPr id="529" name=""/>
              <p:cNvSpPr/>
              <p:nvPr/>
            </p:nvSpPr>
            <p:spPr>
              <a:xfrm>
                <a:off x="522360" y="594720"/>
                <a:ext cx="50472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2280" y="482040"/>
                <a:ext cx="353880" cy="2070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652320" y="312120"/>
                <a:ext cx="236160" cy="222120"/>
                <a:chOff x="652320" y="312120"/>
                <a:chExt cx="236160" cy="222120"/>
              </a:xfrm>
            </p:grpSpPr>
            <p:sp>
              <p:nvSpPr>
                <p:cNvPr id="532" name="未知"/>
                <p:cNvSpPr/>
                <p:nvPr/>
              </p:nvSpPr>
              <p:spPr>
                <a:xfrm rot="18580800">
                  <a:off x="699120" y="304560"/>
                  <a:ext cx="4968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未知"/>
                <p:cNvSpPr/>
                <p:nvPr/>
              </p:nvSpPr>
              <p:spPr>
                <a:xfrm rot="2400000">
                  <a:off x="788040" y="333360"/>
                  <a:ext cx="81000" cy="892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75080" y="410760"/>
                  <a:ext cx="15120" cy="12348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5" name=""/>
          <p:cNvSpPr/>
          <p:nvPr/>
        </p:nvSpPr>
        <p:spPr>
          <a:xfrm>
            <a:off x="395280" y="1557360"/>
            <a:ext cx="8352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回到办公室后一看表，已经十点四十五分，距离十一点的部门列会就只剩下十五分钟了，开完会就到午饭时间，下午回来再做吧，他这样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午饭回来小憩一下，一点半准备工作，有位  信赖的同事来请教一件事情，这样到了两点半，正准备做部门预算，这时经理来电话问小张，上周承诺的报表怎么还没有交上去，小张手忙脚乱赶快回报上去，时间来到了三点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正准备工作，同学</a:t>
            </a:r>
            <a:r>
              <a:rPr b="1" lang="en-US" sz="2800" spc="-1" strike="noStrike">
                <a:solidFill>
                  <a:srgbClr val="7a4832"/>
                </a:solidFill>
                <a:latin typeface="宋体"/>
                <a:ea typeface="宋体"/>
              </a:rPr>
              <a:t>QQ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来问晚上的聚会去哪里，两人在</a:t>
            </a:r>
            <a:r>
              <a:rPr b="1" lang="en-US" sz="2800" spc="-1" strike="noStrike">
                <a:solidFill>
                  <a:srgbClr val="7a4832"/>
                </a:solidFill>
                <a:latin typeface="宋体"/>
                <a:ea typeface="宋体"/>
              </a:rPr>
              <a:t>QQ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上商量来讨论去，时间又过去了快</a:t>
            </a:r>
            <a:r>
              <a:rPr b="1" lang="en-US" sz="2800" spc="-1" strike="noStrike">
                <a:solidFill>
                  <a:srgbClr val="7a4832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7a4832"/>
                </a:solidFill>
                <a:latin typeface="宋体"/>
                <a:ea typeface="宋体"/>
              </a:rPr>
              <a:t>个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03280" y="549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小张的一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E9B4-48BB-41EB-980E-88A8E112F62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250920" y="254160"/>
            <a:ext cx="5040360" cy="1199880"/>
            <a:chOff x="250920" y="254160"/>
            <a:chExt cx="5040360" cy="1199880"/>
          </a:xfrm>
        </p:grpSpPr>
        <p:sp>
          <p:nvSpPr>
            <p:cNvPr id="538" name=""/>
            <p:cNvSpPr/>
            <p:nvPr/>
          </p:nvSpPr>
          <p:spPr>
            <a:xfrm>
              <a:off x="404280" y="428040"/>
              <a:ext cx="4887000" cy="102600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6560" y="540000"/>
              <a:ext cx="42595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0920" y="280080"/>
              <a:ext cx="577080" cy="63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40920" y="254160"/>
              <a:ext cx="358200" cy="479160"/>
              <a:chOff x="340920" y="254160"/>
              <a:chExt cx="358200" cy="479160"/>
            </a:xfrm>
          </p:grpSpPr>
          <p:sp>
            <p:nvSpPr>
              <p:cNvPr id="542" name=""/>
              <p:cNvSpPr/>
              <p:nvPr/>
            </p:nvSpPr>
            <p:spPr>
              <a:xfrm>
                <a:off x="340920" y="570960"/>
                <a:ext cx="358200" cy="162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7440" y="437040"/>
                <a:ext cx="250920" cy="2462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425880" y="254160"/>
                <a:ext cx="188640" cy="244800"/>
                <a:chOff x="425880" y="254160"/>
                <a:chExt cx="188640" cy="244800"/>
              </a:xfrm>
            </p:grpSpPr>
            <p:sp>
              <p:nvSpPr>
                <p:cNvPr id="545" name="未知"/>
                <p:cNvSpPr/>
                <p:nvPr/>
              </p:nvSpPr>
              <p:spPr>
                <a:xfrm rot="18580800">
                  <a:off x="454680" y="261000"/>
                  <a:ext cx="5940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未知"/>
                <p:cNvSpPr/>
                <p:nvPr/>
              </p:nvSpPr>
              <p:spPr>
                <a:xfrm rot="2400000">
                  <a:off x="529200" y="259920"/>
                  <a:ext cx="57600" cy="1062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0200" y="352080"/>
                  <a:ext cx="10800" cy="14688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8" name=""/>
          <p:cNvSpPr/>
          <p:nvPr/>
        </p:nvSpPr>
        <p:spPr>
          <a:xfrm>
            <a:off x="324000" y="2205000"/>
            <a:ext cx="8351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正准备工作，突然想起一个重要顾客邮件还没有回，赶紧写邮件，发完后一看时间，呀，五点半了，做预算一时半会也做不完，算了，明天再做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71640" y="620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小张的一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1FF8-057F-4A64-8B93-ED50F3A49C4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6624720" cy="5013360"/>
          </a:xfrm>
          <a:prstGeom prst="rect">
            <a:avLst/>
          </a:prstGeom>
          <a:ln w="0">
            <a:noFill/>
          </a:ln>
        </p:spPr>
      </p:pic>
      <p:grpSp>
        <p:nvGrpSpPr>
          <p:cNvPr id="551" name=""/>
          <p:cNvGrpSpPr/>
          <p:nvPr/>
        </p:nvGrpSpPr>
        <p:grpSpPr>
          <a:xfrm>
            <a:off x="324000" y="-6120"/>
            <a:ext cx="5039640" cy="1199880"/>
            <a:chOff x="324000" y="-6120"/>
            <a:chExt cx="5039640" cy="1199880"/>
          </a:xfrm>
        </p:grpSpPr>
        <p:sp>
          <p:nvSpPr>
            <p:cNvPr id="552" name=""/>
            <p:cNvSpPr/>
            <p:nvPr/>
          </p:nvSpPr>
          <p:spPr>
            <a:xfrm>
              <a:off x="477000" y="167760"/>
              <a:ext cx="4886640" cy="1026000"/>
            </a:xfrm>
            <a:prstGeom prst="roundRect">
              <a:avLst>
                <a:gd name="adj" fmla="val 16667"/>
              </a:avLst>
            </a:prstGeom>
            <a:solidFill>
              <a:srgbClr val="8c007d"/>
            </a:solidFill>
            <a:ln w="9360">
              <a:solidFill>
                <a:srgbClr val="cc1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99640" y="279720"/>
              <a:ext cx="425916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4000" y="19800"/>
              <a:ext cx="577080" cy="63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414000" y="-6120"/>
              <a:ext cx="358200" cy="479160"/>
              <a:chOff x="414000" y="-6120"/>
              <a:chExt cx="358200" cy="479160"/>
            </a:xfrm>
          </p:grpSpPr>
          <p:sp>
            <p:nvSpPr>
              <p:cNvPr id="556" name=""/>
              <p:cNvSpPr/>
              <p:nvPr/>
            </p:nvSpPr>
            <p:spPr>
              <a:xfrm>
                <a:off x="414000" y="310680"/>
                <a:ext cx="358200" cy="162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0520" y="176760"/>
                <a:ext cx="250920" cy="2462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"/>
              <p:cNvGrpSpPr/>
              <p:nvPr/>
            </p:nvGrpSpPr>
            <p:grpSpPr>
              <a:xfrm>
                <a:off x="498960" y="-6120"/>
                <a:ext cx="188640" cy="244800"/>
                <a:chOff x="498960" y="-6120"/>
                <a:chExt cx="188640" cy="244800"/>
              </a:xfrm>
            </p:grpSpPr>
            <p:sp>
              <p:nvSpPr>
                <p:cNvPr id="559" name="未知"/>
                <p:cNvSpPr/>
                <p:nvPr/>
              </p:nvSpPr>
              <p:spPr>
                <a:xfrm rot="18580800">
                  <a:off x="527760" y="720"/>
                  <a:ext cx="5940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未知"/>
                <p:cNvSpPr/>
                <p:nvPr/>
              </p:nvSpPr>
              <p:spPr>
                <a:xfrm rot="2400000">
                  <a:off x="602280" y="0"/>
                  <a:ext cx="57600" cy="1062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93280" y="91800"/>
                  <a:ext cx="10800" cy="14688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2" name=""/>
          <p:cNvSpPr/>
          <p:nvPr/>
        </p:nvSpPr>
        <p:spPr>
          <a:xfrm>
            <a:off x="1332000" y="4046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时间四象限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38B6-F10F-45C4-8799-63ABA61742E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79280" y="71280"/>
            <a:ext cx="8844120" cy="6670800"/>
          </a:xfrm>
          <a:prstGeom prst="rect">
            <a:avLst/>
          </a:prstGeom>
          <a:ln w="0">
            <a:noFill/>
          </a:ln>
        </p:spPr>
      </p:pic>
      <p:grpSp>
        <p:nvGrpSpPr>
          <p:cNvPr id="564" name=""/>
          <p:cNvGrpSpPr/>
          <p:nvPr/>
        </p:nvGrpSpPr>
        <p:grpSpPr>
          <a:xfrm>
            <a:off x="755640" y="1052280"/>
            <a:ext cx="2087640" cy="5616360"/>
            <a:chOff x="755640" y="1052280"/>
            <a:chExt cx="2087640" cy="5616360"/>
          </a:xfrm>
        </p:grpSpPr>
        <p:sp>
          <p:nvSpPr>
            <p:cNvPr id="565" name="AutoShape 3"/>
            <p:cNvSpPr/>
            <p:nvPr/>
          </p:nvSpPr>
          <p:spPr>
            <a:xfrm rot="16200000">
              <a:off x="-1007640" y="2816280"/>
              <a:ext cx="5614920" cy="2087640"/>
            </a:xfrm>
            <a:prstGeom prst="roundRect">
              <a:avLst>
                <a:gd name="adj" fmla="val 16667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3"/>
            <p:cNvSpPr/>
            <p:nvPr/>
          </p:nvSpPr>
          <p:spPr>
            <a:xfrm rot="16200000">
              <a:off x="-1008720" y="3074400"/>
              <a:ext cx="5616360" cy="157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 txBox="1"/>
          <p:nvPr/>
        </p:nvSpPr>
        <p:spPr>
          <a:xfrm rot="5400000">
            <a:off x="-790920" y="2887560"/>
            <a:ext cx="518184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管理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A52E-DE3D-4160-82C0-8FBDABBC032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539640" y="232920"/>
            <a:ext cx="8280000" cy="1106640"/>
            <a:chOff x="539640" y="232920"/>
            <a:chExt cx="8280000" cy="1106640"/>
          </a:xfrm>
        </p:grpSpPr>
        <p:sp>
          <p:nvSpPr>
            <p:cNvPr id="569" name=""/>
            <p:cNvSpPr/>
            <p:nvPr/>
          </p:nvSpPr>
          <p:spPr>
            <a:xfrm>
              <a:off x="791280" y="411840"/>
              <a:ext cx="8028360" cy="927720"/>
            </a:xfrm>
            <a:prstGeom prst="roundRect">
              <a:avLst>
                <a:gd name="adj" fmla="val 16667"/>
              </a:avLst>
            </a:prstGeom>
            <a:solidFill>
              <a:srgbClr val="7a7602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85360" y="512280"/>
              <a:ext cx="699912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9640" y="277920"/>
              <a:ext cx="947880" cy="57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687600" y="232920"/>
              <a:ext cx="588600" cy="455040"/>
              <a:chOff x="687600" y="232920"/>
              <a:chExt cx="588600" cy="455040"/>
            </a:xfrm>
          </p:grpSpPr>
          <p:sp>
            <p:nvSpPr>
              <p:cNvPr id="573" name=""/>
              <p:cNvSpPr/>
              <p:nvPr/>
            </p:nvSpPr>
            <p:spPr>
              <a:xfrm>
                <a:off x="687600" y="541080"/>
                <a:ext cx="588600" cy="14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0840" y="420120"/>
                <a:ext cx="412560" cy="2224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840600" y="232920"/>
                <a:ext cx="270720" cy="243360"/>
                <a:chOff x="840600" y="232920"/>
                <a:chExt cx="270720" cy="243360"/>
              </a:xfrm>
            </p:grpSpPr>
            <p:sp>
              <p:nvSpPr>
                <p:cNvPr id="576" name="未知"/>
                <p:cNvSpPr/>
                <p:nvPr/>
              </p:nvSpPr>
              <p:spPr>
                <a:xfrm rot="18580800">
                  <a:off x="895680" y="222840"/>
                  <a:ext cx="53640" cy="1692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未知"/>
                <p:cNvSpPr/>
                <p:nvPr/>
              </p:nvSpPr>
              <p:spPr>
                <a:xfrm rot="2400000">
                  <a:off x="996840" y="259920"/>
                  <a:ext cx="94320" cy="96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982080" y="343440"/>
                  <a:ext cx="18000" cy="1328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9" name=""/>
          <p:cNvSpPr/>
          <p:nvPr/>
        </p:nvSpPr>
        <p:spPr>
          <a:xfrm>
            <a:off x="900000" y="1484280"/>
            <a:ext cx="7345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a4832"/>
                </a:solidFill>
                <a:latin typeface="Verdana"/>
                <a:ea typeface="新宋体"/>
              </a:rPr>
              <a:t>一个人从事一个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a4832"/>
                </a:solidFill>
                <a:latin typeface="Verdana"/>
                <a:ea typeface="新宋体"/>
              </a:rPr>
              <a:t>每天学习两小时，一年就会成为行业的专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a4832"/>
                </a:solidFill>
                <a:latin typeface="Verdana"/>
                <a:ea typeface="新宋体"/>
              </a:rPr>
              <a:t>每天学习两小时，三年就会成为行业的专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a4832"/>
                </a:solidFill>
                <a:latin typeface="Verdana"/>
                <a:ea typeface="新宋体"/>
              </a:rPr>
              <a:t>每天学习两小时，五年就会成为国家级专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a4832"/>
                </a:solidFill>
                <a:latin typeface="Verdana"/>
                <a:ea typeface="新宋体"/>
              </a:rPr>
              <a:t>每天学习两小时，八年就会成为世界级专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a4832"/>
                </a:solidFill>
                <a:latin typeface="Verdana"/>
                <a:ea typeface="新宋体"/>
              </a:rPr>
              <a:t>持之以恒，滴水穿石的故事，不是水的力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a4832"/>
                </a:solidFill>
                <a:latin typeface="Verdana"/>
                <a:ea typeface="新宋体"/>
              </a:rPr>
              <a:t>是 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新宋体"/>
              </a:rPr>
              <a:t>持之以恒 </a:t>
            </a:r>
            <a:r>
              <a:rPr b="0" lang="zh-CN" sz="2800" spc="-1" strike="noStrike">
                <a:solidFill>
                  <a:srgbClr val="7a4832"/>
                </a:solidFill>
                <a:latin typeface="Verdana"/>
                <a:ea typeface="新宋体"/>
              </a:rPr>
              <a:t>的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92360" y="54936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把学习作为一种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F43B-C805-4C46-BA88-102830F6A57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0" y="372960"/>
            <a:ext cx="8892720" cy="1098360"/>
            <a:chOff x="0" y="372960"/>
            <a:chExt cx="8892720" cy="1098360"/>
          </a:xfrm>
        </p:grpSpPr>
        <p:sp>
          <p:nvSpPr>
            <p:cNvPr id="582" name=""/>
            <p:cNvSpPr/>
            <p:nvPr/>
          </p:nvSpPr>
          <p:spPr>
            <a:xfrm>
              <a:off x="270360" y="554400"/>
              <a:ext cx="8622360" cy="916920"/>
            </a:xfrm>
            <a:prstGeom prst="roundRect">
              <a:avLst>
                <a:gd name="adj" fmla="val 16667"/>
              </a:avLst>
            </a:prstGeom>
            <a:solidFill>
              <a:srgbClr val="7a7602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15920" y="653760"/>
              <a:ext cx="751680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422280"/>
              <a:ext cx="1018080" cy="56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159120" y="372960"/>
              <a:ext cx="632160" cy="454320"/>
              <a:chOff x="159120" y="372960"/>
              <a:chExt cx="632160" cy="454320"/>
            </a:xfrm>
          </p:grpSpPr>
          <p:sp>
            <p:nvSpPr>
              <p:cNvPr id="586" name=""/>
              <p:cNvSpPr/>
              <p:nvPr/>
            </p:nvSpPr>
            <p:spPr>
              <a:xfrm>
                <a:off x="159120" y="682200"/>
                <a:ext cx="6321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9200" y="562680"/>
                <a:ext cx="443160" cy="2199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324720" y="372960"/>
                <a:ext cx="287280" cy="245160"/>
                <a:chOff x="324720" y="372960"/>
                <a:chExt cx="287280" cy="245160"/>
              </a:xfrm>
            </p:grpSpPr>
            <p:sp>
              <p:nvSpPr>
                <p:cNvPr id="589" name="未知"/>
                <p:cNvSpPr/>
                <p:nvPr/>
              </p:nvSpPr>
              <p:spPr>
                <a:xfrm rot="18580800">
                  <a:off x="384840" y="360360"/>
                  <a:ext cx="52920" cy="181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未知"/>
                <p:cNvSpPr/>
                <p:nvPr/>
              </p:nvSpPr>
              <p:spPr>
                <a:xfrm rot="2400000">
                  <a:off x="491760" y="404280"/>
                  <a:ext cx="101520" cy="950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75560" y="486720"/>
                  <a:ext cx="19080" cy="1314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2" name=""/>
          <p:cNvSpPr/>
          <p:nvPr/>
        </p:nvSpPr>
        <p:spPr>
          <a:xfrm>
            <a:off x="501480" y="6922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学历只代表过去，只有学习才能代表将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84360" y="1700280"/>
            <a:ext cx="48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齐白石        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李嘉诚       小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爱迪生       小学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华罗庚       初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刘德华       初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成   龙        初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黄光裕       初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爱因斯坦    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比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盖茨：大学未毕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ABA8-CC7E-425D-846B-65DE6ED72EB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0" y="372960"/>
            <a:ext cx="8892720" cy="1098360"/>
            <a:chOff x="0" y="372960"/>
            <a:chExt cx="8892720" cy="1098360"/>
          </a:xfrm>
        </p:grpSpPr>
        <p:sp>
          <p:nvSpPr>
            <p:cNvPr id="595" name=""/>
            <p:cNvSpPr/>
            <p:nvPr/>
          </p:nvSpPr>
          <p:spPr>
            <a:xfrm>
              <a:off x="270360" y="554400"/>
              <a:ext cx="8622360" cy="916920"/>
            </a:xfrm>
            <a:prstGeom prst="roundRect">
              <a:avLst>
                <a:gd name="adj" fmla="val 16667"/>
              </a:avLst>
            </a:prstGeom>
            <a:solidFill>
              <a:srgbClr val="7a7602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15920" y="653760"/>
              <a:ext cx="751680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422280"/>
              <a:ext cx="1018080" cy="56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159120" y="372960"/>
              <a:ext cx="632160" cy="454320"/>
              <a:chOff x="159120" y="372960"/>
              <a:chExt cx="632160" cy="454320"/>
            </a:xfrm>
          </p:grpSpPr>
          <p:sp>
            <p:nvSpPr>
              <p:cNvPr id="599" name=""/>
              <p:cNvSpPr/>
              <p:nvPr/>
            </p:nvSpPr>
            <p:spPr>
              <a:xfrm>
                <a:off x="159120" y="682200"/>
                <a:ext cx="6321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59200" y="562680"/>
                <a:ext cx="443160" cy="2199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324720" y="372960"/>
                <a:ext cx="287280" cy="245160"/>
                <a:chOff x="324720" y="372960"/>
                <a:chExt cx="287280" cy="245160"/>
              </a:xfrm>
            </p:grpSpPr>
            <p:sp>
              <p:nvSpPr>
                <p:cNvPr id="602" name="未知"/>
                <p:cNvSpPr/>
                <p:nvPr/>
              </p:nvSpPr>
              <p:spPr>
                <a:xfrm rot="18580800">
                  <a:off x="384840" y="360360"/>
                  <a:ext cx="52920" cy="181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未知"/>
                <p:cNvSpPr/>
                <p:nvPr/>
              </p:nvSpPr>
              <p:spPr>
                <a:xfrm rot="2400000">
                  <a:off x="491760" y="404280"/>
                  <a:ext cx="101520" cy="950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75560" y="486720"/>
                  <a:ext cx="19080" cy="1314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5" name=""/>
          <p:cNvSpPr/>
          <p:nvPr/>
        </p:nvSpPr>
        <p:spPr>
          <a:xfrm>
            <a:off x="501480" y="6922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用空杯心态去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57120" y="1843920"/>
            <a:ext cx="29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器满则溢，志满则退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92360" y="3211920"/>
            <a:ext cx="47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少而好学，如日出之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壮而好学，如日中之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老而好学，如炳烛之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077920" cy="32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9213-28BA-4442-8B5A-D8480F1B09C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41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a4832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今天你掉一根头发，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你会变成秃顶吗？不会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明天再掉一根呢？不会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天再掉一根呢？不会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没有新的头发长出来且每天都掉一根呢？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……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今天不学习，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被市场淘汰吗？不会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明天再不学习，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被市场淘汰吗？不会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天再不学习，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被市场淘汰吗？不会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果每天都不学习呢？</a:t>
            </a:r>
            <a:endParaRPr b="1" lang="en-US" sz="24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0" y="372960"/>
            <a:ext cx="8892720" cy="1098360"/>
            <a:chOff x="0" y="372960"/>
            <a:chExt cx="8892720" cy="1098360"/>
          </a:xfrm>
        </p:grpSpPr>
        <p:sp>
          <p:nvSpPr>
            <p:cNvPr id="611" name=""/>
            <p:cNvSpPr/>
            <p:nvPr/>
          </p:nvSpPr>
          <p:spPr>
            <a:xfrm>
              <a:off x="270360" y="554400"/>
              <a:ext cx="8622360" cy="916920"/>
            </a:xfrm>
            <a:prstGeom prst="roundRect">
              <a:avLst>
                <a:gd name="adj" fmla="val 16667"/>
              </a:avLst>
            </a:prstGeom>
            <a:solidFill>
              <a:srgbClr val="7a7602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15920" y="653760"/>
              <a:ext cx="751680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422280"/>
              <a:ext cx="1018080" cy="56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159120" y="372960"/>
              <a:ext cx="632160" cy="454320"/>
              <a:chOff x="159120" y="372960"/>
              <a:chExt cx="632160" cy="454320"/>
            </a:xfrm>
          </p:grpSpPr>
          <p:sp>
            <p:nvSpPr>
              <p:cNvPr id="615" name=""/>
              <p:cNvSpPr/>
              <p:nvPr/>
            </p:nvSpPr>
            <p:spPr>
              <a:xfrm>
                <a:off x="159120" y="682200"/>
                <a:ext cx="6321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200" y="562680"/>
                <a:ext cx="443160" cy="2199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324720" y="372960"/>
                <a:ext cx="287280" cy="245160"/>
                <a:chOff x="324720" y="372960"/>
                <a:chExt cx="287280" cy="245160"/>
              </a:xfrm>
            </p:grpSpPr>
            <p:sp>
              <p:nvSpPr>
                <p:cNvPr id="618" name="未知"/>
                <p:cNvSpPr/>
                <p:nvPr/>
              </p:nvSpPr>
              <p:spPr>
                <a:xfrm rot="18580800">
                  <a:off x="384840" y="360360"/>
                  <a:ext cx="52920" cy="181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未知"/>
                <p:cNvSpPr/>
                <p:nvPr/>
              </p:nvSpPr>
              <p:spPr>
                <a:xfrm rot="2400000">
                  <a:off x="491760" y="404280"/>
                  <a:ext cx="101520" cy="950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75560" y="486720"/>
                  <a:ext cx="19080" cy="1314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1" name=""/>
          <p:cNvSpPr/>
          <p:nvPr/>
        </p:nvSpPr>
        <p:spPr>
          <a:xfrm>
            <a:off x="3360600" y="692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不学习犹如温水青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5580000" y="3654360"/>
            <a:ext cx="2603520" cy="272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A6C2-0C48-4E46-846B-1FAC9D50F0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1920" y="4194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7561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联合国教科文组织出版的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学会生存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书中，有这么一句名言：未来的文盲，不再是不识字的人，而是没有学会怎样学习的人。</a:t>
            </a:r>
            <a:endParaRPr b="1" lang="en-US" sz="40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D1C3-C3EF-4658-9434-B16A478A6FD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00000" y="170028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新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人与人之间只有很小的差异，但这种差异造成往往造成了人生结果巨大的差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要么成功，要么失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宋体"/>
              </a:rPr>
              <a:t>! !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内心世界的一念之间导致结果完全不一样？是因为我们的心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! !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364F-3DC1-4361-9D0B-DEDC3410DD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一抄二改三研四发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抄：模仿学习成功人士的经验和方法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改：将这些方法改进为自己所用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研：研究出适合自己的模式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发：在前三步的基础上发展发扬，更趋完美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0" y="541440"/>
            <a:ext cx="5219640" cy="1074240"/>
            <a:chOff x="0" y="541440"/>
            <a:chExt cx="5219640" cy="1074240"/>
          </a:xfrm>
        </p:grpSpPr>
        <p:sp>
          <p:nvSpPr>
            <p:cNvPr id="627" name=""/>
            <p:cNvSpPr/>
            <p:nvPr/>
          </p:nvSpPr>
          <p:spPr>
            <a:xfrm>
              <a:off x="158760" y="699120"/>
              <a:ext cx="5060880" cy="916560"/>
            </a:xfrm>
            <a:prstGeom prst="roundRect">
              <a:avLst>
                <a:gd name="adj" fmla="val 16667"/>
              </a:avLst>
            </a:prstGeom>
            <a:solidFill>
              <a:srgbClr val="7a7602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6160" y="798480"/>
              <a:ext cx="441180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567000"/>
              <a:ext cx="597600" cy="563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93240" y="541440"/>
              <a:ext cx="370800" cy="430560"/>
              <a:chOff x="93240" y="541440"/>
              <a:chExt cx="370800" cy="430560"/>
            </a:xfrm>
          </p:grpSpPr>
          <p:sp>
            <p:nvSpPr>
              <p:cNvPr id="631" name=""/>
              <p:cNvSpPr/>
              <p:nvPr/>
            </p:nvSpPr>
            <p:spPr>
              <a:xfrm>
                <a:off x="93240" y="826920"/>
                <a:ext cx="37080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51920" y="707400"/>
                <a:ext cx="259920" cy="2199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183240" y="541440"/>
                <a:ext cx="187920" cy="221400"/>
                <a:chOff x="183240" y="541440"/>
                <a:chExt cx="187920" cy="221400"/>
              </a:xfrm>
            </p:grpSpPr>
            <p:sp>
              <p:nvSpPr>
                <p:cNvPr id="634" name="未知"/>
                <p:cNvSpPr/>
                <p:nvPr/>
              </p:nvSpPr>
              <p:spPr>
                <a:xfrm rot="18580800">
                  <a:off x="214560" y="542520"/>
                  <a:ext cx="5292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未知"/>
                <p:cNvSpPr/>
                <p:nvPr/>
              </p:nvSpPr>
              <p:spPr>
                <a:xfrm rot="2400000">
                  <a:off x="288000" y="549360"/>
                  <a:ext cx="59400" cy="950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78640" y="631440"/>
                  <a:ext cx="11160" cy="13140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7" name=""/>
          <p:cNvSpPr/>
          <p:nvPr/>
        </p:nvSpPr>
        <p:spPr>
          <a:xfrm>
            <a:off x="2104200" y="836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的捷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6732720" y="1628640"/>
            <a:ext cx="220032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D1F5-8D7D-45FD-9F5C-49C5C28BC3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grpSp>
        <p:nvGrpSpPr>
          <p:cNvPr id="640" name=""/>
          <p:cNvGrpSpPr/>
          <p:nvPr/>
        </p:nvGrpSpPr>
        <p:grpSpPr>
          <a:xfrm>
            <a:off x="4356000" y="333360"/>
            <a:ext cx="2303640" cy="5688000"/>
            <a:chOff x="4356000" y="333360"/>
            <a:chExt cx="2303640" cy="5688000"/>
          </a:xfrm>
        </p:grpSpPr>
        <p:sp>
          <p:nvSpPr>
            <p:cNvPr id="641" name="AutoShape 3"/>
            <p:cNvSpPr/>
            <p:nvPr/>
          </p:nvSpPr>
          <p:spPr>
            <a:xfrm rot="16200000">
              <a:off x="2664360" y="2025360"/>
              <a:ext cx="5686560" cy="2303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3"/>
            <p:cNvSpPr/>
            <p:nvPr/>
          </p:nvSpPr>
          <p:spPr>
            <a:xfrm rot="16200000">
              <a:off x="2663640" y="2310120"/>
              <a:ext cx="5688000" cy="17341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 rot="5400000">
            <a:off x="2915280" y="2635920"/>
            <a:ext cx="511164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行动管理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D5A5-4E2B-41D2-A3D5-B6A95DC5BF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燃性的人、可燃性的人、不燃性的人，这里所谓的“燃性”，是指对事物的热情和行动力。 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自燃性的人是指，最先对事物开始采取行动，将其活力和能量分给周围人的人。 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可燃性的人，是指受到自燃性的人或其他已活跃起来的人的影响，能够活跃起来的人。 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  <a:ea typeface="宋体"/>
              </a:rPr>
              <a:t>不燃性的人是指，即使从周围受到影响，但也不为所动，反而打击周围人热情或意愿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50920" y="324720"/>
            <a:ext cx="5041800" cy="984960"/>
            <a:chOff x="250920" y="324720"/>
            <a:chExt cx="5041800" cy="984960"/>
          </a:xfrm>
        </p:grpSpPr>
        <p:sp>
          <p:nvSpPr>
            <p:cNvPr id="646" name=""/>
            <p:cNvSpPr/>
            <p:nvPr/>
          </p:nvSpPr>
          <p:spPr>
            <a:xfrm>
              <a:off x="404280" y="470520"/>
              <a:ext cx="4888440" cy="8391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25840" y="561960"/>
              <a:ext cx="4262760" cy="54864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0920" y="349560"/>
              <a:ext cx="577080" cy="51624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340920" y="324720"/>
              <a:ext cx="358200" cy="395640"/>
              <a:chOff x="340920" y="324720"/>
              <a:chExt cx="358200" cy="395640"/>
            </a:xfrm>
          </p:grpSpPr>
          <p:sp>
            <p:nvSpPr>
              <p:cNvPr id="650" name=""/>
              <p:cNvSpPr/>
              <p:nvPr/>
            </p:nvSpPr>
            <p:spPr>
              <a:xfrm>
                <a:off x="340920" y="587520"/>
                <a:ext cx="358200" cy="13284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7440" y="477720"/>
                <a:ext cx="250920" cy="20124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429120" y="324720"/>
                <a:ext cx="179280" cy="204120"/>
                <a:chOff x="429120" y="324720"/>
                <a:chExt cx="179280" cy="204120"/>
              </a:xfrm>
            </p:grpSpPr>
            <p:sp>
              <p:nvSpPr>
                <p:cNvPr id="653" name="未知"/>
                <p:cNvSpPr/>
                <p:nvPr/>
              </p:nvSpPr>
              <p:spPr>
                <a:xfrm rot="18580800">
                  <a:off x="459720" y="324720"/>
                  <a:ext cx="4860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未知"/>
                <p:cNvSpPr/>
                <p:nvPr/>
              </p:nvSpPr>
              <p:spPr>
                <a:xfrm rot="2400000">
                  <a:off x="529200" y="333360"/>
                  <a:ext cx="57600" cy="87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20200" y="408600"/>
                  <a:ext cx="10800" cy="1202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6" name=""/>
          <p:cNvSpPr/>
          <p:nvPr/>
        </p:nvSpPr>
        <p:spPr>
          <a:xfrm>
            <a:off x="1403280" y="54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稻盛和夫的哲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EF7C-A826-40E8-815F-531FF9DA90F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324000" y="2492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朝着一定目标走去是“志”，一鼓作气中途绝不停止是“气”，两者结合起来时“志气”，一切事业的成败都取决于此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endParaRPr b="1" lang="en-US" sz="32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50920" y="251640"/>
            <a:ext cx="5041800" cy="984960"/>
            <a:chOff x="250920" y="251640"/>
            <a:chExt cx="5041800" cy="984960"/>
          </a:xfrm>
        </p:grpSpPr>
        <p:sp>
          <p:nvSpPr>
            <p:cNvPr id="659" name=""/>
            <p:cNvSpPr/>
            <p:nvPr/>
          </p:nvSpPr>
          <p:spPr>
            <a:xfrm>
              <a:off x="404280" y="397440"/>
              <a:ext cx="4888440" cy="8391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5840" y="488880"/>
              <a:ext cx="4262760" cy="54864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0920" y="276480"/>
              <a:ext cx="577080" cy="51624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340920" y="251640"/>
              <a:ext cx="358200" cy="395640"/>
              <a:chOff x="340920" y="251640"/>
              <a:chExt cx="358200" cy="395640"/>
            </a:xfrm>
          </p:grpSpPr>
          <p:sp>
            <p:nvSpPr>
              <p:cNvPr id="663" name=""/>
              <p:cNvSpPr/>
              <p:nvPr/>
            </p:nvSpPr>
            <p:spPr>
              <a:xfrm>
                <a:off x="340920" y="514440"/>
                <a:ext cx="358200" cy="13284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7440" y="404640"/>
                <a:ext cx="250920" cy="20124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429120" y="251640"/>
                <a:ext cx="179280" cy="204120"/>
                <a:chOff x="429120" y="251640"/>
                <a:chExt cx="179280" cy="204120"/>
              </a:xfrm>
            </p:grpSpPr>
            <p:sp>
              <p:nvSpPr>
                <p:cNvPr id="666" name="未知"/>
                <p:cNvSpPr/>
                <p:nvPr/>
              </p:nvSpPr>
              <p:spPr>
                <a:xfrm rot="18580800">
                  <a:off x="459720" y="251640"/>
                  <a:ext cx="4860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未知"/>
                <p:cNvSpPr/>
                <p:nvPr/>
              </p:nvSpPr>
              <p:spPr>
                <a:xfrm rot="2400000">
                  <a:off x="529200" y="260280"/>
                  <a:ext cx="57600" cy="87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20200" y="335520"/>
                  <a:ext cx="10800" cy="1202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9" name=""/>
          <p:cNvSpPr/>
          <p:nvPr/>
        </p:nvSpPr>
        <p:spPr>
          <a:xfrm>
            <a:off x="971640" y="54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戴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卡耐基的“志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3C38-6CED-4782-82BA-7616E23CC2D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304920" y="1773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a4832"/>
                </a:solidFill>
                <a:latin typeface="Verdana"/>
                <a:ea typeface="宋体"/>
              </a:rPr>
              <a:t>    </a:t>
            </a: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a4832"/>
                </a:solidFill>
                <a:latin typeface="Verdana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、失败不够多，痛苦不够深；</a:t>
            </a: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、缺乏明确的目标。</a:t>
            </a: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251640"/>
            <a:ext cx="5041800" cy="984960"/>
            <a:chOff x="250920" y="251640"/>
            <a:chExt cx="5041800" cy="984960"/>
          </a:xfrm>
        </p:grpSpPr>
        <p:sp>
          <p:nvSpPr>
            <p:cNvPr id="672" name=""/>
            <p:cNvSpPr/>
            <p:nvPr/>
          </p:nvSpPr>
          <p:spPr>
            <a:xfrm>
              <a:off x="404280" y="397440"/>
              <a:ext cx="4888440" cy="8391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25840" y="488880"/>
              <a:ext cx="4262760" cy="54864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0920" y="276480"/>
              <a:ext cx="577080" cy="51624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40920" y="251640"/>
              <a:ext cx="358200" cy="395640"/>
              <a:chOff x="340920" y="251640"/>
              <a:chExt cx="358200" cy="395640"/>
            </a:xfrm>
          </p:grpSpPr>
          <p:sp>
            <p:nvSpPr>
              <p:cNvPr id="676" name=""/>
              <p:cNvSpPr/>
              <p:nvPr/>
            </p:nvSpPr>
            <p:spPr>
              <a:xfrm>
                <a:off x="340920" y="514440"/>
                <a:ext cx="358200" cy="13284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7440" y="404640"/>
                <a:ext cx="250920" cy="20124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429120" y="251640"/>
                <a:ext cx="179280" cy="204120"/>
                <a:chOff x="429120" y="251640"/>
                <a:chExt cx="179280" cy="204120"/>
              </a:xfrm>
            </p:grpSpPr>
            <p:sp>
              <p:nvSpPr>
                <p:cNvPr id="679" name="未知"/>
                <p:cNvSpPr/>
                <p:nvPr/>
              </p:nvSpPr>
              <p:spPr>
                <a:xfrm rot="18580800">
                  <a:off x="459720" y="251640"/>
                  <a:ext cx="4860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未知"/>
                <p:cNvSpPr/>
                <p:nvPr/>
              </p:nvSpPr>
              <p:spPr>
                <a:xfrm rot="2400000">
                  <a:off x="529200" y="260280"/>
                  <a:ext cx="57600" cy="87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20200" y="335520"/>
                  <a:ext cx="10800" cy="1202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2" name=""/>
          <p:cNvSpPr/>
          <p:nvPr/>
        </p:nvSpPr>
        <p:spPr>
          <a:xfrm>
            <a:off x="1258920" y="47628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人为什么不行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AD25-6799-47D5-8C23-D7B11053E5E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304920" y="1773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是逃离痛苦，因为痛苦太深，你会规避，会下定决心改变；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是追求快乐，只有行动才有收获，才能享受成功的喜悦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50920" y="251640"/>
            <a:ext cx="5041800" cy="984960"/>
            <a:chOff x="250920" y="251640"/>
            <a:chExt cx="5041800" cy="984960"/>
          </a:xfrm>
        </p:grpSpPr>
        <p:sp>
          <p:nvSpPr>
            <p:cNvPr id="685" name=""/>
            <p:cNvSpPr/>
            <p:nvPr/>
          </p:nvSpPr>
          <p:spPr>
            <a:xfrm>
              <a:off x="404280" y="397440"/>
              <a:ext cx="4888440" cy="8391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5840" y="488880"/>
              <a:ext cx="4262760" cy="54864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920" y="276480"/>
              <a:ext cx="577080" cy="51624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340920" y="251640"/>
              <a:ext cx="358200" cy="395640"/>
              <a:chOff x="340920" y="251640"/>
              <a:chExt cx="358200" cy="395640"/>
            </a:xfrm>
          </p:grpSpPr>
          <p:sp>
            <p:nvSpPr>
              <p:cNvPr id="689" name=""/>
              <p:cNvSpPr/>
              <p:nvPr/>
            </p:nvSpPr>
            <p:spPr>
              <a:xfrm>
                <a:off x="340920" y="514440"/>
                <a:ext cx="358200" cy="13284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97440" y="404640"/>
                <a:ext cx="250920" cy="20124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429120" y="251640"/>
                <a:ext cx="179280" cy="204120"/>
                <a:chOff x="429120" y="251640"/>
                <a:chExt cx="179280" cy="204120"/>
              </a:xfrm>
            </p:grpSpPr>
            <p:sp>
              <p:nvSpPr>
                <p:cNvPr id="692" name="未知"/>
                <p:cNvSpPr/>
                <p:nvPr/>
              </p:nvSpPr>
              <p:spPr>
                <a:xfrm rot="18580800">
                  <a:off x="459720" y="251640"/>
                  <a:ext cx="4860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未知"/>
                <p:cNvSpPr/>
                <p:nvPr/>
              </p:nvSpPr>
              <p:spPr>
                <a:xfrm rot="2400000">
                  <a:off x="529200" y="260280"/>
                  <a:ext cx="57600" cy="87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20200" y="335520"/>
                  <a:ext cx="10800" cy="1202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5" name=""/>
          <p:cNvSpPr/>
          <p:nvPr/>
        </p:nvSpPr>
        <p:spPr>
          <a:xfrm>
            <a:off x="111600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行动力的两大根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CD9C0-104C-4D2F-B944-10538B5422D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332000" y="404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新宋体"/>
              </a:rPr>
              <a:t>佛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0920" y="1341360"/>
            <a:ext cx="835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新宋体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有座寺庙需要雕刻一座佛像，僧人发现有块非常有灵气的的石头，就对石头说：你被选中做佛石了，可以雕刻成佛像供人膜拜。石头听了非常高兴。可僧人又说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在雕刻的过程中会非常痛苦，你能忍受吗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?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石头想了想同意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在雕刻的过程中千锤百炼的痛苦远远超过了它的想象，没几天石头决定放弃了，工匠只好把它扔到了山脚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僧人又去挑选了另外的石头，石头欣然同意，工匠二话不说的就开始雕刻了，山脚下的石头每天都能听到山顶上传来痛苦的呻吟声，暗自庆幸自己躲过了一劫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          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新宋体"/>
              </a:rPr>
              <a:t>没多久，佛像雕刻好了，那石头成了万人敬仰的佛，每天来的香客不断，上山的路成了泥泞起来，工匠决定铺一条石子路，看到了山脚下的那块大石头，于是将它敲得粉碎铺成了一条石子路，这块原来的佛石每天忍受着香客的踩踏时，它后悔了，如果当初能够经受磨练，坚持下去，那今天被人膜拜的就是自己了，可后悔有什么用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1112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50920" y="251640"/>
            <a:ext cx="5041800" cy="984960"/>
            <a:chOff x="250920" y="251640"/>
            <a:chExt cx="5041800" cy="984960"/>
          </a:xfrm>
        </p:grpSpPr>
        <p:sp>
          <p:nvSpPr>
            <p:cNvPr id="700" name=""/>
            <p:cNvSpPr/>
            <p:nvPr/>
          </p:nvSpPr>
          <p:spPr>
            <a:xfrm>
              <a:off x="404280" y="397440"/>
              <a:ext cx="4888440" cy="8391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5840" y="488880"/>
              <a:ext cx="4262760" cy="54864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0920" y="276480"/>
              <a:ext cx="577080" cy="51624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340920" y="251640"/>
              <a:ext cx="358200" cy="395640"/>
              <a:chOff x="340920" y="251640"/>
              <a:chExt cx="358200" cy="395640"/>
            </a:xfrm>
          </p:grpSpPr>
          <p:sp>
            <p:nvSpPr>
              <p:cNvPr id="704" name=""/>
              <p:cNvSpPr/>
              <p:nvPr/>
            </p:nvSpPr>
            <p:spPr>
              <a:xfrm>
                <a:off x="340920" y="514440"/>
                <a:ext cx="358200" cy="13284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97440" y="404640"/>
                <a:ext cx="250920" cy="20124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429120" y="251640"/>
                <a:ext cx="179280" cy="204120"/>
                <a:chOff x="429120" y="251640"/>
                <a:chExt cx="179280" cy="204120"/>
              </a:xfrm>
            </p:grpSpPr>
            <p:sp>
              <p:nvSpPr>
                <p:cNvPr id="707" name="未知"/>
                <p:cNvSpPr/>
                <p:nvPr/>
              </p:nvSpPr>
              <p:spPr>
                <a:xfrm rot="18580800">
                  <a:off x="459720" y="251640"/>
                  <a:ext cx="4860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未知"/>
                <p:cNvSpPr/>
                <p:nvPr/>
              </p:nvSpPr>
              <p:spPr>
                <a:xfrm rot="2400000">
                  <a:off x="529200" y="260280"/>
                  <a:ext cx="57600" cy="87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20200" y="335520"/>
                  <a:ext cx="10800" cy="1202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0" name=""/>
          <p:cNvSpPr/>
          <p:nvPr/>
        </p:nvSpPr>
        <p:spPr>
          <a:xfrm>
            <a:off x="1332000" y="47628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行动的磨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E178-B35D-4A79-9027-1AE36691CE7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2195280" y="4653000"/>
            <a:ext cx="4174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合理的要求是锻炼，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不合理的要求是磨练，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过分的要求是锤炼！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250920" y="324720"/>
            <a:ext cx="5041800" cy="984960"/>
            <a:chOff x="250920" y="324720"/>
            <a:chExt cx="5041800" cy="984960"/>
          </a:xfrm>
        </p:grpSpPr>
        <p:sp>
          <p:nvSpPr>
            <p:cNvPr id="713" name=""/>
            <p:cNvSpPr/>
            <p:nvPr/>
          </p:nvSpPr>
          <p:spPr>
            <a:xfrm>
              <a:off x="404280" y="470520"/>
              <a:ext cx="4888440" cy="8391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5840" y="561960"/>
              <a:ext cx="4262760" cy="54864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0920" y="349560"/>
              <a:ext cx="577080" cy="51624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340920" y="324720"/>
              <a:ext cx="358200" cy="395640"/>
              <a:chOff x="340920" y="324720"/>
              <a:chExt cx="358200" cy="395640"/>
            </a:xfrm>
          </p:grpSpPr>
          <p:sp>
            <p:nvSpPr>
              <p:cNvPr id="717" name=""/>
              <p:cNvSpPr/>
              <p:nvPr/>
            </p:nvSpPr>
            <p:spPr>
              <a:xfrm>
                <a:off x="340920" y="587520"/>
                <a:ext cx="358200" cy="13284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97440" y="477720"/>
                <a:ext cx="250920" cy="20124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429120" y="324720"/>
                <a:ext cx="179280" cy="204120"/>
                <a:chOff x="429120" y="324720"/>
                <a:chExt cx="179280" cy="204120"/>
              </a:xfrm>
            </p:grpSpPr>
            <p:sp>
              <p:nvSpPr>
                <p:cNvPr id="720" name="未知"/>
                <p:cNvSpPr/>
                <p:nvPr/>
              </p:nvSpPr>
              <p:spPr>
                <a:xfrm rot="18580800">
                  <a:off x="459720" y="324720"/>
                  <a:ext cx="4860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未知"/>
                <p:cNvSpPr/>
                <p:nvPr/>
              </p:nvSpPr>
              <p:spPr>
                <a:xfrm rot="2400000">
                  <a:off x="529200" y="333360"/>
                  <a:ext cx="57600" cy="87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20200" y="408600"/>
                  <a:ext cx="10800" cy="1202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3" name=""/>
          <p:cNvSpPr/>
          <p:nvPr/>
        </p:nvSpPr>
        <p:spPr>
          <a:xfrm>
            <a:off x="1332000" y="54936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行动的磨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26920" y="1557360"/>
            <a:ext cx="72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无完人，不经过磨砺、雕刻、修正是不会让人接受、欣赏和膜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无法忍受被人雕刻的疼痛，结果是一辈子要叫被人踩在脚下无人问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不能用行动来改变自己，不能坚持提升自己，你的命运只会停滞不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4AEF-B2FC-45AF-95C8-75FED02FD51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"/>
          <p:cNvGrpSpPr/>
          <p:nvPr/>
        </p:nvGrpSpPr>
        <p:grpSpPr>
          <a:xfrm>
            <a:off x="250920" y="251640"/>
            <a:ext cx="5041800" cy="984960"/>
            <a:chOff x="250920" y="251640"/>
            <a:chExt cx="5041800" cy="984960"/>
          </a:xfrm>
        </p:grpSpPr>
        <p:sp>
          <p:nvSpPr>
            <p:cNvPr id="726" name=""/>
            <p:cNvSpPr/>
            <p:nvPr/>
          </p:nvSpPr>
          <p:spPr>
            <a:xfrm>
              <a:off x="404280" y="397440"/>
              <a:ext cx="4888440" cy="8391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5840" y="488880"/>
              <a:ext cx="4262760" cy="54864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0920" y="276480"/>
              <a:ext cx="577080" cy="51624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340920" y="251640"/>
              <a:ext cx="358200" cy="395640"/>
              <a:chOff x="340920" y="251640"/>
              <a:chExt cx="358200" cy="395640"/>
            </a:xfrm>
          </p:grpSpPr>
          <p:sp>
            <p:nvSpPr>
              <p:cNvPr id="730" name=""/>
              <p:cNvSpPr/>
              <p:nvPr/>
            </p:nvSpPr>
            <p:spPr>
              <a:xfrm>
                <a:off x="340920" y="514440"/>
                <a:ext cx="358200" cy="13284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97440" y="404640"/>
                <a:ext cx="250920" cy="20124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2" name=""/>
              <p:cNvGrpSpPr/>
              <p:nvPr/>
            </p:nvGrpSpPr>
            <p:grpSpPr>
              <a:xfrm>
                <a:off x="429120" y="251640"/>
                <a:ext cx="179280" cy="204120"/>
                <a:chOff x="429120" y="251640"/>
                <a:chExt cx="179280" cy="204120"/>
              </a:xfrm>
            </p:grpSpPr>
            <p:sp>
              <p:nvSpPr>
                <p:cNvPr id="733" name="未知"/>
                <p:cNvSpPr/>
                <p:nvPr/>
              </p:nvSpPr>
              <p:spPr>
                <a:xfrm rot="18580800">
                  <a:off x="459720" y="251640"/>
                  <a:ext cx="48600" cy="1029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未知"/>
                <p:cNvSpPr/>
                <p:nvPr/>
              </p:nvSpPr>
              <p:spPr>
                <a:xfrm rot="2400000">
                  <a:off x="529200" y="260280"/>
                  <a:ext cx="57600" cy="87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20200" y="335520"/>
                  <a:ext cx="10800" cy="1202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6" name=""/>
          <p:cNvSpPr/>
          <p:nvPr/>
        </p:nvSpPr>
        <p:spPr>
          <a:xfrm>
            <a:off x="395280" y="476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行动力就是执行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4000" y="1484280"/>
            <a:ext cx="83534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乘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乘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乘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%90%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乘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90%=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.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.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.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.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.1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从小到大考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是及格线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很难，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是一个可以引以为豪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工作中也是如此，把工作做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太危险，会被公司炒鱿鱼，做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太辛苦，也不现实，把工作做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很不错了，这种说法似乎很有道理，但工作的过程是由一个一个细微的环节串联而成的，每个环节都以上一个环节为基础，环环相扣的一系列过程结束后，很不错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结果可能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FFF7-3636-490C-8C45-1992B3B2A99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知道是没有用的</a:t>
            </a:r>
            <a:endParaRPr b="1" lang="en-US" sz="40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相信并做到才有用</a:t>
            </a:r>
            <a:endParaRPr b="1" lang="en-US" sz="40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知道和做到之间是有距离的，从知道到做到，中间要靠行动去连接，唯有行动才能成功。</a:t>
            </a:r>
            <a:endParaRPr b="1" lang="en-US" sz="40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50920" y="246960"/>
            <a:ext cx="5760720" cy="989640"/>
            <a:chOff x="250920" y="246960"/>
            <a:chExt cx="5760720" cy="989640"/>
          </a:xfrm>
        </p:grpSpPr>
        <p:sp>
          <p:nvSpPr>
            <p:cNvPr id="740" name=""/>
            <p:cNvSpPr/>
            <p:nvPr/>
          </p:nvSpPr>
          <p:spPr>
            <a:xfrm>
              <a:off x="425880" y="397440"/>
              <a:ext cx="5585760" cy="8391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07920" y="488880"/>
              <a:ext cx="4870800" cy="54864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0920" y="276480"/>
              <a:ext cx="659520" cy="51624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353880" y="246960"/>
              <a:ext cx="409320" cy="400320"/>
              <a:chOff x="353880" y="246960"/>
              <a:chExt cx="409320" cy="400320"/>
            </a:xfrm>
          </p:grpSpPr>
          <p:sp>
            <p:nvSpPr>
              <p:cNvPr id="744" name=""/>
              <p:cNvSpPr/>
              <p:nvPr/>
            </p:nvSpPr>
            <p:spPr>
              <a:xfrm>
                <a:off x="353880" y="514440"/>
                <a:ext cx="409320" cy="13284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18680" y="404640"/>
                <a:ext cx="286920" cy="20124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456840" y="246960"/>
                <a:ext cx="198000" cy="208800"/>
                <a:chOff x="456840" y="246960"/>
                <a:chExt cx="198000" cy="208800"/>
              </a:xfrm>
            </p:grpSpPr>
            <p:sp>
              <p:nvSpPr>
                <p:cNvPr id="747" name="未知"/>
                <p:cNvSpPr/>
                <p:nvPr/>
              </p:nvSpPr>
              <p:spPr>
                <a:xfrm rot="18580800">
                  <a:off x="493200" y="244080"/>
                  <a:ext cx="48600" cy="1177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未知"/>
                <p:cNvSpPr/>
                <p:nvPr/>
              </p:nvSpPr>
              <p:spPr>
                <a:xfrm rot="2400000">
                  <a:off x="568800" y="260280"/>
                  <a:ext cx="65520" cy="871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58720" y="335520"/>
                  <a:ext cx="12240" cy="1202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0" name=""/>
          <p:cNvSpPr/>
          <p:nvPr/>
        </p:nvSpPr>
        <p:spPr>
          <a:xfrm>
            <a:off x="1116000" y="47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行动是通往理想的桥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1EC2-5C7E-4A26-94D5-B76602029BF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628640"/>
            <a:ext cx="70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美国行为科学家做出一个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781360"/>
            <a:ext cx="70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新宋体"/>
              </a:rPr>
              <a:t>成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新宋体"/>
              </a:rPr>
              <a:t>=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新宋体"/>
              </a:rPr>
              <a:t>心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新宋体"/>
              </a:rPr>
              <a:t>X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新宋体"/>
              </a:rPr>
              <a:t>能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005360"/>
            <a:ext cx="70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能力：知识，方法，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869000"/>
            <a:ext cx="43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心态：积极     消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5805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态度一瞬之间改变人生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39F8-2947-413A-A241-30A5B7CC68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过去不等于未来。</a:t>
            </a:r>
            <a:endParaRPr b="1" lang="en-US" sz="32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过去成功或失败，并不代表将来能成功或失败，未来靠的是现在，现在做什么，怎样做，要达到什么目标，才能决定未来是怎样。</a:t>
            </a:r>
            <a:endParaRPr b="1" lang="en-US" sz="3200" spc="-1" strike="noStrike">
              <a:solidFill>
                <a:srgbClr val="7a4832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44b9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只有立即行动起来，未来才有希望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1" lang="en-US" sz="3200" spc="-1" strike="noStrike">
              <a:solidFill>
                <a:srgbClr val="7a4832"/>
              </a:solidFill>
              <a:latin typeface="Verdana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181440"/>
            <a:ext cx="5400360" cy="1159560"/>
            <a:chOff x="0" y="181440"/>
            <a:chExt cx="5400360" cy="1159560"/>
          </a:xfrm>
        </p:grpSpPr>
        <p:sp>
          <p:nvSpPr>
            <p:cNvPr id="753" name=""/>
            <p:cNvSpPr/>
            <p:nvPr/>
          </p:nvSpPr>
          <p:spPr>
            <a:xfrm>
              <a:off x="164160" y="350640"/>
              <a:ext cx="5236200" cy="9903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5600" y="459000"/>
              <a:ext cx="4566240" cy="82368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0" y="208080"/>
              <a:ext cx="618120" cy="60912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96480" y="181440"/>
              <a:ext cx="383760" cy="464400"/>
              <a:chOff x="96480" y="181440"/>
              <a:chExt cx="383760" cy="464400"/>
            </a:xfrm>
          </p:grpSpPr>
          <p:sp>
            <p:nvSpPr>
              <p:cNvPr id="757" name=""/>
              <p:cNvSpPr/>
              <p:nvPr/>
            </p:nvSpPr>
            <p:spPr>
              <a:xfrm>
                <a:off x="96480" y="488880"/>
                <a:ext cx="383760" cy="15696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7320" y="359640"/>
                <a:ext cx="268920" cy="23760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9" name=""/>
              <p:cNvGrpSpPr/>
              <p:nvPr/>
            </p:nvGrpSpPr>
            <p:grpSpPr>
              <a:xfrm>
                <a:off x="189360" y="181440"/>
                <a:ext cx="196560" cy="237960"/>
                <a:chOff x="189360" y="181440"/>
                <a:chExt cx="196560" cy="237960"/>
              </a:xfrm>
            </p:grpSpPr>
            <p:sp>
              <p:nvSpPr>
                <p:cNvPr id="760" name="未知"/>
                <p:cNvSpPr/>
                <p:nvPr/>
              </p:nvSpPr>
              <p:spPr>
                <a:xfrm rot="18580800">
                  <a:off x="221400" y="184320"/>
                  <a:ext cx="57240" cy="1105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未知"/>
                <p:cNvSpPr/>
                <p:nvPr/>
              </p:nvSpPr>
              <p:spPr>
                <a:xfrm rot="2400000">
                  <a:off x="298440" y="189000"/>
                  <a:ext cx="61560" cy="1026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88720" y="277560"/>
                  <a:ext cx="11520" cy="1418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3" name=""/>
          <p:cNvSpPr/>
          <p:nvPr/>
        </p:nvSpPr>
        <p:spPr>
          <a:xfrm>
            <a:off x="971640" y="476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改变自己，立即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0E06-4F0C-49B4-942A-01A99825162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0" y="160200"/>
            <a:ext cx="8819640" cy="1180800"/>
            <a:chOff x="0" y="160200"/>
            <a:chExt cx="8819640" cy="1180800"/>
          </a:xfrm>
        </p:grpSpPr>
        <p:sp>
          <p:nvSpPr>
            <p:cNvPr id="765" name=""/>
            <p:cNvSpPr/>
            <p:nvPr/>
          </p:nvSpPr>
          <p:spPr>
            <a:xfrm>
              <a:off x="268200" y="350640"/>
              <a:ext cx="8551440" cy="990360"/>
            </a:xfrm>
            <a:prstGeom prst="roundRect">
              <a:avLst>
                <a:gd name="adj" fmla="val 16667"/>
              </a:avLst>
            </a:prstGeom>
            <a:solidFill>
              <a:srgbClr val="518d47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05840" y="459000"/>
              <a:ext cx="7457040" cy="823680"/>
            </a:xfrm>
            <a:prstGeom prst="rect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208080"/>
              <a:ext cx="1009800" cy="609120"/>
            </a:xfrm>
            <a:prstGeom prst="ellipse">
              <a:avLst/>
            </a:prstGeom>
            <a:solidFill>
              <a:srgbClr val="518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157680" y="160200"/>
              <a:ext cx="626760" cy="485640"/>
              <a:chOff x="157680" y="160200"/>
              <a:chExt cx="626760" cy="485640"/>
            </a:xfrm>
          </p:grpSpPr>
          <p:sp>
            <p:nvSpPr>
              <p:cNvPr id="769" name=""/>
              <p:cNvSpPr/>
              <p:nvPr/>
            </p:nvSpPr>
            <p:spPr>
              <a:xfrm>
                <a:off x="157680" y="488880"/>
                <a:ext cx="626760" cy="156960"/>
              </a:xfrm>
              <a:prstGeom prst="ellipse">
                <a:avLst/>
              </a:prstGeom>
              <a:solidFill>
                <a:srgbClr val="518d47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57040" y="359640"/>
                <a:ext cx="439200" cy="237600"/>
              </a:xfrm>
              <a:prstGeom prst="can">
                <a:avLst>
                  <a:gd name="adj" fmla="val 50000"/>
                </a:avLst>
              </a:prstGeom>
              <a:solidFill>
                <a:srgbClr val="518d47"/>
              </a:soli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320760" y="160200"/>
                <a:ext cx="288720" cy="259200"/>
                <a:chOff x="320760" y="160200"/>
                <a:chExt cx="288720" cy="259200"/>
              </a:xfrm>
            </p:grpSpPr>
            <p:sp>
              <p:nvSpPr>
                <p:cNvPr id="772" name="未知"/>
                <p:cNvSpPr/>
                <p:nvPr/>
              </p:nvSpPr>
              <p:spPr>
                <a:xfrm rot="18580800">
                  <a:off x="379800" y="149400"/>
                  <a:ext cx="57240" cy="1803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未知"/>
                <p:cNvSpPr/>
                <p:nvPr/>
              </p:nvSpPr>
              <p:spPr>
                <a:xfrm rot="2400000">
                  <a:off x="487440" y="188640"/>
                  <a:ext cx="100800" cy="1026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1600" y="277560"/>
                  <a:ext cx="19080" cy="141840"/>
                </a:xfrm>
                <a:prstGeom prst="rect">
                  <a:avLst/>
                </a:prstGeom>
                <a:solidFill>
                  <a:srgbClr val="518d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250920" y="1697040"/>
            <a:ext cx="86421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三个人在砌一面墙。有一个好管闲事的人过来问：“你们在干什么？”  第一个工人爱理不理地说：“没看见吗？我在砌墙。”  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个工人抬头看了一眼好管闲事的人，说：“我们在盖一幢楼房。”  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个工人真诚而又自信地说：“我们在建一座城市。”  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十年后，第一个人在另一个工地上砌墙；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个人坐在办公室中画图纸，他成了工程师；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个人呢，成了一家房地产公司的总裁，是前两个人的老板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2050560" y="549360"/>
            <a:ext cx="5327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心态、目标、行动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6A0C-2A9E-4A5B-B328-6DB118798D3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6985080" cy="23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12000" spc="-1" strike="noStrike">
                <a:solidFill>
                  <a:srgbClr val="000000"/>
                </a:solidFill>
                <a:latin typeface="Verdana"/>
              </a:rPr>
              <a:t>谢谢大家</a:t>
            </a:r>
            <a:endParaRPr b="1" lang="en-US" sz="12000" spc="-1" strike="noStrike">
              <a:solidFill>
                <a:srgbClr val="7a483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743E-B983-4CD0-9410-F4C620A4AA8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7a4832"/>
                </a:solidFill>
                <a:latin typeface="Verdana"/>
                <a:ea typeface="宋体"/>
              </a:rPr>
              <a:t>生活就是一面镜子，你用什么态度面对他，他就用什么态度回馈你。</a:t>
            </a:r>
            <a:endParaRPr b="1" lang="en-US" sz="2800" spc="-1" strike="noStrike">
              <a:solidFill>
                <a:srgbClr val="7a4832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2708280"/>
            <a:ext cx="7345440" cy="36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5688-386B-4F9B-BCBF-CC3673B1A4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39640" y="-3600"/>
            <a:ext cx="4464000" cy="1200240"/>
            <a:chOff x="539640" y="-3600"/>
            <a:chExt cx="4464000" cy="1200240"/>
          </a:xfrm>
        </p:grpSpPr>
        <p:sp>
          <p:nvSpPr>
            <p:cNvPr id="124" name=""/>
            <p:cNvSpPr/>
            <p:nvPr/>
          </p:nvSpPr>
          <p:spPr>
            <a:xfrm>
              <a:off x="675360" y="168120"/>
              <a:ext cx="4328280" cy="10285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48680" y="280440"/>
              <a:ext cx="377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19800"/>
              <a:ext cx="510840" cy="63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19200" y="-3600"/>
              <a:ext cx="317160" cy="478080"/>
              <a:chOff x="619200" y="-3600"/>
              <a:chExt cx="317160" cy="478080"/>
            </a:xfrm>
          </p:grpSpPr>
          <p:sp>
            <p:nvSpPr>
              <p:cNvPr id="128" name=""/>
              <p:cNvSpPr/>
              <p:nvPr/>
            </p:nvSpPr>
            <p:spPr>
              <a:xfrm>
                <a:off x="619200" y="311400"/>
                <a:ext cx="317160" cy="16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9240" y="177120"/>
                <a:ext cx="222480" cy="2466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691920" y="-3600"/>
                <a:ext cx="173160" cy="243000"/>
                <a:chOff x="691920" y="-3600"/>
                <a:chExt cx="173160" cy="243000"/>
              </a:xfrm>
            </p:grpSpPr>
            <p:sp>
              <p:nvSpPr>
                <p:cNvPr id="131" name="未知"/>
                <p:cNvSpPr/>
                <p:nvPr/>
              </p:nvSpPr>
              <p:spPr>
                <a:xfrm rot="18580800">
                  <a:off x="716040" y="6480"/>
                  <a:ext cx="59400" cy="91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未知"/>
                <p:cNvSpPr/>
                <p:nvPr/>
              </p:nvSpPr>
              <p:spPr>
                <a:xfrm rot="2400000">
                  <a:off x="785880" y="0"/>
                  <a:ext cx="50760" cy="10656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77960" y="92160"/>
                  <a:ext cx="9360" cy="147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2879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人翁心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773360"/>
            <a:ext cx="5545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究竟在为谁而工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4810320" cy="33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AC8C9-88FF-4BF8-B651-F969D2099D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539640" y="473040"/>
            <a:ext cx="4752720" cy="1344240"/>
            <a:chOff x="539640" y="473040"/>
            <a:chExt cx="4752720" cy="1344240"/>
          </a:xfrm>
        </p:grpSpPr>
        <p:sp>
          <p:nvSpPr>
            <p:cNvPr id="138" name=""/>
            <p:cNvSpPr/>
            <p:nvPr/>
          </p:nvSpPr>
          <p:spPr>
            <a:xfrm>
              <a:off x="684000" y="664560"/>
              <a:ext cx="4608360" cy="115272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80720" y="790560"/>
              <a:ext cx="40194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9640" y="498240"/>
              <a:ext cx="543960" cy="70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24600" y="473040"/>
              <a:ext cx="337680" cy="534600"/>
              <a:chOff x="624600" y="473040"/>
              <a:chExt cx="337680" cy="534600"/>
            </a:xfrm>
          </p:grpSpPr>
          <p:sp>
            <p:nvSpPr>
              <p:cNvPr id="142" name=""/>
              <p:cNvSpPr/>
              <p:nvPr/>
            </p:nvSpPr>
            <p:spPr>
              <a:xfrm>
                <a:off x="624600" y="825120"/>
                <a:ext cx="337680" cy="18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7880" y="675000"/>
                <a:ext cx="236880" cy="2764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/>
                  </a:gs>
                </a:gsLst>
                <a:lin ang="5400000"/>
              </a:gradFill>
              <a:ln w="936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700920" y="473040"/>
                <a:ext cx="187200" cy="271800"/>
                <a:chOff x="700920" y="473040"/>
                <a:chExt cx="187200" cy="271800"/>
              </a:xfrm>
            </p:grpSpPr>
            <p:sp>
              <p:nvSpPr>
                <p:cNvPr id="145" name="未知"/>
                <p:cNvSpPr/>
                <p:nvPr/>
              </p:nvSpPr>
              <p:spPr>
                <a:xfrm rot="18580800">
                  <a:off x="726120" y="486720"/>
                  <a:ext cx="66600" cy="972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未知"/>
                <p:cNvSpPr/>
                <p:nvPr/>
              </p:nvSpPr>
              <p:spPr>
                <a:xfrm rot="2400000">
                  <a:off x="801720" y="476280"/>
                  <a:ext cx="54000" cy="11952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93440" y="579600"/>
                  <a:ext cx="10080" cy="165240"/>
                </a:xfrm>
                <a:prstGeom prst="rect">
                  <a:avLst/>
                </a:prstGeom>
                <a:solidFill>
                  <a:srgbClr val="90a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907920"/>
            <a:ext cx="2879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人翁心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06864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”员工是打工心态，“傻”员工是主人翁心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打工心态使人失败，主人翁心态使人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6F96-CA11-490A-9524-0AA2524DFC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01:52:40Z</dcterms:created>
  <dc:creator>user</dc:creator>
  <dc:description/>
  <dc:language>en-US</dc:language>
  <cp:lastModifiedBy>微软用户</cp:lastModifiedBy>
  <dcterms:modified xsi:type="dcterms:W3CDTF">2013-12-07T17:09:37Z</dcterms:modified>
  <cp:revision>291</cp:revision>
  <dc:subject/>
  <dc:title>PowerPoint Template</dc:title>
</cp:coreProperties>
</file>