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laser.wav" ContentType="audio/x-wav"/>
  <Override PartName="/ppt/media/image4.jpeg" ContentType="image/jpeg"/>
  <Override PartName="/ppt/media/image5.jpeg" ContentType="image/jpeg"/>
  <Override PartName="/ppt/media/image6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A98-BB14-4910-9660-28BE53A6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E3A2-37D3-4CE5-A129-0F03A105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BEBF-A48A-413A-85F3-E79C4BAD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4341-3493-4921-932A-DDD26CF5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701E-4326-44FA-B0C6-B7BFE408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0192-0414-4717-AD71-8FFB649A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2052-B1D6-4C32-A72E-C934F39B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7298-D6C2-4026-B518-A39C30F4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C202-BE1D-4486-A1BA-146586FE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00000" y="406080"/>
            <a:ext cx="778680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2E1E-C13A-43D5-8463-4DBD2390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FCB3-31D8-4A06-B911-9339FE4F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19D7-DE23-45D5-A7C8-BBF51763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CB8E-C7A4-4B04-8585-F0861081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E108-6700-4DD6-8FCB-63477207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94B7-DCA1-4B8E-B2DE-8C40B657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B67F-5850-4319-8D8A-7A08C63F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C2C7-25B1-4A6C-A630-CF0F03A1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14243-22D2-4DBB-B2E4-45AC92ED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236AC-9478-43DE-87AD-0D643558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97477-D7FE-44AA-8FEA-F842E95A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955C2-7492-479D-8FA3-0620FDED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AB257-6CD5-4697-A834-7E326E5C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59B9-2361-4520-A5C9-6A5A083E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00000" y="406080"/>
            <a:ext cx="778680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DB920-8740-4079-9325-C0970E79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68931-06AC-4214-B077-42237AAA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5BB3E-064C-4F12-AC48-3345B66F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166AB-0031-4B64-BD2C-74439B1B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00897-AABC-4640-A63F-D6E7EDD3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76A1F-263D-4E01-BF33-AA50A7B1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F190F-0594-41A3-A3DB-79557E35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57D6D-261B-48EA-89E6-74A70B04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69964-23D6-4290-B326-2D8F2040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ECA11-BF35-410C-A115-43C11F25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B8DA-1C3D-43FF-8CEB-C2B5E5B2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48752-A022-49DF-82CA-2268C825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C42E7-11BA-487B-BDBD-C90CCBF7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00000" y="406080"/>
            <a:ext cx="778680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EE269-A1D5-4F33-B889-D98252C1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972F7-2772-4E09-8100-040229FD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E9045-610E-4690-A635-EB1FB6FF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AE70C-B2B2-4182-8CA8-C8AD2774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47EEE-33E8-42AB-96AB-DEA56BF1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CDBD1-8D18-41DB-A806-8C3FCF3B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E647B-8A29-48AD-945B-E12F0BC9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5886A-CC02-49EB-AD3F-8C3A70DA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F592-B312-449A-AA80-75F3BEC7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BA7E8-C402-4873-B713-ABBEC637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8E4F2-D704-4013-951A-F5A7F8AA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B0C40-5BD8-4272-A7C6-9D8F00C8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9E7F2-4B5E-4087-A1AA-DF91E80A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900000" y="406080"/>
            <a:ext cx="778680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C09C2-493F-48BF-B24C-2712709F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2575C-4CD0-4DE5-9F18-5E3BD92A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E2836-B448-4B7F-AD53-87EE3E8F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B1B39-B12F-4AA9-A098-A586E96E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02ED1-16CE-4D31-9550-2362E76F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052BD-1E11-4DC5-AE8E-1952FF8E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406080"/>
            <a:ext cx="778680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E42B-7C50-472E-B5B4-029B14DC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7009D-4D6B-4215-BFC6-07086194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E486-62F1-4E31-919F-D0653F83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495E-8214-4E03-A1E6-0F6CB86F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0471-F586-4DB3-82A8-79ADA0FB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DE58-DB0C-4F2C-916C-B9A54123B6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4F38-916A-4B65-B018-308D9F84F6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ED4D-0BD8-40BB-97FA-3C98E809F8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DBFA-3868-4A96-B3E1-EBD21DCC265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61920" y="1628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0E0E-2BA7-45DA-AB66-3614A620039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00000" y="1341360"/>
            <a:ext cx="79218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02000"/>
                </a:solidFill>
                <a:latin typeface="华文行楷"/>
                <a:ea typeface="华康海报体W12(P)"/>
              </a:rPr>
              <a:t> </a:t>
            </a:r>
            <a:r>
              <a:rPr b="1" lang="zh-CN" sz="6600" spc="-1" strike="noStrike">
                <a:solidFill>
                  <a:srgbClr val="402000"/>
                </a:solidFill>
                <a:latin typeface="华文行楷"/>
                <a:ea typeface="华康海报体W12(P)"/>
              </a:rPr>
              <a:t>薪酬管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隶书"/>
                <a:ea typeface="方正准圆简体"/>
              </a:rPr>
              <a:t>  </a:t>
            </a:r>
            <a:r>
              <a:rPr b="0" lang="zh-CN" sz="3600" spc="-1" strike="noStrike">
                <a:solidFill>
                  <a:srgbClr val="402000"/>
                </a:solidFill>
                <a:latin typeface="隶书"/>
                <a:ea typeface="方正准圆简体"/>
              </a:rPr>
              <a:t>人力资源管理师三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隶书"/>
                <a:ea typeface="方正准圆简体"/>
              </a:rPr>
              <a:t>  </a:t>
            </a:r>
            <a:r>
              <a:rPr b="0" lang="zh-CN" sz="3600" spc="-1" strike="noStrike">
                <a:solidFill>
                  <a:srgbClr val="402000"/>
                </a:solidFill>
                <a:latin typeface="隶书"/>
                <a:ea typeface="方正准圆简体"/>
              </a:rPr>
              <a:t>第五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16360" y="4870440"/>
            <a:ext cx="4752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660066"/>
                </a:solidFill>
                <a:latin typeface="Times New Roman"/>
              </a:rPr>
              <a:t>主        讲： 穆  清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660066"/>
                </a:solidFill>
                <a:latin typeface="Times New Roman"/>
              </a:rPr>
              <a:t>Q        Q</a:t>
            </a:r>
            <a:r>
              <a:rPr b="1" lang="zh-CN" sz="25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500" spc="-1" strike="noStrike">
                <a:solidFill>
                  <a:srgbClr val="660066"/>
                </a:solidFill>
                <a:latin typeface="Times New Roman"/>
              </a:rPr>
              <a:t>250122021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  <p:sndAc>
      <p:stSnd>
        <p:snd r:embed="rId2" name="las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三、影响员工薪酬水平的主要因素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7720" y="3078000"/>
            <a:ext cx="4184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771640" y="1701720"/>
            <a:ext cx="3832200" cy="459720"/>
          </a:xfrm>
          <a:prstGeom prst="rect">
            <a:avLst/>
          </a:prstGeom>
          <a:solidFill>
            <a:srgbClr val="f27eb8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Verdana"/>
              </a:rPr>
              <a:t>决定员工薪酬的主要因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28720" y="2492280"/>
            <a:ext cx="3959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Verdana"/>
              </a:rPr>
              <a:t>影响员工个人薪酬的因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33800" y="2492280"/>
            <a:ext cx="4032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Verdana"/>
              </a:rPr>
              <a:t>影响企业整体薪酬的因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2720" y="3330720"/>
            <a:ext cx="504720" cy="33400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Verdana"/>
              </a:rPr>
              <a:t>劳动绩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21280" y="3330720"/>
            <a:ext cx="523800" cy="3411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Verdana"/>
              </a:rPr>
              <a:t>生活费用与物价水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97360" y="3330720"/>
            <a:ext cx="568440" cy="3411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Verdana"/>
              </a:rPr>
              <a:t>企业工资支付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37080" y="3330720"/>
            <a:ext cx="576360" cy="3411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Verdana"/>
              </a:rPr>
              <a:t>地区和行业工资水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46640" y="3330720"/>
            <a:ext cx="514440" cy="33400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Verdana"/>
              </a:rPr>
              <a:t>劳动力市场供求状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21640" y="3330720"/>
            <a:ext cx="558720" cy="33400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Verdana"/>
              </a:rPr>
              <a:t>产品的需求弹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496280" y="3330720"/>
            <a:ext cx="460440" cy="33400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Verdana"/>
              </a:rPr>
              <a:t>工会的力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17000" y="3330720"/>
            <a:ext cx="531720" cy="33400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Verdana"/>
              </a:rPr>
              <a:t>企业薪酬策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62000" y="3330720"/>
            <a:ext cx="451080" cy="3411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Verdana"/>
              </a:rPr>
              <a:t>综合素质与技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35200" y="3330720"/>
            <a:ext cx="425520" cy="3411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Verdana"/>
              </a:rPr>
              <a:t>工作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55920" y="3330720"/>
            <a:ext cx="425520" cy="3411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Verdana"/>
              </a:rPr>
              <a:t>年龄与工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85920" y="3332160"/>
            <a:ext cx="406440" cy="34099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Verdana"/>
              </a:rPr>
              <a:t>职务或岗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14" idx="2"/>
            <a:endCxn id="316" idx="0"/>
          </p:cNvCxnSpPr>
          <p:nvPr/>
        </p:nvCxnSpPr>
        <p:spPr>
          <a:xfrm flipH="1" rot="16200000">
            <a:off x="5654520" y="1199160"/>
            <a:ext cx="326160" cy="2261160"/>
          </a:xfrm>
          <a:prstGeom prst="bentConnector3">
            <a:avLst>
              <a:gd name="adj1" fmla="val 50055"/>
            </a:avLst>
          </a:prstGeom>
          <a:ln w="9360">
            <a:solidFill>
              <a:srgbClr val="402000"/>
            </a:solidFill>
            <a:miter/>
          </a:ln>
        </p:spPr>
      </p:cxnSp>
      <p:cxnSp>
        <p:nvCxnSpPr>
          <p:cNvPr id="330" name=""/>
          <p:cNvCxnSpPr>
            <a:stCxn id="314" idx="2"/>
            <a:endCxn id="315" idx="0"/>
          </p:cNvCxnSpPr>
          <p:nvPr/>
        </p:nvCxnSpPr>
        <p:spPr>
          <a:xfrm rot="5400000">
            <a:off x="3584520" y="1389600"/>
            <a:ext cx="326160" cy="1880280"/>
          </a:xfrm>
          <a:prstGeom prst="bentConnector3">
            <a:avLst>
              <a:gd name="adj1" fmla="val 50055"/>
            </a:avLst>
          </a:prstGeom>
          <a:ln w="9360">
            <a:solidFill>
              <a:srgbClr val="402000"/>
            </a:solidFill>
            <a:miter/>
          </a:ln>
        </p:spPr>
      </p:cxnSp>
      <p:cxnSp>
        <p:nvCxnSpPr>
          <p:cNvPr id="331" name=""/>
          <p:cNvCxnSpPr>
            <a:stCxn id="315" idx="2"/>
            <a:endCxn id="317" idx="0"/>
          </p:cNvCxnSpPr>
          <p:nvPr/>
        </p:nvCxnSpPr>
        <p:spPr>
          <a:xfrm rot="5400000">
            <a:off x="1649520" y="2172600"/>
            <a:ext cx="372240" cy="1945440"/>
          </a:xfrm>
          <a:prstGeom prst="bentConnector3">
            <a:avLst>
              <a:gd name="adj1" fmla="val 50145"/>
            </a:avLst>
          </a:prstGeom>
          <a:ln w="9360">
            <a:solidFill>
              <a:srgbClr val="402000"/>
            </a:solidFill>
            <a:miter/>
          </a:ln>
        </p:spPr>
      </p:cxnSp>
      <p:cxnSp>
        <p:nvCxnSpPr>
          <p:cNvPr id="332" name=""/>
          <p:cNvCxnSpPr>
            <a:stCxn id="315" idx="2"/>
            <a:endCxn id="328" idx="0"/>
          </p:cNvCxnSpPr>
          <p:nvPr/>
        </p:nvCxnSpPr>
        <p:spPr>
          <a:xfrm rot="5400000">
            <a:off x="1962000" y="2485080"/>
            <a:ext cx="372240" cy="1320120"/>
          </a:xfrm>
          <a:prstGeom prst="bentConnector3">
            <a:avLst>
              <a:gd name="adj1" fmla="val 50048"/>
            </a:avLst>
          </a:prstGeom>
          <a:ln w="9360">
            <a:solidFill>
              <a:srgbClr val="402000"/>
            </a:solidFill>
            <a:miter/>
          </a:ln>
        </p:spPr>
      </p:cxnSp>
      <p:cxnSp>
        <p:nvCxnSpPr>
          <p:cNvPr id="333" name=""/>
          <p:cNvCxnSpPr>
            <a:stCxn id="315" idx="2"/>
            <a:endCxn id="325" idx="0"/>
          </p:cNvCxnSpPr>
          <p:nvPr/>
        </p:nvCxnSpPr>
        <p:spPr>
          <a:xfrm rot="5400000">
            <a:off x="2311920" y="2834640"/>
            <a:ext cx="372240" cy="621000"/>
          </a:xfrm>
          <a:prstGeom prst="bentConnector3">
            <a:avLst>
              <a:gd name="adj1" fmla="val 50048"/>
            </a:avLst>
          </a:prstGeom>
          <a:ln w="9360">
            <a:solidFill>
              <a:srgbClr val="402000"/>
            </a:solidFill>
            <a:miter/>
          </a:ln>
        </p:spPr>
      </p:cxnSp>
      <p:cxnSp>
        <p:nvCxnSpPr>
          <p:cNvPr id="334" name=""/>
          <p:cNvCxnSpPr>
            <a:stCxn id="315" idx="2"/>
            <a:endCxn id="326" idx="0"/>
          </p:cNvCxnSpPr>
          <p:nvPr/>
        </p:nvCxnSpPr>
        <p:spPr>
          <a:xfrm flipH="1" rot="16200000">
            <a:off x="2642400" y="3124800"/>
            <a:ext cx="372240" cy="40320"/>
          </a:xfrm>
          <a:prstGeom prst="bentConnector3">
            <a:avLst>
              <a:gd name="adj1" fmla="val 50048"/>
            </a:avLst>
          </a:prstGeom>
          <a:ln w="9360">
            <a:solidFill>
              <a:srgbClr val="402000"/>
            </a:solidFill>
            <a:miter/>
          </a:ln>
        </p:spPr>
      </p:cxnSp>
      <p:cxnSp>
        <p:nvCxnSpPr>
          <p:cNvPr id="335" name=""/>
          <p:cNvCxnSpPr>
            <a:stCxn id="315" idx="2"/>
            <a:endCxn id="327" idx="0"/>
          </p:cNvCxnSpPr>
          <p:nvPr/>
        </p:nvCxnSpPr>
        <p:spPr>
          <a:xfrm flipH="1" rot="16200000">
            <a:off x="3002760" y="2764440"/>
            <a:ext cx="372240" cy="761040"/>
          </a:xfrm>
          <a:prstGeom prst="bentConnector3">
            <a:avLst>
              <a:gd name="adj1" fmla="val 50048"/>
            </a:avLst>
          </a:prstGeom>
          <a:ln w="9360">
            <a:solidFill>
              <a:srgbClr val="402000"/>
            </a:solidFill>
            <a:miter/>
          </a:ln>
        </p:spPr>
      </p:cxnSp>
      <p:cxnSp>
        <p:nvCxnSpPr>
          <p:cNvPr id="336" name=""/>
          <p:cNvCxnSpPr>
            <a:stCxn id="316" idx="2"/>
            <a:endCxn id="324" idx="0"/>
          </p:cNvCxnSpPr>
          <p:nvPr/>
        </p:nvCxnSpPr>
        <p:spPr>
          <a:xfrm flipH="1" rot="16200000">
            <a:off x="7529400" y="2377800"/>
            <a:ext cx="372240" cy="1534320"/>
          </a:xfrm>
          <a:prstGeom prst="bentConnector3">
            <a:avLst>
              <a:gd name="adj1" fmla="val 50145"/>
            </a:avLst>
          </a:prstGeom>
          <a:ln w="9360">
            <a:solidFill>
              <a:srgbClr val="402000"/>
            </a:solidFill>
            <a:miter/>
          </a:ln>
        </p:spPr>
      </p:cxnSp>
      <p:cxnSp>
        <p:nvCxnSpPr>
          <p:cNvPr id="337" name=""/>
          <p:cNvCxnSpPr>
            <a:stCxn id="316" idx="2"/>
            <a:endCxn id="323" idx="0"/>
          </p:cNvCxnSpPr>
          <p:nvPr/>
        </p:nvCxnSpPr>
        <p:spPr>
          <a:xfrm flipH="1" rot="16200000">
            <a:off x="7152480" y="2756520"/>
            <a:ext cx="372240" cy="776880"/>
          </a:xfrm>
          <a:prstGeom prst="bentConnector3">
            <a:avLst>
              <a:gd name="adj1" fmla="val 50145"/>
            </a:avLst>
          </a:prstGeom>
          <a:ln w="9360">
            <a:solidFill>
              <a:srgbClr val="402000"/>
            </a:solidFill>
            <a:miter/>
          </a:ln>
        </p:spPr>
      </p:cxnSp>
      <p:cxnSp>
        <p:nvCxnSpPr>
          <p:cNvPr id="338" name=""/>
          <p:cNvCxnSpPr>
            <a:stCxn id="316" idx="2"/>
            <a:endCxn id="322" idx="0"/>
          </p:cNvCxnSpPr>
          <p:nvPr/>
        </p:nvCxnSpPr>
        <p:spPr>
          <a:xfrm flipH="1" rot="16200000">
            <a:off x="6838920" y="3068280"/>
            <a:ext cx="372240" cy="153360"/>
          </a:xfrm>
          <a:prstGeom prst="bentConnector3">
            <a:avLst>
              <a:gd name="adj1" fmla="val 50145"/>
            </a:avLst>
          </a:prstGeom>
          <a:ln w="9360">
            <a:solidFill>
              <a:srgbClr val="402000"/>
            </a:solidFill>
            <a:miter/>
          </a:ln>
        </p:spPr>
      </p:cxnSp>
      <p:cxnSp>
        <p:nvCxnSpPr>
          <p:cNvPr id="339" name=""/>
          <p:cNvCxnSpPr>
            <a:stCxn id="316" idx="2"/>
            <a:endCxn id="321" idx="0"/>
          </p:cNvCxnSpPr>
          <p:nvPr/>
        </p:nvCxnSpPr>
        <p:spPr>
          <a:xfrm rot="5400000">
            <a:off x="6489720" y="2872800"/>
            <a:ext cx="372240" cy="545040"/>
          </a:xfrm>
          <a:prstGeom prst="bentConnector3">
            <a:avLst>
              <a:gd name="adj1" fmla="val 50145"/>
            </a:avLst>
          </a:prstGeom>
          <a:ln w="9360">
            <a:solidFill>
              <a:srgbClr val="402000"/>
            </a:solidFill>
            <a:miter/>
          </a:ln>
        </p:spPr>
      </p:cxnSp>
      <p:cxnSp>
        <p:nvCxnSpPr>
          <p:cNvPr id="340" name=""/>
          <p:cNvCxnSpPr>
            <a:stCxn id="316" idx="2"/>
            <a:endCxn id="320" idx="0"/>
          </p:cNvCxnSpPr>
          <p:nvPr/>
        </p:nvCxnSpPr>
        <p:spPr>
          <a:xfrm rot="5400000">
            <a:off x="6150600" y="2531880"/>
            <a:ext cx="372240" cy="1226520"/>
          </a:xfrm>
          <a:prstGeom prst="bentConnector3">
            <a:avLst>
              <a:gd name="adj1" fmla="val 50048"/>
            </a:avLst>
          </a:prstGeom>
          <a:ln w="9360">
            <a:solidFill>
              <a:srgbClr val="402000"/>
            </a:solidFill>
            <a:miter/>
          </a:ln>
        </p:spPr>
      </p:cxnSp>
      <p:cxnSp>
        <p:nvCxnSpPr>
          <p:cNvPr id="341" name=""/>
          <p:cNvCxnSpPr>
            <a:stCxn id="316" idx="2"/>
            <a:endCxn id="319" idx="0"/>
          </p:cNvCxnSpPr>
          <p:nvPr/>
        </p:nvCxnSpPr>
        <p:spPr>
          <a:xfrm rot="5400000">
            <a:off x="5829480" y="2210760"/>
            <a:ext cx="372240" cy="1869120"/>
          </a:xfrm>
          <a:prstGeom prst="bentConnector3">
            <a:avLst>
              <a:gd name="adj1" fmla="val 50048"/>
            </a:avLst>
          </a:prstGeom>
          <a:ln w="9360">
            <a:solidFill>
              <a:srgbClr val="402000"/>
            </a:solidFill>
            <a:miter/>
          </a:ln>
        </p:spPr>
      </p:cxnSp>
      <p:cxnSp>
        <p:nvCxnSpPr>
          <p:cNvPr id="342" name=""/>
          <p:cNvCxnSpPr>
            <a:stCxn id="316" idx="2"/>
            <a:endCxn id="318" idx="0"/>
          </p:cNvCxnSpPr>
          <p:nvPr/>
        </p:nvCxnSpPr>
        <p:spPr>
          <a:xfrm rot="5400000">
            <a:off x="5479920" y="1861200"/>
            <a:ext cx="372240" cy="2567880"/>
          </a:xfrm>
          <a:prstGeom prst="bentConnector3">
            <a:avLst>
              <a:gd name="adj1" fmla="val 50048"/>
            </a:avLst>
          </a:prstGeom>
          <a:ln w="9360">
            <a:solidFill>
              <a:srgbClr val="402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12720" y="765000"/>
            <a:ext cx="6264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四、薪酬管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755640" y="184464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一）薪酬管理的基本目标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、竞争性：保证薪酬的竞争性，吸引并保留人才；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、公正性：使员工的贡献得以肯定和回报；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、效率性：合理控制人工成本，增强企业竞争力；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、激励性：促进企业与员工共同长期发展。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55640" y="184464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二）薪酬管理的基本原则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对外具有竞争力的原则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对内具有公正性的原则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对员工具有激励性原则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对成本具有控制性原则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755640" y="184464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薪酬管理的内容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企业员工工资总额管理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企业员工薪酬水平的控制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企业薪酬制度设计与完善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日常薪酬管理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12720" y="765000"/>
            <a:ext cx="676764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Times New Roman"/>
              </a:rPr>
              <a:t>五、企业薪酬制度设计的基本要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）体现保障、激励和调节三大职能；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）体现劳动的三种形态：潜在形态、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流动形态和凝固形态；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）体现岗位的差别；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）建立劳动力市场的决定机制；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）合理确定薪资水平；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）确立科学合理的薪酬结构；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）构建相应支持系统；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12720" y="765000"/>
            <a:ext cx="676764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Times New Roman"/>
              </a:rPr>
              <a:t>六、衡量薪酬制度三项标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83534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）员工的认同度；体现多数，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90%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认同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）员工的感知度；简单，一分钟讲明白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）员工的满足度；等价交换、及时兑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12720" y="765000"/>
            <a:ext cx="676764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Times New Roman"/>
              </a:rPr>
              <a:t>能力要求</a:t>
            </a:r>
            <a:br>
              <a:rPr sz="3200"/>
            </a:br>
            <a:r>
              <a:rPr b="1" lang="zh-CN" sz="3200" spc="-1" strike="noStrike">
                <a:solidFill>
                  <a:srgbClr val="996633"/>
                </a:solidFill>
                <a:latin typeface="Times New Roman"/>
              </a:rPr>
              <a:t>确定企业薪酬制度的基本依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95440" y="1663920"/>
            <a:ext cx="8008560" cy="4654080"/>
            <a:chOff x="595440" y="1663920"/>
            <a:chExt cx="8008560" cy="4654080"/>
          </a:xfrm>
        </p:grpSpPr>
        <p:sp>
          <p:nvSpPr>
            <p:cNvPr id="353" name=""/>
            <p:cNvSpPr/>
            <p:nvPr/>
          </p:nvSpPr>
          <p:spPr>
            <a:xfrm>
              <a:off x="3699360" y="3146040"/>
              <a:ext cx="4732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00800" y="1844640"/>
              <a:ext cx="762840" cy="4400280"/>
            </a:xfrm>
            <a:prstGeom prst="rightArrowCallout">
              <a:avLst>
                <a:gd name="adj1" fmla="val 144220"/>
                <a:gd name="adj2" fmla="val 144207"/>
                <a:gd name="adj3" fmla="val 16667"/>
                <a:gd name="adj4" fmla="val 66667"/>
              </a:avLst>
            </a:prstGeom>
            <a:solidFill>
              <a:srgbClr val="ffff99"/>
            </a:solidFill>
            <a:ln w="9360">
              <a:solidFill>
                <a:srgbClr val="8289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95440" y="3252960"/>
              <a:ext cx="911880" cy="1486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2000"/>
                  </a:solidFill>
                  <a:latin typeface="Verdana"/>
                </a:rPr>
                <a:t>薪酬调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81080" y="1844640"/>
              <a:ext cx="762840" cy="4400280"/>
            </a:xfrm>
            <a:prstGeom prst="rightArrowCallout">
              <a:avLst>
                <a:gd name="adj1" fmla="val 144220"/>
                <a:gd name="adj2" fmla="val 144207"/>
                <a:gd name="adj3" fmla="val 16667"/>
                <a:gd name="adj4" fmla="val 66667"/>
              </a:avLst>
            </a:prstGeom>
            <a:solidFill>
              <a:srgbClr val="ffff99"/>
            </a:solidFill>
            <a:ln w="9360">
              <a:solidFill>
                <a:srgbClr val="8289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29320" y="2495520"/>
              <a:ext cx="546120" cy="2995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2000"/>
                  </a:solidFill>
                  <a:latin typeface="Verdana"/>
                </a:rPr>
                <a:t>岗位分析与评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46960" y="1844640"/>
              <a:ext cx="762840" cy="4400280"/>
            </a:xfrm>
            <a:prstGeom prst="rightArrowCallout">
              <a:avLst>
                <a:gd name="adj1" fmla="val 144220"/>
                <a:gd name="adj2" fmla="val 144207"/>
                <a:gd name="adj3" fmla="val 16667"/>
                <a:gd name="adj4" fmla="val 66667"/>
              </a:avLst>
            </a:prstGeom>
            <a:solidFill>
              <a:srgbClr val="ffff99"/>
            </a:solidFill>
            <a:ln w="9360">
              <a:solidFill>
                <a:srgbClr val="8289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41240" y="2410920"/>
              <a:ext cx="911880" cy="316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2000"/>
                  </a:solidFill>
                  <a:latin typeface="Verdana"/>
                </a:rPr>
                <a:t>了解劳动力需求关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65040" y="1844640"/>
              <a:ext cx="762840" cy="4400280"/>
            </a:xfrm>
            <a:prstGeom prst="rightArrowCallout">
              <a:avLst>
                <a:gd name="adj1" fmla="val 144220"/>
                <a:gd name="adj2" fmla="val 144207"/>
                <a:gd name="adj3" fmla="val 16667"/>
                <a:gd name="adj4" fmla="val 66667"/>
              </a:avLst>
            </a:prstGeom>
            <a:solidFill>
              <a:srgbClr val="ffff99"/>
            </a:solidFill>
            <a:ln w="9360">
              <a:solidFill>
                <a:srgbClr val="8289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12920" y="1663920"/>
              <a:ext cx="546120" cy="4654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2000"/>
                  </a:solidFill>
                  <a:latin typeface="Verdana"/>
                </a:rPr>
                <a:t>掌握竞争对手的人工成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33080" y="1844640"/>
              <a:ext cx="762840" cy="4400280"/>
            </a:xfrm>
            <a:prstGeom prst="rightArrowCallout">
              <a:avLst>
                <a:gd name="adj1" fmla="val 144220"/>
                <a:gd name="adj2" fmla="val 144207"/>
                <a:gd name="adj3" fmla="val 16667"/>
                <a:gd name="adj4" fmla="val 66667"/>
              </a:avLst>
            </a:prstGeom>
            <a:solidFill>
              <a:srgbClr val="ffff99"/>
            </a:solidFill>
            <a:ln w="9360">
              <a:solidFill>
                <a:srgbClr val="8289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80600" y="2702880"/>
              <a:ext cx="546120" cy="2581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2000"/>
                  </a:solidFill>
                  <a:latin typeface="Verdana"/>
                </a:rPr>
                <a:t>明确企业战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00400" y="1844640"/>
              <a:ext cx="762840" cy="4400280"/>
            </a:xfrm>
            <a:prstGeom prst="rightArrowCallout">
              <a:avLst>
                <a:gd name="adj1" fmla="val 144220"/>
                <a:gd name="adj2" fmla="val 144207"/>
                <a:gd name="adj3" fmla="val 16667"/>
                <a:gd name="adj4" fmla="val 66667"/>
              </a:avLst>
            </a:prstGeom>
            <a:solidFill>
              <a:srgbClr val="ffff99"/>
            </a:solidFill>
            <a:ln w="9360">
              <a:solidFill>
                <a:srgbClr val="8289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48640" y="2288880"/>
              <a:ext cx="546120" cy="341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2000"/>
                  </a:solidFill>
                  <a:latin typeface="Verdana"/>
                </a:rPr>
                <a:t>明确企业的价值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866280" y="1844640"/>
              <a:ext cx="762840" cy="4400280"/>
            </a:xfrm>
            <a:prstGeom prst="rightArrowCallout">
              <a:avLst>
                <a:gd name="adj1" fmla="val 144220"/>
                <a:gd name="adj2" fmla="val 144207"/>
                <a:gd name="adj3" fmla="val 16667"/>
                <a:gd name="adj4" fmla="val 66667"/>
              </a:avLst>
            </a:prstGeom>
            <a:solidFill>
              <a:srgbClr val="ffff99"/>
            </a:solidFill>
            <a:ln w="9360">
              <a:solidFill>
                <a:srgbClr val="8289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914160" y="2288880"/>
              <a:ext cx="546120" cy="3410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2000"/>
                  </a:solidFill>
                  <a:latin typeface="Verdana"/>
                </a:rPr>
                <a:t>掌握企业财力状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41160" y="1844640"/>
              <a:ext cx="762840" cy="4463640"/>
            </a:xfrm>
            <a:prstGeom prst="rightArrowCallout">
              <a:avLst>
                <a:gd name="adj1" fmla="val 146297"/>
                <a:gd name="adj2" fmla="val 146284"/>
                <a:gd name="adj3" fmla="val 16667"/>
                <a:gd name="adj4" fmla="val 66667"/>
              </a:avLst>
            </a:prstGeom>
            <a:solidFill>
              <a:srgbClr val="ffff99"/>
            </a:solidFill>
            <a:ln w="9360">
              <a:solidFill>
                <a:srgbClr val="8289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535880" y="1973520"/>
              <a:ext cx="790200" cy="410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2000"/>
                  </a:solidFill>
                  <a:latin typeface="Verdana"/>
                </a:rPr>
                <a:t>掌握生产经营特点和员工特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539640" y="69228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练习</a:t>
            </a: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：某工程师岗位的薪酬调查数据如下</a:t>
            </a: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请计算出</a:t>
            </a: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25%</a:t>
            </a: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点处、</a:t>
            </a: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点处和</a:t>
            </a: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75%</a:t>
            </a: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点处的工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84360" y="2133720"/>
          <a:ext cx="8064360" cy="4554360"/>
        </p:xfrm>
        <a:graphic>
          <a:graphicData uri="http://schemas.openxmlformats.org/drawingml/2006/table">
            <a:tbl>
              <a:tblPr/>
              <a:tblGrid>
                <a:gridCol w="4033800"/>
                <a:gridCol w="4030560"/>
              </a:tblGrid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被调查企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平均月工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399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Times New Roman"/>
              </a:rPr>
              <a:t>第二单元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16000" y="2421000"/>
            <a:ext cx="6912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02000"/>
                </a:solidFill>
                <a:latin typeface="华文行楷"/>
                <a:ea typeface="华康海报体W12(P)"/>
              </a:rPr>
              <a:t>薪酬管理制度的制订程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31040" cy="37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一、最低工资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二、最长工作时间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标准工时制度及加班费支付标准。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知识要求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640" y="117000"/>
            <a:ext cx="58323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402000"/>
                </a:solidFill>
                <a:latin typeface="Times New Roman"/>
              </a:rPr>
              <a:t>薪酬管理</a:t>
            </a: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402000"/>
                </a:solidFill>
                <a:latin typeface="Times New Roman"/>
              </a:rPr>
              <a:t>脉络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10" idx="0"/>
            <a:endCxn id="211" idx="2"/>
          </p:cNvCxnSpPr>
          <p:nvPr/>
        </p:nvCxnSpPr>
        <p:spPr>
          <a:xfrm flipV="1" rot="16200000">
            <a:off x="5473800" y="4194360"/>
            <a:ext cx="246960" cy="756360"/>
          </a:xfrm>
          <a:prstGeom prst="bentConnector3">
            <a:avLst>
              <a:gd name="adj1" fmla="val 49635"/>
            </a:avLst>
          </a:prstGeom>
          <a:ln w="28440">
            <a:solidFill>
              <a:srgbClr val="402000"/>
            </a:solidFill>
            <a:miter/>
          </a:ln>
        </p:spPr>
      </p:cxnSp>
      <p:cxnSp>
        <p:nvCxnSpPr>
          <p:cNvPr id="212" name=""/>
          <p:cNvCxnSpPr>
            <a:stCxn id="213" idx="0"/>
            <a:endCxn id="211" idx="2"/>
          </p:cNvCxnSpPr>
          <p:nvPr/>
        </p:nvCxnSpPr>
        <p:spPr>
          <a:xfrm flipH="1" flipV="1" rot="5400000">
            <a:off x="4718520" y="4195800"/>
            <a:ext cx="246600" cy="756360"/>
          </a:xfrm>
          <a:prstGeom prst="bentConnector3">
            <a:avLst>
              <a:gd name="adj1" fmla="val 49707"/>
            </a:avLst>
          </a:prstGeom>
          <a:ln w="28440">
            <a:solidFill>
              <a:srgbClr val="402000"/>
            </a:solidFill>
            <a:miter/>
          </a:ln>
        </p:spPr>
      </p:cxnSp>
      <p:cxnSp>
        <p:nvCxnSpPr>
          <p:cNvPr id="214" name=""/>
          <p:cNvCxnSpPr>
            <a:stCxn id="215" idx="0"/>
            <a:endCxn id="216" idx="2"/>
          </p:cNvCxnSpPr>
          <p:nvPr/>
        </p:nvCxnSpPr>
        <p:spPr>
          <a:xfrm flipV="1" rot="16200000">
            <a:off x="5851800" y="2338560"/>
            <a:ext cx="246960" cy="1512000"/>
          </a:xfrm>
          <a:prstGeom prst="bentConnector3">
            <a:avLst>
              <a:gd name="adj1" fmla="val 49635"/>
            </a:avLst>
          </a:prstGeom>
          <a:ln w="28440">
            <a:solidFill>
              <a:srgbClr val="402000"/>
            </a:solidFill>
            <a:miter/>
          </a:ln>
        </p:spPr>
      </p:cxnSp>
      <p:cxnSp>
        <p:nvCxnSpPr>
          <p:cNvPr id="217" name=""/>
          <p:cNvCxnSpPr>
            <a:stCxn id="218" idx="0"/>
            <a:endCxn id="216" idx="2"/>
          </p:cNvCxnSpPr>
          <p:nvPr/>
        </p:nvCxnSpPr>
        <p:spPr>
          <a:xfrm flipH="1" flipV="1" rot="5400000">
            <a:off x="5096160" y="3094200"/>
            <a:ext cx="246960" cy="3960"/>
          </a:xfrm>
          <a:prstGeom prst="bentConnector2">
            <a:avLst/>
          </a:prstGeom>
          <a:ln w="28440">
            <a:solidFill>
              <a:srgbClr val="402000"/>
            </a:solidFill>
            <a:miter/>
          </a:ln>
        </p:spPr>
      </p:cxnSp>
      <p:cxnSp>
        <p:nvCxnSpPr>
          <p:cNvPr id="219" name=""/>
          <p:cNvCxnSpPr>
            <a:stCxn id="220" idx="0"/>
            <a:endCxn id="216" idx="2"/>
          </p:cNvCxnSpPr>
          <p:nvPr/>
        </p:nvCxnSpPr>
        <p:spPr>
          <a:xfrm flipH="1" flipV="1" rot="5400000">
            <a:off x="4340520" y="2338920"/>
            <a:ext cx="246960" cy="1512000"/>
          </a:xfrm>
          <a:prstGeom prst="bentConnector3">
            <a:avLst>
              <a:gd name="adj1" fmla="val 49635"/>
            </a:avLst>
          </a:prstGeom>
          <a:ln w="28440">
            <a:solidFill>
              <a:srgbClr val="402000"/>
            </a:solidFill>
            <a:miter/>
          </a:ln>
        </p:spPr>
      </p:cxnSp>
      <p:cxnSp>
        <p:nvCxnSpPr>
          <p:cNvPr id="221" name=""/>
          <p:cNvCxnSpPr>
            <a:stCxn id="222" idx="0"/>
            <a:endCxn id="223" idx="2"/>
          </p:cNvCxnSpPr>
          <p:nvPr/>
        </p:nvCxnSpPr>
        <p:spPr>
          <a:xfrm flipV="1" rot="16200000">
            <a:off x="5943240" y="948600"/>
            <a:ext cx="246960" cy="1332720"/>
          </a:xfrm>
          <a:prstGeom prst="bentConnector3">
            <a:avLst>
              <a:gd name="adj1" fmla="val 49781"/>
            </a:avLst>
          </a:prstGeom>
          <a:ln w="28440">
            <a:solidFill>
              <a:srgbClr val="402000"/>
            </a:solidFill>
            <a:miter/>
          </a:ln>
        </p:spPr>
      </p:cxnSp>
      <p:cxnSp>
        <p:nvCxnSpPr>
          <p:cNvPr id="224" name=""/>
          <p:cNvCxnSpPr>
            <a:stCxn id="225" idx="0"/>
            <a:endCxn id="223" idx="2"/>
          </p:cNvCxnSpPr>
          <p:nvPr/>
        </p:nvCxnSpPr>
        <p:spPr>
          <a:xfrm flipH="1" flipV="1" rot="5400000">
            <a:off x="5186880" y="1526040"/>
            <a:ext cx="248400" cy="180000"/>
          </a:xfrm>
          <a:prstGeom prst="bentConnector3">
            <a:avLst>
              <a:gd name="adj1" fmla="val 49782"/>
            </a:avLst>
          </a:prstGeom>
          <a:ln w="28440">
            <a:solidFill>
              <a:srgbClr val="402000"/>
            </a:solidFill>
            <a:miter/>
          </a:ln>
        </p:spPr>
      </p:cxnSp>
      <p:cxnSp>
        <p:nvCxnSpPr>
          <p:cNvPr id="226" name=""/>
          <p:cNvCxnSpPr>
            <a:stCxn id="227" idx="0"/>
            <a:endCxn id="223" idx="2"/>
          </p:cNvCxnSpPr>
          <p:nvPr/>
        </p:nvCxnSpPr>
        <p:spPr>
          <a:xfrm flipH="1" flipV="1" rot="5400000">
            <a:off x="4430160" y="769320"/>
            <a:ext cx="248400" cy="1693080"/>
          </a:xfrm>
          <a:prstGeom prst="bentConnector3">
            <a:avLst>
              <a:gd name="adj1" fmla="val 49782"/>
            </a:avLst>
          </a:prstGeom>
          <a:ln w="28440">
            <a:solidFill>
              <a:srgbClr val="402000"/>
            </a:solidFill>
            <a:miter/>
          </a:ln>
        </p:spPr>
      </p:cxnSp>
      <p:sp>
        <p:nvSpPr>
          <p:cNvPr id="228" name="_s757767"/>
          <p:cNvSpPr/>
          <p:nvPr/>
        </p:nvSpPr>
        <p:spPr>
          <a:xfrm>
            <a:off x="324000" y="2565360"/>
            <a:ext cx="574560" cy="194328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1943280"/>
              <a:gd name="textAreaBottom" fmla="*/ 1915560 h 1943280"/>
            </a:gdLst>
            <a:ahLst/>
            <a:rect l="textAreaLeft" t="textAreaTop" r="textAreaRight" b="textAreaBottom"/>
            <a:pathLst>
              <a:path w="21600" h="73023">
                <a:moveTo>
                  <a:pt x="3600" y="0"/>
                </a:moveTo>
                <a:arcTo wR="3600" hR="3600" stAng="16200000" swAng="-5400000"/>
                <a:lnTo>
                  <a:pt x="0" y="69423"/>
                </a:lnTo>
                <a:arcTo wR="3600" hR="3600" stAng="10800000" swAng="-5400000"/>
                <a:lnTo>
                  <a:pt x="18000" y="730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2000"/>
                </a:solidFill>
                <a:latin typeface="Arial"/>
              </a:rPr>
              <a:t>薪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2000"/>
                </a:solidFill>
                <a:latin typeface="Arial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_s757768"/>
          <p:cNvSpPr/>
          <p:nvPr/>
        </p:nvSpPr>
        <p:spPr>
          <a:xfrm>
            <a:off x="4572000" y="1000080"/>
            <a:ext cx="1657440" cy="492120"/>
          </a:xfrm>
          <a:prstGeom prst="roundRect">
            <a:avLst>
              <a:gd name="adj" fmla="val 16667"/>
            </a:avLst>
          </a:prstGeom>
          <a:solidFill>
            <a:srgbClr val="ce996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2000"/>
                </a:solidFill>
                <a:latin typeface="Arial"/>
              </a:rPr>
              <a:t>薪酬制度的设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_s757769"/>
          <p:cNvSpPr/>
          <p:nvPr/>
        </p:nvSpPr>
        <p:spPr>
          <a:xfrm>
            <a:off x="4572000" y="2479680"/>
            <a:ext cx="1297080" cy="492120"/>
          </a:xfrm>
          <a:prstGeom prst="roundRect">
            <a:avLst>
              <a:gd name="adj" fmla="val 16667"/>
            </a:avLst>
          </a:prstGeom>
          <a:solidFill>
            <a:srgbClr val="ce996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2000"/>
                </a:solidFill>
                <a:latin typeface="Arial"/>
              </a:rPr>
              <a:t>工作岗位评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_s757770"/>
          <p:cNvSpPr/>
          <p:nvPr/>
        </p:nvSpPr>
        <p:spPr>
          <a:xfrm>
            <a:off x="4572000" y="3957480"/>
            <a:ext cx="1297080" cy="493920"/>
          </a:xfrm>
          <a:prstGeom prst="roundRect">
            <a:avLst>
              <a:gd name="adj" fmla="val 16667"/>
            </a:avLst>
          </a:prstGeom>
          <a:solidFill>
            <a:srgbClr val="ce996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2000"/>
                </a:solidFill>
                <a:latin typeface="Arial"/>
              </a:rPr>
              <a:t>人工成本核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_s757774"/>
          <p:cNvSpPr/>
          <p:nvPr/>
        </p:nvSpPr>
        <p:spPr>
          <a:xfrm>
            <a:off x="4572000" y="5302080"/>
            <a:ext cx="1297080" cy="492120"/>
          </a:xfrm>
          <a:prstGeom prst="roundRect">
            <a:avLst>
              <a:gd name="adj" fmla="val 16667"/>
            </a:avLst>
          </a:prstGeom>
          <a:solidFill>
            <a:srgbClr val="ce996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2000"/>
                </a:solidFill>
                <a:latin typeface="Arial"/>
              </a:rPr>
              <a:t>员工福利管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_s757778"/>
          <p:cNvSpPr/>
          <p:nvPr/>
        </p:nvSpPr>
        <p:spPr>
          <a:xfrm>
            <a:off x="3060720" y="1739880"/>
            <a:ext cx="1297080" cy="492120"/>
          </a:xfrm>
          <a:prstGeom prst="roundRect">
            <a:avLst>
              <a:gd name="adj" fmla="val 16667"/>
            </a:avLst>
          </a:prstGeom>
          <a:solidFill>
            <a:srgbClr val="f27eb8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2000"/>
                </a:solidFill>
                <a:latin typeface="Arial"/>
              </a:rPr>
              <a:t>薪酬管理制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2000"/>
                </a:solidFill>
                <a:latin typeface="Arial"/>
              </a:rPr>
              <a:t>制订依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_s757780"/>
          <p:cNvSpPr/>
          <p:nvPr/>
        </p:nvSpPr>
        <p:spPr>
          <a:xfrm>
            <a:off x="4573440" y="1739880"/>
            <a:ext cx="1297080" cy="492120"/>
          </a:xfrm>
          <a:prstGeom prst="roundRect">
            <a:avLst>
              <a:gd name="adj" fmla="val 16667"/>
            </a:avLst>
          </a:prstGeom>
          <a:solidFill>
            <a:srgbClr val="f27eb8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2000"/>
                </a:solidFill>
                <a:latin typeface="Arial"/>
              </a:rPr>
              <a:t>薪酬管理制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2000"/>
                </a:solidFill>
                <a:latin typeface="Arial"/>
              </a:rPr>
              <a:t>制订程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_s757782"/>
          <p:cNvSpPr/>
          <p:nvPr/>
        </p:nvSpPr>
        <p:spPr>
          <a:xfrm>
            <a:off x="6086520" y="1739880"/>
            <a:ext cx="1295280" cy="492120"/>
          </a:xfrm>
          <a:prstGeom prst="roundRect">
            <a:avLst>
              <a:gd name="adj" fmla="val 16667"/>
            </a:avLst>
          </a:prstGeom>
          <a:solidFill>
            <a:srgbClr val="f27eb8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2000"/>
                </a:solidFill>
                <a:latin typeface="Arial"/>
              </a:rPr>
              <a:t>工资奖金制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2000"/>
                </a:solidFill>
                <a:latin typeface="Arial"/>
              </a:rPr>
              <a:t>的调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_s757786"/>
          <p:cNvSpPr/>
          <p:nvPr/>
        </p:nvSpPr>
        <p:spPr>
          <a:xfrm>
            <a:off x="3060720" y="3218040"/>
            <a:ext cx="1295280" cy="493560"/>
          </a:xfrm>
          <a:prstGeom prst="roundRect">
            <a:avLst>
              <a:gd name="adj" fmla="val 16667"/>
            </a:avLst>
          </a:prstGeom>
          <a:solidFill>
            <a:srgbClr val="f27eb8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2000"/>
                </a:solidFill>
                <a:latin typeface="Arial"/>
              </a:rPr>
              <a:t>基本步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_s757788"/>
          <p:cNvSpPr/>
          <p:nvPr/>
        </p:nvSpPr>
        <p:spPr>
          <a:xfrm>
            <a:off x="4572000" y="3218040"/>
            <a:ext cx="1297080" cy="493560"/>
          </a:xfrm>
          <a:prstGeom prst="roundRect">
            <a:avLst>
              <a:gd name="adj" fmla="val 16667"/>
            </a:avLst>
          </a:prstGeom>
          <a:solidFill>
            <a:srgbClr val="f27eb8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2000"/>
                </a:solidFill>
                <a:latin typeface="Arial"/>
              </a:rPr>
              <a:t>指标与标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_s757790"/>
          <p:cNvSpPr/>
          <p:nvPr/>
        </p:nvSpPr>
        <p:spPr>
          <a:xfrm>
            <a:off x="6084720" y="3218040"/>
            <a:ext cx="1295640" cy="493560"/>
          </a:xfrm>
          <a:prstGeom prst="roundRect">
            <a:avLst>
              <a:gd name="adj" fmla="val 16667"/>
            </a:avLst>
          </a:prstGeom>
          <a:solidFill>
            <a:srgbClr val="f27eb8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2000"/>
                </a:solidFill>
                <a:latin typeface="Arial"/>
              </a:rPr>
              <a:t>方法与应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_s757792"/>
          <p:cNvSpPr/>
          <p:nvPr/>
        </p:nvSpPr>
        <p:spPr>
          <a:xfrm>
            <a:off x="3816360" y="4697280"/>
            <a:ext cx="1295280" cy="493920"/>
          </a:xfrm>
          <a:prstGeom prst="roundRect">
            <a:avLst>
              <a:gd name="adj" fmla="val 16667"/>
            </a:avLst>
          </a:prstGeom>
          <a:solidFill>
            <a:srgbClr val="f27eb8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2000"/>
                </a:solidFill>
                <a:latin typeface="Arial"/>
              </a:rPr>
              <a:t>合理确定成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2000"/>
                </a:solidFill>
                <a:latin typeface="Arial"/>
              </a:rPr>
              <a:t>应考虑因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_s757794"/>
          <p:cNvSpPr/>
          <p:nvPr/>
        </p:nvSpPr>
        <p:spPr>
          <a:xfrm>
            <a:off x="5327640" y="4697280"/>
            <a:ext cx="1297080" cy="493920"/>
          </a:xfrm>
          <a:prstGeom prst="roundRect">
            <a:avLst>
              <a:gd name="adj" fmla="val 16667"/>
            </a:avLst>
          </a:prstGeom>
          <a:solidFill>
            <a:srgbClr val="f27eb8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2000"/>
                </a:solidFill>
                <a:latin typeface="Arial"/>
              </a:rPr>
              <a:t>人工成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2000"/>
                </a:solidFill>
                <a:latin typeface="Arial"/>
              </a:rPr>
              <a:t>核算程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_s757798"/>
          <p:cNvSpPr/>
          <p:nvPr/>
        </p:nvSpPr>
        <p:spPr>
          <a:xfrm>
            <a:off x="5724360" y="6175440"/>
            <a:ext cx="2378160" cy="493560"/>
          </a:xfrm>
          <a:prstGeom prst="roundRect">
            <a:avLst>
              <a:gd name="adj" fmla="val 16667"/>
            </a:avLst>
          </a:prstGeom>
          <a:solidFill>
            <a:srgbClr val="f27eb8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2000"/>
                </a:solidFill>
                <a:latin typeface="Arial"/>
              </a:rPr>
              <a:t>各类保险和住房公积金核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00000" y="3429000"/>
            <a:ext cx="28728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1197000"/>
            <a:ext cx="180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1197000"/>
            <a:ext cx="338472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87280" y="2708280"/>
            <a:ext cx="338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87280" y="4219560"/>
            <a:ext cx="338472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87280" y="5518080"/>
            <a:ext cx="338472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27640" y="41497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单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68720" y="11970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单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99760" y="333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知识技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56000" y="27097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单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_s757796"/>
          <p:cNvSpPr/>
          <p:nvPr/>
        </p:nvSpPr>
        <p:spPr>
          <a:xfrm>
            <a:off x="2413080" y="6165720"/>
            <a:ext cx="2050920" cy="493920"/>
          </a:xfrm>
          <a:prstGeom prst="roundRect">
            <a:avLst>
              <a:gd name="adj" fmla="val 16667"/>
            </a:avLst>
          </a:prstGeom>
          <a:solidFill>
            <a:srgbClr val="f27eb8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2000"/>
                </a:solidFill>
                <a:latin typeface="Arial"/>
              </a:rPr>
              <a:t>福利总额预算计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492360" y="5950080"/>
            <a:ext cx="3600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221440" y="5807160"/>
            <a:ext cx="144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92360" y="595008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93080" y="595008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54360" y="55530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单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_s757792"/>
          <p:cNvSpPr/>
          <p:nvPr/>
        </p:nvSpPr>
        <p:spPr>
          <a:xfrm>
            <a:off x="2268360" y="4726080"/>
            <a:ext cx="1295640" cy="493560"/>
          </a:xfrm>
          <a:prstGeom prst="roundRect">
            <a:avLst>
              <a:gd name="adj" fmla="val 16667"/>
            </a:avLst>
          </a:prstGeom>
          <a:solidFill>
            <a:srgbClr val="f27eb8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2000"/>
                </a:solidFill>
                <a:latin typeface="Arial"/>
              </a:rPr>
              <a:t>人工成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2000"/>
                </a:solidFill>
                <a:latin typeface="Arial"/>
              </a:rPr>
              <a:t>概念与构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_s757794"/>
          <p:cNvSpPr/>
          <p:nvPr/>
        </p:nvSpPr>
        <p:spPr>
          <a:xfrm>
            <a:off x="6804000" y="4653000"/>
            <a:ext cx="1298520" cy="493560"/>
          </a:xfrm>
          <a:prstGeom prst="roundRect">
            <a:avLst>
              <a:gd name="adj" fmla="val 16667"/>
            </a:avLst>
          </a:prstGeom>
          <a:solidFill>
            <a:srgbClr val="f27eb8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2000"/>
                </a:solidFill>
                <a:latin typeface="Arial"/>
              </a:rPr>
              <a:t>合理确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2000"/>
                </a:solidFill>
                <a:latin typeface="Arial"/>
              </a:rPr>
              <a:t>人工成本方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一、单项薪酬制度制定的程序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360" y="2060640"/>
            <a:ext cx="741672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准确标明制度的名称，如薪酬总额计划与控制制度、奖金制度、分红制度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明确界定单项薪酬制度的作用对象和范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明确薪酬支付与计算标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涵盖该项薪酬管理的所有工作内容：如支付原则、等级划分、过渡办法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756720" y="1846080"/>
            <a:ext cx="770436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（一）岗位工资或能力工资的制定程序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确定总额        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确定分配原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岗位分析评价或员工能力评价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确定等级数量和划分等级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薪酬调查与结果分析    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企业支付能力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确定各工资等级的等中点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确定每个工资等级之间的工资差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确定每个工资等级的工资幅度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确定工资等级之间的重叠部分大小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、确定具体计算办法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33"/>
                </a:solidFill>
                <a:latin typeface="Times New Roman"/>
              </a:rPr>
              <a:t>二、常用工资管理制度制定的基本程序</a:t>
            </a:r>
            <a:endParaRPr b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（二）奖金制度的制定程序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00000" y="2060640"/>
            <a:ext cx="763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、按照企业经营计划的实际完成情况确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定奖金总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、根据企业战略、企业文化等确定奖金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分配原则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、确定奖金发放对象及范围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、确定个人奖金计算办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Times New Roman"/>
              </a:rPr>
              <a:t>第三单元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96720" y="1844640"/>
            <a:ext cx="7920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02000"/>
                </a:solidFill>
                <a:latin typeface="华文行楷"/>
                <a:ea typeface="华康海报体W12(P)"/>
              </a:rPr>
              <a:t>工资奖金制度的调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920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工资奖金调整的几种方式</a:t>
            </a:r>
            <a:br>
              <a:rPr sz="3200"/>
            </a:b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br>
              <a:rPr sz="3200"/>
            </a:b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、奖励性调整：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br>
              <a:rPr sz="3200"/>
            </a:b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、生活指数调整：    </a:t>
            </a:r>
            <a:br>
              <a:rPr sz="3200"/>
            </a:b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、工龄工资调整：     </a:t>
            </a:r>
            <a:br>
              <a:rPr sz="3200"/>
            </a:b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、特殊调整：</a:t>
            </a:r>
            <a:br>
              <a:rPr sz="3200"/>
            </a:br>
            <a:endParaRPr b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" y="692280"/>
            <a:ext cx="7543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Times New Roman"/>
              </a:rPr>
              <a:t>知识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Times New Roman"/>
              </a:rPr>
              <a:t>第二节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68360" y="2276640"/>
            <a:ext cx="7920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02000"/>
                </a:solidFill>
                <a:latin typeface="华文行楷"/>
                <a:ea typeface="华康海报体W12(P)"/>
              </a:rPr>
              <a:t>工作岗位评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Times New Roman"/>
              </a:rPr>
              <a:t>第一单元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96720" y="1773360"/>
            <a:ext cx="7920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02000"/>
                </a:solidFill>
                <a:latin typeface="华文行楷"/>
                <a:ea typeface="华康海报体W12(P)"/>
              </a:rPr>
              <a:t>工作岗位评价的基本步骤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一、工作岗位评价基本理论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628640"/>
            <a:ext cx="7632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工作岗位评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指在工作岗位分析的基础上，按预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衡量标准，对岗位工作任务的繁简难易程度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责任权限的大小、所需的任职资格条件以及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环境等方面进行的测量、评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12720" y="1630440"/>
            <a:ext cx="8136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工作岗位评价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岗位评价的中心是客观存在的岗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是对岗位相对价值进行衡量的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为岗位分类分级提供前提，为薪资制度奠定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12720" y="1630440"/>
            <a:ext cx="8136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二）岗位评价的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评价的对象是岗位而不是员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让员工积极地参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岗位评价的结果应该公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516720" y="2276640"/>
            <a:ext cx="2065320" cy="4410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第一节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00000" y="1844640"/>
            <a:ext cx="7920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02000"/>
                </a:solidFill>
                <a:latin typeface="华文行楷"/>
                <a:ea typeface="华康海报体W12(P)"/>
              </a:rPr>
              <a:t>薪酬制度的设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12720" y="1630440"/>
            <a:ext cx="8136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岗位评价的基本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１、为实现薪酬管理的内部公平提供依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２、对岗位进行定量测评，以量化数值表现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岗位的综合特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３、对岗位之间进行纵向比较，说明各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位在企业中所处的地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４、为企业岗位归级列等奠定基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二、工作岗位评价的信息来源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2720" y="1630440"/>
            <a:ext cx="8136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直接信息来源：岗位调查，采集数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间接信息来源：书面文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三、工作岗位评价与薪酬等级的关系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8" name="未知"/>
          <p:cNvSpPr/>
          <p:nvPr/>
        </p:nvSpPr>
        <p:spPr>
          <a:xfrm>
            <a:off x="2050920" y="1611360"/>
            <a:ext cx="5185080" cy="4465440"/>
          </a:xfrm>
          <a:custGeom>
            <a:avLst/>
            <a:gdLst/>
            <a:ahLst/>
            <a:rect l="l" t="t" r="r" b="b"/>
            <a:pathLst>
              <a:path w="1987" h="1565">
                <a:moveTo>
                  <a:pt x="1987" y="1526"/>
                </a:moveTo>
                <a:lnTo>
                  <a:pt x="0" y="1565"/>
                </a:lnTo>
                <a:lnTo>
                  <a:pt x="1" y="0"/>
                </a:lnTo>
              </a:path>
            </a:pathLst>
          </a:custGeom>
          <a:noFill/>
          <a:ln w="25560">
            <a:solidFill>
              <a:srgbClr val="402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2627280" y="2332080"/>
            <a:ext cx="3743280" cy="30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80000" y="6292800"/>
            <a:ext cx="1828800" cy="304920"/>
          </a:xfrm>
          <a:prstGeom prst="rect">
            <a:avLst/>
          </a:prstGeom>
          <a:solidFill>
            <a:srgbClr val="fbfae2"/>
          </a:solidFill>
          <a:ln w="9360">
            <a:solidFill>
              <a:srgbClr val="fbf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ahoma"/>
              </a:rPr>
              <a:t>岗位评价分数（薪点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98560" y="2259000"/>
            <a:ext cx="896760" cy="304920"/>
          </a:xfrm>
          <a:prstGeom prst="rect">
            <a:avLst/>
          </a:prstGeom>
          <a:solidFill>
            <a:srgbClr val="fbfae2"/>
          </a:solidFill>
          <a:ln w="9360">
            <a:solidFill>
              <a:srgbClr val="fbf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ahoma"/>
              </a:rPr>
              <a:t>薪酬水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515280" y="2332080"/>
            <a:ext cx="380880" cy="276120"/>
          </a:xfrm>
          <a:prstGeom prst="rect">
            <a:avLst/>
          </a:prstGeom>
          <a:solidFill>
            <a:srgbClr val="fbfae2"/>
          </a:solidFill>
          <a:ln w="9360">
            <a:solidFill>
              <a:srgbClr val="fbf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59640" y="4059360"/>
            <a:ext cx="380880" cy="304560"/>
          </a:xfrm>
          <a:prstGeom prst="rect">
            <a:avLst/>
          </a:prstGeom>
          <a:solidFill>
            <a:srgbClr val="fbfae2"/>
          </a:solidFill>
          <a:ln w="9360">
            <a:solidFill>
              <a:srgbClr val="fbf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 rot="404400">
            <a:off x="290520" y="-2131560"/>
            <a:ext cx="5469840" cy="734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627280" y="4132440"/>
            <a:ext cx="381636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11800" y="2403360"/>
            <a:ext cx="1973880" cy="187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90" y="2"/>
                </a:moveTo>
                <a:arcTo wR="10800" hR="10800" stAng="-5339431" swAng="5339431"/>
                <a:lnTo>
                  <a:pt x="10800" y="10800"/>
                </a:lnTo>
                <a:close/>
              </a:path>
              <a:path fill="none" w="21600" h="21600">
                <a:moveTo>
                  <a:pt x="10990" y="2"/>
                </a:moveTo>
                <a:arcTo wR="10800" hR="10800" stAng="-5339431" swAng="5339431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48360" y="1844640"/>
            <a:ext cx="380880" cy="276120"/>
          </a:xfrm>
          <a:prstGeom prst="rect">
            <a:avLst/>
          </a:prstGeom>
          <a:solidFill>
            <a:srgbClr val="fbfae2"/>
          </a:solidFill>
          <a:ln w="9360">
            <a:solidFill>
              <a:srgbClr val="fbf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能力要求</a:t>
            </a:r>
            <a:br>
              <a:rPr sz="3600"/>
            </a:b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工作岗位评价步骤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2720" y="1630440"/>
            <a:ext cx="8136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按岗位工作性质，划分若干大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收集岗位信息：直接与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建立工作岗位评价小组，培训评价人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制订岗位评价总体计划、实施方案与细则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找出岗位主要因素及指标，并列单说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专家评定构建岗位评价指标体系，标准及量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重要岗位试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全面落实岗位评价计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撰写评价报告书，提供各部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工作总结，为以后岗位分类定级奠定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第二、三单元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7080" y="2708280"/>
            <a:ext cx="820908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02000"/>
                </a:solidFill>
                <a:latin typeface="华文行楷"/>
                <a:ea typeface="华康海报体W12(P)"/>
              </a:rPr>
              <a:t>工作岗位评价指标与标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02000"/>
                </a:solidFill>
                <a:latin typeface="华文行楷"/>
                <a:ea typeface="华康海报体W12(P)"/>
              </a:rPr>
              <a:t>工作岗位评价方法与应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12720" y="1630440"/>
            <a:ext cx="8136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工作岗位评价要素和指标的内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工作岗位评价要素的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工作岗位评价的指标的特点和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确定工作岗位评价要素和指标的基本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、权重系数的基本理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测评误差的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知识要求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00000" y="458280"/>
            <a:ext cx="77868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能力要求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8000" y="347508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工作岗位评价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44720" y="1486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分级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00360" y="11239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劳动责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71640" y="5130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误差调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84720" y="40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多种综合计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282920" y="2492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单一计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69080" y="191628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自然数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16680" y="2825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系数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99280" y="3330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简单相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3762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系数相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372360" y="42418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连乘积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72360" y="46990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百分比系数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71640" y="1701720"/>
            <a:ext cx="288720" cy="4608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119880 h 4608720"/>
              <a:gd name="textAreaBottom" fmla="*/ 4488840 h 460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11280" y="1295280"/>
            <a:ext cx="360360" cy="936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40360" y="2852640"/>
            <a:ext cx="215640" cy="1440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653080" y="2276640"/>
            <a:ext cx="291960" cy="911160"/>
          </a:xfrm>
          <a:custGeom>
            <a:avLst/>
            <a:gdLst>
              <a:gd name="textAreaLeft" fmla="*/ 186480 w 291960"/>
              <a:gd name="textAreaRight" fmla="*/ 292320 w 291960"/>
              <a:gd name="textAreaTop" fmla="*/ 23760 h 911160"/>
              <a:gd name="textAreaBottom" fmla="*/ 887400 h 91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83280" y="3473280"/>
            <a:ext cx="291960" cy="1586160"/>
          </a:xfrm>
          <a:custGeom>
            <a:avLst/>
            <a:gdLst>
              <a:gd name="textAreaLeft" fmla="*/ 186480 w 291960"/>
              <a:gd name="textAreaRight" fmla="*/ 292320 w 291960"/>
              <a:gd name="textAreaTop" fmla="*/ 41040 h 1586160"/>
              <a:gd name="textAreaBottom" fmla="*/ 1545120 h 158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16000" y="38354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量化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60360" y="6021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方法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40360" y="115092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劳动技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00360" y="1582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劳动强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771640" y="2014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社会心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40360" y="158256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劳动环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44720" y="3357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计分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771640" y="45100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权重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56000" y="3600360"/>
            <a:ext cx="291960" cy="1844640"/>
          </a:xfrm>
          <a:custGeom>
            <a:avLst/>
            <a:gdLst>
              <a:gd name="textAreaLeft" fmla="*/ 186480 w 291960"/>
              <a:gd name="textAreaRight" fmla="*/ 292320 w 291960"/>
              <a:gd name="textAreaTop" fmla="*/ 47880 h 1844640"/>
              <a:gd name="textAreaBottom" fmla="*/ 1796760 h 184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236000" y="254808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函数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237440" y="29527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常数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015320" y="2692440"/>
            <a:ext cx="291960" cy="622440"/>
          </a:xfrm>
          <a:custGeom>
            <a:avLst/>
            <a:gdLst>
              <a:gd name="textAreaLeft" fmla="*/ 186480 w 291960"/>
              <a:gd name="textAreaRight" fmla="*/ 292320 w 291960"/>
              <a:gd name="textAreaTop" fmla="*/ 16200 h 622440"/>
              <a:gd name="textAreaBottom" fmla="*/ 606240 h 62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380360" y="2060640"/>
            <a:ext cx="20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单一自然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308720" y="1701720"/>
            <a:ext cx="19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多个自然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142040" y="1844640"/>
            <a:ext cx="292320" cy="622440"/>
          </a:xfrm>
          <a:custGeom>
            <a:avLst/>
            <a:gdLst>
              <a:gd name="textAreaLeft" fmla="*/ 186840 w 292320"/>
              <a:gd name="textAreaRight" fmla="*/ 292680 w 292320"/>
              <a:gd name="textAreaTop" fmla="*/ 16200 h 622440"/>
              <a:gd name="textAreaBottom" fmla="*/ 606240 h 62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356000" y="4510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概率加权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068720" y="4724280"/>
            <a:ext cx="287280" cy="18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287960" y="5086440"/>
            <a:ext cx="20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事前－加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289400" y="5491080"/>
            <a:ext cx="36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事后－平衡系数调整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067280" y="5229360"/>
            <a:ext cx="291960" cy="622080"/>
          </a:xfrm>
          <a:custGeom>
            <a:avLst/>
            <a:gdLst>
              <a:gd name="textAreaLeft" fmla="*/ 186480 w 291960"/>
              <a:gd name="textAreaRight" fmla="*/ 292320 w 291960"/>
              <a:gd name="textAreaTop" fmla="*/ 16200 h 622080"/>
              <a:gd name="textAreaBottom" fmla="*/ 605880 h 622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00360" y="602136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排列法、分类法、因素比较法、评分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56000" y="6237360"/>
            <a:ext cx="28728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7543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996633"/>
                </a:solidFill>
                <a:latin typeface="Times New Roman"/>
              </a:rPr>
              <a:t>百分比系数法 </a:t>
            </a:r>
            <a:r>
              <a:rPr b="1" lang="zh-CN" sz="3500" spc="-1" strike="noStrike">
                <a:solidFill>
                  <a:srgbClr val="996633"/>
                </a:solidFill>
                <a:latin typeface="Times New Roman"/>
              </a:rPr>
              <a:t>5</a:t>
            </a:r>
            <a:r>
              <a:rPr b="1" lang="zh-CN" sz="3500" spc="-1" strike="noStrike">
                <a:solidFill>
                  <a:srgbClr val="996633"/>
                </a:solidFill>
                <a:latin typeface="Times New Roman"/>
              </a:rPr>
              <a:t>－</a:t>
            </a:r>
            <a:r>
              <a:rPr b="1" lang="zh-CN" sz="3500" spc="-1" strike="noStrike">
                <a:solidFill>
                  <a:srgbClr val="996633"/>
                </a:solidFill>
                <a:latin typeface="Times New Roman"/>
              </a:rPr>
              <a:t>25</a:t>
            </a:r>
            <a:endParaRPr b="1" lang="en-US" sz="35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08000" y="476280"/>
          <a:ext cx="8929800" cy="6521400"/>
        </p:xfrm>
        <a:graphic>
          <a:graphicData uri="http://schemas.openxmlformats.org/drawingml/2006/table">
            <a:tbl>
              <a:tblPr/>
              <a:tblGrid>
                <a:gridCol w="1316160"/>
                <a:gridCol w="1708200"/>
                <a:gridCol w="865080"/>
                <a:gridCol w="1079280"/>
                <a:gridCol w="1081080"/>
                <a:gridCol w="863640"/>
                <a:gridCol w="1079640"/>
                <a:gridCol w="93672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评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要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评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指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评价指标评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评价要素得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1800" spc="-1" strike="noStrike" baseline="-25000">
                          <a:solidFill>
                            <a:srgbClr val="402000"/>
                          </a:solidFill>
                          <a:latin typeface="Times New Roman"/>
                        </a:rPr>
                        <a:t>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P</a:t>
                      </a:r>
                      <a:r>
                        <a:rPr b="1" lang="en-US" sz="1800" spc="-1" strike="noStrike" baseline="-25000">
                          <a:solidFill>
                            <a:srgbClr val="402000"/>
                          </a:solidFill>
                          <a:latin typeface="Times New Roman"/>
                        </a:rPr>
                        <a:t>ij</a:t>
                      </a:r>
                      <a:r>
                        <a:rPr b="1" lang="en-US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1800" spc="-1" strike="noStrike" baseline="-25000">
                          <a:solidFill>
                            <a:srgbClr val="402000"/>
                          </a:solidFill>
                          <a:latin typeface="Times New Roman"/>
                        </a:rPr>
                        <a:t>ij </a:t>
                      </a:r>
                      <a:r>
                        <a:rPr b="1" lang="en-US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p</a:t>
                      </a:r>
                      <a:r>
                        <a:rPr b="1" lang="en-US" sz="1800" spc="-1" strike="noStrike" baseline="-25000">
                          <a:solidFill>
                            <a:srgbClr val="402000"/>
                          </a:solidFill>
                          <a:latin typeface="Times New Roman"/>
                        </a:rPr>
                        <a:t>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1800" spc="-1" strike="noStrike" baseline="-25000">
                          <a:solidFill>
                            <a:srgbClr val="402000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p</a:t>
                      </a:r>
                      <a:r>
                        <a:rPr b="1" lang="en-US" sz="1800" spc="-1" strike="noStrike" baseline="-25000">
                          <a:solidFill>
                            <a:srgbClr val="402000"/>
                          </a:solidFill>
                          <a:latin typeface="Times New Roman"/>
                        </a:rPr>
                        <a:t>i </a:t>
                      </a:r>
                      <a:r>
                        <a:rPr b="1" lang="en-US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1800" spc="-1" strike="noStrike" baseline="-25000">
                          <a:solidFill>
                            <a:srgbClr val="402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p</a:t>
                      </a:r>
                      <a:r>
                        <a:rPr b="1" lang="en-US" sz="1800" spc="-1" strike="noStrike" baseline="-25000">
                          <a:solidFill>
                            <a:srgbClr val="402000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劳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责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11(</a:t>
                      </a:r>
                      <a:r>
                        <a:rPr b="1" lang="zh-CN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质量责任</a:t>
                      </a: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12(</a:t>
                      </a:r>
                      <a:r>
                        <a:rPr b="1" lang="zh-CN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产量责任</a:t>
                      </a: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13(</a:t>
                      </a:r>
                      <a:r>
                        <a:rPr b="1" lang="zh-CN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安全责任</a:t>
                      </a: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14(</a:t>
                      </a:r>
                      <a:r>
                        <a:rPr b="1" lang="zh-CN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看管责任</a:t>
                      </a: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3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7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.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劳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强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劳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技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2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180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劳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环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6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3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4057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工作岗位评价总分</a:t>
                      </a:r>
                      <a:r>
                        <a:rPr b="1" lang="en-US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=</a:t>
                      </a:r>
                      <a:r>
                        <a:rPr b="1" lang="en-US" sz="18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∑X</a:t>
                      </a:r>
                      <a:r>
                        <a:rPr b="1" lang="en-US" sz="1800" spc="-1" strike="noStrike" baseline="-25000">
                          <a:solidFill>
                            <a:srgbClr val="402000"/>
                          </a:solidFill>
                          <a:latin typeface="宋体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P</a:t>
                      </a:r>
                      <a:r>
                        <a:rPr b="1" lang="en-US" sz="1800" spc="-1" strike="noStrike" baseline="-25000">
                          <a:solidFill>
                            <a:srgbClr val="402000"/>
                          </a:solidFill>
                          <a:latin typeface="宋体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=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50920" y="117360"/>
            <a:ext cx="872496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权重系数的确定：概率加权法 </a:t>
            </a: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－</a:t>
            </a: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26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395280" y="907920"/>
          <a:ext cx="8497800" cy="4062240"/>
        </p:xfrm>
        <a:graphic>
          <a:graphicData uri="http://schemas.openxmlformats.org/drawingml/2006/table">
            <a:tbl>
              <a:tblPr/>
              <a:tblGrid>
                <a:gridCol w="944640"/>
                <a:gridCol w="942840"/>
                <a:gridCol w="944640"/>
                <a:gridCol w="944640"/>
                <a:gridCol w="944640"/>
                <a:gridCol w="944280"/>
                <a:gridCol w="944640"/>
                <a:gridCol w="942840"/>
                <a:gridCol w="944640"/>
              </a:tblGrid>
              <a:tr h="403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测定指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分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P</a:t>
                      </a:r>
                      <a:r>
                        <a:rPr b="1" lang="en-US" sz="2000" spc="-1" strike="noStrike" baseline="-25000">
                          <a:solidFill>
                            <a:srgbClr val="4020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相对权数</a:t>
                      </a: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AJ</a:t>
                      </a: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J=1</a:t>
                      </a: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概率权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W</a:t>
                      </a:r>
                      <a:r>
                        <a:rPr b="1" lang="en-US" sz="2000" spc="-1" strike="noStrike" baseline="-25000">
                          <a:solidFill>
                            <a:srgbClr val="4020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得分</a:t>
                      </a: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P</a:t>
                      </a:r>
                      <a:r>
                        <a:rPr b="1" lang="en-US" sz="2000" spc="-1" strike="noStrike" baseline="-25000">
                          <a:solidFill>
                            <a:srgbClr val="402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W</a:t>
                      </a:r>
                      <a:r>
                        <a:rPr b="1" lang="en-US" sz="2000" spc="-1" strike="noStrike" baseline="-25000">
                          <a:solidFill>
                            <a:srgbClr val="4020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40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7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8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"/>
          <p:cNvSpPr/>
          <p:nvPr/>
        </p:nvSpPr>
        <p:spPr>
          <a:xfrm>
            <a:off x="324000" y="5086440"/>
            <a:ext cx="882000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W1=1.0X0.5+0.8X0.3+0.6X0.2=0.86,W2=1.0X0.9+0.8X0.1=0.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W3=1.0X0.6+0.8X0.2+0.6X0.2=0.88, W4=0.8X0.4+0.6X0.3+0.4X0.2+0.2X0.1=0.6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W5=1.0X0.5+0.8X0.2+0.6X0.2+0.4X0.1=0.82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E1=</a:t>
            </a:r>
            <a:r>
              <a:rPr b="1" lang="en-US" sz="2000" spc="-1" strike="noStrike">
                <a:solidFill>
                  <a:srgbClr val="402000"/>
                </a:solidFill>
                <a:latin typeface="宋体"/>
              </a:rPr>
              <a:t>∑PiWi=17.2+14.7+13.2+12.0+24.6=81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排列法</a:t>
            </a:r>
            <a:br>
              <a:rPr sz="3600"/>
            </a:b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简单排列法 </a:t>
            </a: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－</a:t>
            </a: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28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539640" y="1844640"/>
          <a:ext cx="8229600" cy="4667400"/>
        </p:xfrm>
        <a:graphic>
          <a:graphicData uri="http://schemas.openxmlformats.org/drawingml/2006/table">
            <a:tbl>
              <a:tblPr/>
              <a:tblGrid>
                <a:gridCol w="1781280"/>
                <a:gridCol w="1342800"/>
                <a:gridCol w="1343160"/>
                <a:gridCol w="1343160"/>
                <a:gridCol w="1277640"/>
                <a:gridCol w="114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岗位编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1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1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1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1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1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评价人员</a:t>
                      </a: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评价人员</a:t>
                      </a: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评价人员</a:t>
                      </a: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评价人员</a:t>
                      </a: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评价人员</a:t>
                      </a: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合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平均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岗位排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00000" y="851040"/>
            <a:ext cx="77868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Times New Roman"/>
              </a:rPr>
              <a:t>第一单元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8360" y="2276640"/>
            <a:ext cx="7920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02000"/>
                </a:solidFill>
                <a:latin typeface="华文行楷"/>
                <a:ea typeface="华康海报体W12(P)"/>
              </a:rPr>
              <a:t>薪酬管理制度的制订依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岗位综合排列法 </a:t>
            </a: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－</a:t>
            </a: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29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351000" y="2165400"/>
          <a:ext cx="8469000" cy="4071960"/>
        </p:xfrm>
        <a:graphic>
          <a:graphicData uri="http://schemas.openxmlformats.org/drawingml/2006/table">
            <a:tbl>
              <a:tblPr/>
              <a:tblGrid>
                <a:gridCol w="836280"/>
                <a:gridCol w="1563840"/>
                <a:gridCol w="1214280"/>
                <a:gridCol w="1212840"/>
                <a:gridCol w="1214280"/>
                <a:gridCol w="1212840"/>
                <a:gridCol w="1214640"/>
              </a:tblGrid>
              <a:tr h="4899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岗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位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五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指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标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评价指标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岗位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岗位乙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岗位丙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岗位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岗位戊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岗位责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知识经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技能要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劳动强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288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劳动环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合计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489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岗位排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选择排列法 </a:t>
            </a: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－</a:t>
            </a: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30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108000" y="2217600"/>
          <a:ext cx="8820000" cy="2651040"/>
        </p:xfrm>
        <a:graphic>
          <a:graphicData uri="http://schemas.openxmlformats.org/drawingml/2006/table">
            <a:tbl>
              <a:tblPr/>
              <a:tblGrid>
                <a:gridCol w="863640"/>
                <a:gridCol w="739800"/>
                <a:gridCol w="801720"/>
                <a:gridCol w="801720"/>
                <a:gridCol w="801720"/>
                <a:gridCol w="803160"/>
                <a:gridCol w="801720"/>
                <a:gridCol w="801720"/>
                <a:gridCol w="801720"/>
                <a:gridCol w="801720"/>
                <a:gridCol w="801360"/>
              </a:tblGrid>
              <a:tr h="145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排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11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岗位代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D</a:t>
                      </a:r>
                      <a:r>
                        <a:rPr b="1" lang="en-US" sz="2400" spc="-1" strike="noStrike" baseline="-25000">
                          <a:solidFill>
                            <a:srgbClr val="402000"/>
                          </a:solidFill>
                          <a:latin typeface="Times New Roman"/>
                        </a:rPr>
                        <a:t>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400" spc="-1" strike="noStrike" baseline="-25000">
                          <a:solidFill>
                            <a:srgbClr val="402000"/>
                          </a:solidFill>
                          <a:latin typeface="Times New Roman"/>
                        </a:rPr>
                        <a:t>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402000"/>
                          </a:solidFill>
                          <a:latin typeface="Times New Roman"/>
                        </a:rPr>
                        <a:t>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402000"/>
                          </a:solidFill>
                          <a:latin typeface="Times New Roman"/>
                        </a:rPr>
                        <a:t>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 baseline="-25000">
                          <a:solidFill>
                            <a:srgbClr val="402000"/>
                          </a:solidFill>
                          <a:latin typeface="Times New Roman"/>
                        </a:rPr>
                        <a:t>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</a:t>
                      </a:r>
                      <a:r>
                        <a:rPr b="1" lang="en-US" sz="2400" spc="-1" strike="noStrike" baseline="-25000">
                          <a:solidFill>
                            <a:srgbClr val="402000"/>
                          </a:solidFill>
                          <a:latin typeface="Times New Roman"/>
                        </a:rPr>
                        <a:t>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G</a:t>
                      </a:r>
                      <a:r>
                        <a:rPr b="1" lang="en-US" sz="2400" spc="-1" strike="noStrike" baseline="-25000">
                          <a:solidFill>
                            <a:srgbClr val="402000"/>
                          </a:solidFill>
                          <a:latin typeface="Times New Roman"/>
                        </a:rPr>
                        <a:t>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400" spc="-1" strike="noStrike" baseline="-25000">
                          <a:solidFill>
                            <a:srgbClr val="402000"/>
                          </a:solidFill>
                          <a:latin typeface="Times New Roman"/>
                        </a:rPr>
                        <a:t>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402000"/>
                          </a:solidFill>
                          <a:latin typeface="Times New Roman"/>
                        </a:rPr>
                        <a:t>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en-US" sz="2400" spc="-1" strike="noStrike" baseline="-25000">
                          <a:solidFill>
                            <a:srgbClr val="402000"/>
                          </a:solidFill>
                          <a:latin typeface="Times New Roman"/>
                        </a:rPr>
                        <a:t>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成对比较法 </a:t>
            </a: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－</a:t>
            </a: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31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324000" y="2025720"/>
          <a:ext cx="8424720" cy="4576680"/>
        </p:xfrm>
        <a:graphic>
          <a:graphicData uri="http://schemas.openxmlformats.org/drawingml/2006/table">
            <a:tbl>
              <a:tblPr/>
              <a:tblGrid>
                <a:gridCol w="1052640"/>
                <a:gridCol w="1054080"/>
                <a:gridCol w="1052280"/>
                <a:gridCol w="1054080"/>
                <a:gridCol w="1052640"/>
                <a:gridCol w="1052640"/>
                <a:gridCol w="1054080"/>
                <a:gridCol w="1052280"/>
              </a:tblGrid>
              <a:tr h="92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岗位代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排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汇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+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成对比较法统计汇总表 </a:t>
            </a: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－</a:t>
            </a: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32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324000" y="2122560"/>
          <a:ext cx="8569080" cy="4114800"/>
        </p:xfrm>
        <a:graphic>
          <a:graphicData uri="http://schemas.openxmlformats.org/drawingml/2006/table">
            <a:tbl>
              <a:tblPr/>
              <a:tblGrid>
                <a:gridCol w="2231640"/>
                <a:gridCol w="1224000"/>
                <a:gridCol w="1152360"/>
                <a:gridCol w="1008360"/>
                <a:gridCol w="1008000"/>
                <a:gridCol w="1008000"/>
                <a:gridCol w="936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岗位评价要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岗位责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劳动强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知识水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技能要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劳动环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社会心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排序号汇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岗位级别排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二、分类法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373480" y="2238480"/>
            <a:ext cx="4800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632040" y="16858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组成评定小组，收集有关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58040" y="1727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73480" y="3152880"/>
            <a:ext cx="4800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89840" y="26002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将全部岗位分成若干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73480" y="4044960"/>
            <a:ext cx="4800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32400" y="349236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将系统内岗位分成若干层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73480" y="4959360"/>
            <a:ext cx="4800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64360" y="44067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明确各档次岗位的内容、责任权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58040" y="4448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79600" y="5843520"/>
            <a:ext cx="4800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18920" y="5291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明确各档次资格要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79600" y="6757920"/>
            <a:ext cx="4800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703320" y="61657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评定出不同系统间的相对价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946880" y="6227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82520" y="2565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82520" y="3476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77120" y="5276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8" name=""/>
          <p:cNvGraphicFramePr/>
          <p:nvPr/>
        </p:nvGraphicFramePr>
        <p:xfrm>
          <a:off x="324000" y="1197000"/>
          <a:ext cx="8569080" cy="5489640"/>
        </p:xfrm>
        <a:graphic>
          <a:graphicData uri="http://schemas.openxmlformats.org/drawingml/2006/table">
            <a:tbl>
              <a:tblPr/>
              <a:tblGrid>
                <a:gridCol w="1201320"/>
                <a:gridCol w="1960560"/>
                <a:gridCol w="1663920"/>
                <a:gridCol w="1942920"/>
                <a:gridCol w="1800360"/>
              </a:tblGrid>
              <a:tr h="62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职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管理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技能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生产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营销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总经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副总经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总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生产副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营销副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资深经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总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生产部经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营销部经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专业经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总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生产部副经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营销部副经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项目经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高级技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车间主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办事处主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主管经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助理技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车间副主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办事处副主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经理助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中级技术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车间组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办事处主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行政秘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初级技术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班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业务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钳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业务助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铣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跟单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焊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派单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车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571320"/>
            <a:ext cx="77868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分类法示例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三、因素比较法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68360" y="1989000"/>
            <a:ext cx="85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Comic Sans MS"/>
              </a:rPr>
              <a:t>         </a:t>
            </a:r>
            <a:r>
              <a:rPr b="1" lang="en-US" sz="3200" spc="-1" strike="noStrike">
                <a:solidFill>
                  <a:srgbClr val="402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402000"/>
                </a:solidFill>
                <a:latin typeface="Comic Sans MS"/>
              </a:rPr>
              <a:t>、选出</a:t>
            </a:r>
            <a:r>
              <a:rPr b="1" lang="en-US" sz="3200" spc="-1" strike="noStrike">
                <a:solidFill>
                  <a:srgbClr val="402000"/>
                </a:solidFill>
                <a:latin typeface="Comic Sans MS"/>
              </a:rPr>
              <a:t>15-20</a:t>
            </a:r>
            <a:r>
              <a:rPr b="1" lang="zh-CN" sz="3200" spc="-1" strike="noStrike">
                <a:solidFill>
                  <a:srgbClr val="402000"/>
                </a:solidFill>
                <a:latin typeface="Comic Sans MS"/>
              </a:rPr>
              <a:t>个主要岗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402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402000"/>
                </a:solidFill>
                <a:latin typeface="Comic Sans MS"/>
              </a:rPr>
              <a:t>、选定各岗位共有的影响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402000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402000"/>
                </a:solidFill>
                <a:latin typeface="Comic Sans MS"/>
              </a:rPr>
              <a:t>、比较主要岗位的各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402000"/>
                </a:solidFill>
                <a:latin typeface="Comic Sans MS"/>
              </a:rPr>
              <a:t>4</a:t>
            </a:r>
            <a:r>
              <a:rPr b="1" lang="zh-CN" sz="3200" spc="-1" strike="noStrike">
                <a:solidFill>
                  <a:srgbClr val="402000"/>
                </a:solidFill>
                <a:latin typeface="Comic Sans MS"/>
              </a:rPr>
              <a:t>、将工资总额分解到对应因素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402000"/>
                </a:solidFill>
                <a:latin typeface="Comic Sans MS"/>
              </a:rPr>
              <a:t>5</a:t>
            </a:r>
            <a:r>
              <a:rPr b="1" lang="zh-CN" sz="3200" spc="-1" strike="noStrike">
                <a:solidFill>
                  <a:srgbClr val="402000"/>
                </a:solidFill>
                <a:latin typeface="Comic Sans MS"/>
              </a:rPr>
              <a:t>、将其它岗位与现有岗位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三、因素比较法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79280" y="1557360"/>
          <a:ext cx="8748720" cy="5040360"/>
        </p:xfrm>
        <a:graphic>
          <a:graphicData uri="http://schemas.openxmlformats.org/drawingml/2006/table">
            <a:tbl>
              <a:tblPr/>
              <a:tblGrid>
                <a:gridCol w="1254240"/>
                <a:gridCol w="649080"/>
                <a:gridCol w="849240"/>
                <a:gridCol w="649440"/>
                <a:gridCol w="849240"/>
                <a:gridCol w="649440"/>
                <a:gridCol w="849240"/>
                <a:gridCol w="649440"/>
                <a:gridCol w="850680"/>
                <a:gridCol w="647640"/>
                <a:gridCol w="851040"/>
              </a:tblGrid>
              <a:tr h="720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月工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智力条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技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责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身体条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工作环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工资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工资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工资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工资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工资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会计</a:t>
                      </a: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(125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出纳</a:t>
                      </a: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(11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2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文书</a:t>
                      </a: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(1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司机</a:t>
                      </a: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(105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(5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2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杂工</a:t>
                      </a: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(65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(9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"/>
          <p:cNvGraphicFramePr/>
          <p:nvPr/>
        </p:nvGraphicFramePr>
        <p:xfrm>
          <a:off x="250920" y="1298520"/>
          <a:ext cx="8424720" cy="4768920"/>
        </p:xfrm>
        <a:graphic>
          <a:graphicData uri="http://schemas.openxmlformats.org/drawingml/2006/table">
            <a:tbl>
              <a:tblPr/>
              <a:tblGrid>
                <a:gridCol w="2728800"/>
                <a:gridCol w="1879560"/>
                <a:gridCol w="38163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工作岗位评价指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与标准对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工作岗位评价结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智力条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与</a:t>
                      </a: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相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按</a:t>
                      </a: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岗位智力条件工资额应为</a:t>
                      </a: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10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技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与</a:t>
                      </a: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D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相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按</a:t>
                      </a: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D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岗位技能条件工资额应为</a:t>
                      </a: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30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8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责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与</a:t>
                      </a: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相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按</a:t>
                      </a: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岗位责任条件工资额应为</a:t>
                      </a: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60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.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身体条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与</a:t>
                      </a: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相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按</a:t>
                      </a: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岗位身体条件工资额应为</a:t>
                      </a: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50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.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工作环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与</a:t>
                      </a: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相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按</a:t>
                      </a: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岗位工作环境工资额应为</a:t>
                      </a: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40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5" name=""/>
          <p:cNvSpPr/>
          <p:nvPr/>
        </p:nvSpPr>
        <p:spPr>
          <a:xfrm>
            <a:off x="250920" y="623736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最后将各项结果相加：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210+230+360+150+140=10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95280" y="476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工作岗位评价结果汇总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四、评分法  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68360" y="1773360"/>
            <a:ext cx="828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、确定岗位评价的主要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、确定岗位评价的具体项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、对各评价因素区分出不同级别，并赋予一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定的点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、汇总评价项目，根据重要性给定权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并计算出各岗位的点数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、将相同性质的岗位归入一定等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一、薪酬的内涵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085840"/>
            <a:ext cx="815364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薪酬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(Compensation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泛指员工获得的一切形式的报酬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包括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薪资、福利和保险等各种直接或间接的报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岗位所需要体力评分标准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519120" y="1889280"/>
          <a:ext cx="8229600" cy="3484440"/>
        </p:xfrm>
        <a:graphic>
          <a:graphicData uri="http://schemas.openxmlformats.org/drawingml/2006/table">
            <a:tbl>
              <a:tblPr/>
              <a:tblGrid>
                <a:gridCol w="801720"/>
                <a:gridCol w="923760"/>
                <a:gridCol w="1084320"/>
                <a:gridCol w="1084320"/>
                <a:gridCol w="1084320"/>
                <a:gridCol w="1082520"/>
                <a:gridCol w="1084320"/>
                <a:gridCol w="1084320"/>
              </a:tblGrid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评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等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评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内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极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体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较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体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重复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续</a:t>
                      </a: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坐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重复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续</a:t>
                      </a: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站立</a:t>
                      </a: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重复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续</a:t>
                      </a: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较重</a:t>
                      </a: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重体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极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体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点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1" name=""/>
          <p:cNvSpPr/>
          <p:nvPr/>
        </p:nvSpPr>
        <p:spPr>
          <a:xfrm>
            <a:off x="900000" y="558972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ahoma"/>
              </a:rPr>
              <a:t>点数Ｙ＝等级序号</a:t>
            </a:r>
            <a:r>
              <a:rPr b="1" lang="zh-CN" sz="2400" spc="-1" strike="noStrike" baseline="30000">
                <a:solidFill>
                  <a:srgbClr val="402000"/>
                </a:solidFill>
                <a:latin typeface="Tahoma"/>
                <a:ea typeface="宋体"/>
              </a:rPr>
              <a:t>２</a:t>
            </a:r>
            <a:r>
              <a:rPr b="1" lang="zh-CN" sz="2400" spc="-1" strike="noStrike">
                <a:solidFill>
                  <a:srgbClr val="402000"/>
                </a:solidFill>
                <a:latin typeface="Tahoma"/>
              </a:rPr>
              <a:t>　－　等级序号　＋　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00000" y="514080"/>
            <a:ext cx="77868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某公司岗位评价权数分配表</a:t>
            </a:r>
            <a:endParaRPr b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252360" y="765000"/>
          <a:ext cx="8321760" cy="5937120"/>
        </p:xfrm>
        <a:graphic>
          <a:graphicData uri="http://schemas.openxmlformats.org/drawingml/2006/table">
            <a:tbl>
              <a:tblPr/>
              <a:tblGrid>
                <a:gridCol w="617400"/>
                <a:gridCol w="3097440"/>
                <a:gridCol w="1439640"/>
                <a:gridCol w="1729080"/>
                <a:gridCol w="1438200"/>
              </a:tblGrid>
              <a:tr h="13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工作岗位评价项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指标权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 baseline="-25000">
                          <a:solidFill>
                            <a:srgbClr val="402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元素权重∑</a:t>
                      </a: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 baseline="-25000">
                          <a:solidFill>
                            <a:srgbClr val="4020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权数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35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(01)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劳动负荷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(02)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工作危险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(03)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劳动环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(04)</a:t>
                      </a:r>
                      <a:r>
                        <a:rPr b="1" lang="zh-CN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脑力劳动紧张程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(05)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工作复杂程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(06)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知识水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(07)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业务知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(08)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熟练程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(09)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工作责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(10)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监督责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某公司某岗位</a:t>
            </a: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10</a:t>
            </a: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个项目的评价结果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609480" y="1600200"/>
          <a:ext cx="8153280" cy="4500720"/>
        </p:xfrm>
        <a:graphic>
          <a:graphicData uri="http://schemas.openxmlformats.org/drawingml/2006/table">
            <a:tbl>
              <a:tblPr/>
              <a:tblGrid>
                <a:gridCol w="1224000"/>
                <a:gridCol w="789120"/>
                <a:gridCol w="579240"/>
                <a:gridCol w="579600"/>
                <a:gridCol w="581040"/>
                <a:gridCol w="581040"/>
                <a:gridCol w="577800"/>
                <a:gridCol w="581040"/>
                <a:gridCol w="579240"/>
                <a:gridCol w="581040"/>
                <a:gridCol w="579600"/>
                <a:gridCol w="920520"/>
              </a:tblGrid>
              <a:tr h="15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评价项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序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合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评价点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权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点数Ｘ权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2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工作岗位评价结果分级标准</a:t>
            </a:r>
            <a:endParaRPr b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501480" y="1905120"/>
          <a:ext cx="8247240" cy="4114800"/>
        </p:xfrm>
        <a:graphic>
          <a:graphicData uri="http://schemas.openxmlformats.org/drawingml/2006/table">
            <a:tbl>
              <a:tblPr/>
              <a:tblGrid>
                <a:gridCol w="679320"/>
                <a:gridCol w="1351080"/>
                <a:gridCol w="722160"/>
                <a:gridCol w="1351080"/>
                <a:gridCol w="719280"/>
                <a:gridCol w="1352520"/>
                <a:gridCol w="720720"/>
                <a:gridCol w="1351080"/>
              </a:tblGrid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Ａ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800</a:t>
                      </a: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以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Ｅ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101-1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Ｉ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501-1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Ｍ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901-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Ｂ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801-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Ｆ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201-1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Ｊ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601-1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Ｎ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2001-2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Ｃ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901-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Ｇ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301-1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Ｋ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701-1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Ｏ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2101-2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Ｄ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001-1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Ｈ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401-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Ｌ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1801-1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Ｐ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2000"/>
                          </a:solidFill>
                          <a:latin typeface="宋体"/>
                        </a:rPr>
                        <a:t>2201-2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真题练习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二、计算题（本题共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题，共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分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先根据题意进行计算，然后进行必要分析，只有计算结果没有计算过程不得分）。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Times New Roman"/>
              </a:rPr>
              <a:t>第三节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68360" y="2276640"/>
            <a:ext cx="7920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02000"/>
                </a:solidFill>
                <a:latin typeface="华文行楷"/>
                <a:ea typeface="华康海报体W12(P)"/>
              </a:rPr>
              <a:t>人工成本核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5653080" y="3933720"/>
            <a:ext cx="33876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539640" y="1052640"/>
            <a:ext cx="8642520" cy="55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知识要求</a:t>
            </a: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一、人工成本的概念及其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二、确定合理人工成本应考虑的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三、人工成本核算的意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能力要求</a:t>
            </a: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一、人工成本核算程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二、合理确定人工成本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、劳动分配率基准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、销售净额基准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、损益分歧点基准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250920" y="260280"/>
            <a:ext cx="849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人工成本核算的基本指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从业人员年平均人数、从业人员的年人均工作时数、企业销售收入（营业收入）、企业增加值（纯收入）、企业利润总额、企业成本（费用）总额、企业人工成本总额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企业从业人员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人均工作时数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企业年制度工时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年加班工时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损耗工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484360" y="3141720"/>
            <a:ext cx="5256360" cy="0"/>
          </a:xfrm>
          <a:prstGeom prst="line">
            <a:avLst/>
          </a:prstGeom>
          <a:ln w="1908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132000" y="3213000"/>
            <a:ext cx="41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企业从业人员年平均人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5280" y="4005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人工成本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企业从业人员劳动报酬总额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社会保险费用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福利费用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教育费用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劳动保护费用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住房费用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其他人工成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333360"/>
            <a:ext cx="91440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核算人工成本投入产出指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、销售收入与人工费用比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6072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人工费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29080" y="1844640"/>
            <a:ext cx="280800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84360" y="1844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销售收入（营业收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1640" y="160344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人工费用比率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843280" y="2205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人工费用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员工总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629080" y="2611440"/>
            <a:ext cx="4248000" cy="255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340000" y="27082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销售收入（营业收入）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员工总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52360" y="2368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843280" y="31892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薪酬水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629080" y="3595680"/>
            <a:ext cx="4248000" cy="255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40000" y="36925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单位员工销售收入（营业收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52360" y="3352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429264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、劳动分配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50920" y="5013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劳动分配率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484360" y="4797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人工费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97080" y="5203800"/>
            <a:ext cx="3022560" cy="255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411280" y="5300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增加值（纯收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214200"/>
            <a:ext cx="8748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合理确定人工成本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、劳动分配率基准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9640" y="1557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合理的人工费用率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276720" y="126828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人工费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492360" y="18194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销售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19640" y="1773360"/>
            <a:ext cx="12967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003640" y="12430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净产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003640" y="18194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销售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003640" y="1773360"/>
            <a:ext cx="129708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716360" y="15318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99280" y="155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804000" y="17478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净产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588000" y="119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人工费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730920" y="1700280"/>
            <a:ext cx="129708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59280" y="234936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目标附加价值率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目标劳动分配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278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、假设某公司目标（也称计划）净产值率为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40%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，目标劳动分配率为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45%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，目标人工成本为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2600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万元，按人工费用率之基准计算，其目标销售额应为多少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11280" y="42670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人工费用率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56000" y="390852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目标人工费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56000" y="4437000"/>
            <a:ext cx="208728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700360" y="443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目标销售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11280" y="51325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目标销售额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84360" y="48434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目标人工费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484360" y="5300640"/>
            <a:ext cx="208764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00360" y="53481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人工费用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11280" y="628488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目标附加价值率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目标劳动分配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19280" y="57085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目标人工费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26920" y="6165720"/>
            <a:ext cx="446436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1640" y="595008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327640" y="595008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724360" y="6165720"/>
            <a:ext cx="172728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012000" y="5661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2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651640" y="6308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40%X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380360" y="595008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=14444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一、薪酬的内涵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7138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薪金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以较长时间为单位计算的劳动报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酬．如月薪、年薪。国内称“薪水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工资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以工时或件数计算的劳动报酬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报酬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员工完成任务后，所获得的一切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有形或无形的待遇．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189000"/>
            <a:ext cx="91440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合理确定人工成本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、销售净额基准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本年平均薪酬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上年平均薪酬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1+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薪酬增长率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本年平均薪酬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目标人工成本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本年计划平均人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2000"/>
                </a:solidFill>
                <a:latin typeface="Arial"/>
              </a:rPr>
              <a:t>目标人工成本</a:t>
            </a:r>
            <a:r>
              <a:rPr b="1" lang="en-US" sz="2300" spc="-1" strike="noStrike">
                <a:solidFill>
                  <a:srgbClr val="402000"/>
                </a:solidFill>
                <a:latin typeface="Arial"/>
              </a:rPr>
              <a:t>/</a:t>
            </a:r>
            <a:r>
              <a:rPr b="1" lang="zh-CN" sz="2300" spc="-1" strike="noStrike">
                <a:solidFill>
                  <a:srgbClr val="402000"/>
                </a:solidFill>
                <a:latin typeface="Arial"/>
              </a:rPr>
              <a:t>本年计划平均人数</a:t>
            </a:r>
            <a:r>
              <a:rPr b="1" lang="en-US" sz="2300" spc="-1" strike="noStrike">
                <a:solidFill>
                  <a:srgbClr val="402000"/>
                </a:solidFill>
                <a:latin typeface="Arial"/>
              </a:rPr>
              <a:t>=</a:t>
            </a:r>
            <a:r>
              <a:rPr b="1" lang="zh-CN" sz="2300" spc="-1" strike="noStrike">
                <a:solidFill>
                  <a:srgbClr val="402000"/>
                </a:solidFill>
                <a:latin typeface="Arial"/>
              </a:rPr>
              <a:t>上年平均薪酬</a:t>
            </a:r>
            <a:r>
              <a:rPr b="1" lang="en-US" sz="2300" spc="-1" strike="noStrike">
                <a:solidFill>
                  <a:srgbClr val="402000"/>
                </a:solidFill>
                <a:latin typeface="Arial"/>
              </a:rPr>
              <a:t>X</a:t>
            </a:r>
            <a:r>
              <a:rPr b="1" lang="zh-CN" sz="2300" spc="-1" strike="noStrike">
                <a:solidFill>
                  <a:srgbClr val="402000"/>
                </a:solidFill>
                <a:latin typeface="Arial"/>
              </a:rPr>
              <a:t>（ </a:t>
            </a:r>
            <a:r>
              <a:rPr b="1" lang="en-US" sz="2300" spc="-1" strike="noStrike">
                <a:solidFill>
                  <a:srgbClr val="402000"/>
                </a:solidFill>
                <a:latin typeface="Arial"/>
              </a:rPr>
              <a:t>1+</a:t>
            </a:r>
            <a:r>
              <a:rPr b="1" lang="zh-CN" sz="2300" spc="-1" strike="noStrike">
                <a:solidFill>
                  <a:srgbClr val="402000"/>
                </a:solidFill>
                <a:latin typeface="Arial"/>
              </a:rPr>
              <a:t>薪酬增长率）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402000"/>
                </a:solidFill>
                <a:latin typeface="Arial"/>
              </a:rPr>
              <a:t>目标人工成本</a:t>
            </a:r>
            <a:r>
              <a:rPr b="1" lang="en-US" sz="2300" spc="-1" strike="noStrike">
                <a:solidFill>
                  <a:srgbClr val="402000"/>
                </a:solidFill>
                <a:latin typeface="Arial"/>
              </a:rPr>
              <a:t>=</a:t>
            </a:r>
            <a:r>
              <a:rPr b="1" lang="zh-CN" sz="2300" spc="-1" strike="noStrike">
                <a:solidFill>
                  <a:srgbClr val="402000"/>
                </a:solidFill>
                <a:latin typeface="Arial"/>
              </a:rPr>
              <a:t>本年计划平均人数</a:t>
            </a:r>
            <a:r>
              <a:rPr b="1" lang="en-US" sz="2300" spc="-1" strike="noStrike">
                <a:solidFill>
                  <a:srgbClr val="402000"/>
                </a:solidFill>
                <a:latin typeface="Arial"/>
              </a:rPr>
              <a:t>X</a:t>
            </a:r>
            <a:r>
              <a:rPr b="1" lang="zh-CN" sz="2300" spc="-1" strike="noStrike">
                <a:solidFill>
                  <a:srgbClr val="402000"/>
                </a:solidFill>
                <a:latin typeface="Arial"/>
              </a:rPr>
              <a:t>上年平均薪酬</a:t>
            </a:r>
            <a:r>
              <a:rPr b="1" lang="en-US" sz="2300" spc="-1" strike="noStrike">
                <a:solidFill>
                  <a:srgbClr val="402000"/>
                </a:solidFill>
                <a:latin typeface="Arial"/>
              </a:rPr>
              <a:t>X</a:t>
            </a:r>
            <a:r>
              <a:rPr b="1" lang="zh-CN" sz="2300" spc="-1" strike="noStrike">
                <a:solidFill>
                  <a:srgbClr val="402000"/>
                </a:solidFill>
                <a:latin typeface="Arial"/>
              </a:rPr>
              <a:t>（ </a:t>
            </a:r>
            <a:r>
              <a:rPr b="1" lang="en-US" sz="2300" spc="-1" strike="noStrike">
                <a:solidFill>
                  <a:srgbClr val="402000"/>
                </a:solidFill>
                <a:latin typeface="Arial"/>
              </a:rPr>
              <a:t>1+</a:t>
            </a:r>
            <a:r>
              <a:rPr b="1" lang="zh-CN" sz="2300" spc="-1" strike="noStrike">
                <a:solidFill>
                  <a:srgbClr val="402000"/>
                </a:solidFill>
                <a:latin typeface="Arial"/>
              </a:rPr>
              <a:t>薪酬增长率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人工费用率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目标人工成本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目标销售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目标销售额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目标人工成本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人工费用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、某企业人工费用率为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18%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，上年平均薪酬为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6600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元，本年度计划平均人数为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108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人，平均薪酬增长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25%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，本年销售额应为多少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目标人工成本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=108X6600X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1+25%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=891000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目标销售额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目标人工成本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人工费用率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=89100÷18%=495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万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0" y="189000"/>
            <a:ext cx="9144000" cy="40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Arial"/>
              </a:rPr>
              <a:t>合理确定人工成本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、损益分歧点基准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损益分歧点：又称损益平衡点或收支平衡点，即损益平衡，还可以概括为利润为零时的销货额或销售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销售收入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制造成本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销售及管理费用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固定成本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变动成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P——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单位产品售价  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V——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单位产品变动成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F——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固定成本   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X——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产量或销售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PX=F+V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损益分歧点的销售量：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X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08360" y="3789360"/>
            <a:ext cx="11509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08360" y="33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51280" y="3789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P—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5280" y="41958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P—V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：为每单位产品边际利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8000" y="48434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PX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00000" y="5013360"/>
            <a:ext cx="151128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42920" y="45561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258920" y="5013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P—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58920" y="5373720"/>
            <a:ext cx="79200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547640" y="54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595008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损益分歧点销售额：固定成本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边际利益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Times New Roman"/>
              </a:rPr>
              <a:t>第四节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68360" y="2276640"/>
            <a:ext cx="7920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02000"/>
                </a:solidFill>
                <a:latin typeface="华文行楷"/>
                <a:ea typeface="华康海报体W12(P)"/>
              </a:rPr>
              <a:t>员工福利管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24000" y="1844640"/>
            <a:ext cx="864216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402000"/>
                </a:solidFill>
                <a:latin typeface="Arial"/>
              </a:rPr>
              <a:t>知识要求</a:t>
            </a: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Arial"/>
              </a:rPr>
              <a:t>一、福利的本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Arial"/>
              </a:rPr>
              <a:t>二、福利管理的主要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402000"/>
                </a:solidFill>
                <a:latin typeface="Arial"/>
              </a:rPr>
              <a:t>能力要求</a:t>
            </a: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Arial"/>
              </a:rPr>
              <a:t>各项福利总额预算计划的制定程序和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737720" y="620640"/>
            <a:ext cx="3070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Times New Roman"/>
              </a:rPr>
              <a:t>第一单元  福利总额预算计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68360" y="1628640"/>
            <a:ext cx="864216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402000"/>
                </a:solidFill>
                <a:latin typeface="Arial"/>
              </a:rPr>
              <a:t>知识要求</a:t>
            </a: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Arial"/>
              </a:rPr>
              <a:t>一、社会保障的基本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Arial"/>
              </a:rPr>
              <a:t>二、社会保障的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402000"/>
                </a:solidFill>
                <a:latin typeface="Arial"/>
              </a:rPr>
              <a:t>能力要求</a:t>
            </a: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Arial"/>
              </a:rPr>
              <a:t>一、各类保险金的计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Arial"/>
              </a:rPr>
              <a:t>二、住房公积金的计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874880" y="692280"/>
            <a:ext cx="50817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Times New Roman"/>
              </a:rPr>
              <a:t>第二单元  各类保险金和住房公积金核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2916360" y="2133720"/>
            <a:ext cx="2592360" cy="50148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社会保障体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8360" y="3357720"/>
            <a:ext cx="1366920" cy="216036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社会保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Times New Roman"/>
              </a:rPr>
              <a:t>养老保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Times New Roman"/>
              </a:rPr>
              <a:t>失业保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Times New Roman"/>
              </a:rPr>
              <a:t>工伤保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Times New Roman"/>
              </a:rPr>
              <a:t>医疗保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Times New Roman"/>
              </a:rPr>
              <a:t>生育保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68360" y="3787920"/>
            <a:ext cx="1366920" cy="2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843280" y="3429000"/>
            <a:ext cx="1366920" cy="208908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社会救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Times New Roman"/>
              </a:rPr>
              <a:t>贫困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Times New Roman"/>
              </a:rPr>
              <a:t>残疾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Times New Roman"/>
              </a:rPr>
              <a:t>灾    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43280" y="3933720"/>
            <a:ext cx="13669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59280" y="3429000"/>
            <a:ext cx="1368360" cy="208584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社会福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Times New Roman"/>
              </a:rPr>
              <a:t>公共设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Times New Roman"/>
              </a:rPr>
              <a:t>财政补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Times New Roman"/>
              </a:rPr>
              <a:t>居民住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Times New Roman"/>
              </a:rPr>
              <a:t>生活补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Times New Roman"/>
              </a:rPr>
              <a:t>集体福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59280" y="3860640"/>
            <a:ext cx="1366920" cy="324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948360" y="3429000"/>
            <a:ext cx="1366920" cy="216072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社会优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Times New Roman"/>
              </a:rPr>
              <a:t>退休军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Times New Roman"/>
              </a:rPr>
              <a:t>安       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Times New Roman"/>
              </a:rPr>
              <a:t>军人家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2000"/>
                </a:solidFill>
                <a:latin typeface="Times New Roman"/>
              </a:rPr>
              <a:t>烈属抚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948360" y="3860640"/>
            <a:ext cx="1366920" cy="324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116000" y="2925720"/>
            <a:ext cx="1440" cy="5032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564000" y="2925720"/>
            <a:ext cx="1440" cy="5745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08720" y="2924280"/>
            <a:ext cx="1440" cy="5047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69080" y="2925720"/>
            <a:ext cx="1800" cy="5032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067280" y="2638440"/>
            <a:ext cx="1440" cy="2872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16000" y="2852640"/>
            <a:ext cx="662472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71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、（ 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P209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）通常是以工时或完成产品的件数计算员工应当获得的劳动报酬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A) 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工资           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B)  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薪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C)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奖金             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D)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福利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72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、（  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P210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）是指员工身心理上感受到的社会行业心理方面的回报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A) 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内部回报           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B)  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外部回报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C)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直接回报           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D)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间接回报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73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、我国《劳动法》明确规定，劳动者平均每周工作时间不超过（ 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P216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A)   35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小时          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B)   40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小时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C)    48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小时         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D)   50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小时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74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、在岗位评价中，（ 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P227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）评价的是岗位的劳动卫生状况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A) 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劳动责任           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B)  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劳动技能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C) 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劳动分配率         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D)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劳动环境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75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、（ 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P258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）是指企业人工成本占企业附加值的比例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A) 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成本收益率           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B)  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人工费用率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C)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劳动分配率           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D)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人工投入产出率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76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、单位录用员工的，应当自录用之日起（ 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P265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）内到住房公积金管理中心办理缴存登记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A)  15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日           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B)   30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C)  60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日           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D)   90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116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、工资总额的准确统计为国家（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P213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提供了重要依据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A)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计算经济补偿金         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B) 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了解人们的收入水平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C)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计算有关保险金           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D) 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了解人们的生活水平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E)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计算离休退休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117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、工资奖金调整的方式包括（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P218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A) 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奖励性调整        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B) 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生活指数调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C) 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福利性调整        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D)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工龄工资调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E)   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特殊性调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118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、一般来说，影响员工工作的数量和质量的主要因素包括（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P226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A)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劳动责任         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B) 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劳动强度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C)  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劳动技能           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D)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劳动环境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E)  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社会心理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119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、社会福利的内容包括（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P264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A)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公共设施          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B) 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财政补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C)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居民住房             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D) 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生活补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(E) 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集体福利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薪酬的基本形式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8000" y="4076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ahoma"/>
              </a:rPr>
              <a:t>薪 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36720" y="321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ahoma"/>
              </a:rPr>
              <a:t>货币形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19280" y="573408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ahoma"/>
              </a:rPr>
              <a:t>非货币形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08360" y="2349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ahoma"/>
              </a:rPr>
              <a:t>直接形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08360" y="4076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ahoma"/>
              </a:rPr>
              <a:t>间接形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68720" y="5732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ahoma"/>
              </a:rPr>
              <a:t>表彰嘉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81800" y="5734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ahoma"/>
              </a:rPr>
              <a:t>荣誉称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93080" y="5734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ahoma"/>
              </a:rPr>
              <a:t>奖章授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10160" y="31161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ahoma"/>
              </a:rPr>
              <a:t>特殊津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37080" y="26128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ahoma"/>
              </a:rPr>
              <a:t>其他工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10160" y="21099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ahoma"/>
              </a:rPr>
              <a:t>绩效工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510160" y="16048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ahoma"/>
              </a:rPr>
              <a:t>基本工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08720" y="47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ahoma"/>
              </a:rPr>
              <a:t>员工福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10160" y="4221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ahoma"/>
              </a:rPr>
              <a:t>社会保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08720" y="3789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ahoma"/>
              </a:rPr>
              <a:t>其他补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64000" y="580536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03280" y="3430440"/>
            <a:ext cx="289080" cy="2448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92360" y="2565360"/>
            <a:ext cx="287640" cy="1800360"/>
          </a:xfrm>
          <a:custGeom>
            <a:avLst/>
            <a:gdLst>
              <a:gd name="textAreaLeft" fmla="*/ 183960 w 287640"/>
              <a:gd name="textAreaRight" fmla="*/ 288000 w 2876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21440" y="1820880"/>
            <a:ext cx="287280" cy="1584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21440" y="4006800"/>
            <a:ext cx="287280" cy="10065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5920 h 1006560"/>
              <a:gd name="textAreaBottom" fmla="*/ 980640 h 100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3203640" y="2205000"/>
            <a:ext cx="2879640" cy="12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谢谢！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252360" y="69228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4920" y="347508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广义薪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16000" y="2781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外部回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16000" y="5734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内部回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71640" y="1243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直接薪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16360" y="4340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间接薪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84720" y="1052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基本工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11640" y="23479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激励薪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945040" y="1601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绩效工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5040" y="22510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红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5040" y="30430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利润分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1800" y="4581360"/>
            <a:ext cx="57456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0" y="4292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福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53080" y="36194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保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24360" y="40514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非工作日工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24360" y="4530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额外津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24360" y="49878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其他服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4915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单身公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80360" y="54910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免费工作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00000" y="2998800"/>
            <a:ext cx="287280" cy="2951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82920" y="1413000"/>
            <a:ext cx="361800" cy="3168360"/>
          </a:xfrm>
          <a:custGeom>
            <a:avLst/>
            <a:gdLst>
              <a:gd name="textAreaLeft" fmla="*/ 231120 w 361800"/>
              <a:gd name="textAreaRight" fmla="*/ 362160 w 361800"/>
              <a:gd name="textAreaTop" fmla="*/ 82440 h 3168360"/>
              <a:gd name="textAreaBottom" fmla="*/ 3085920 h 31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1314360"/>
            <a:ext cx="144360" cy="1251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2400 h 1251000"/>
              <a:gd name="textAreaBottom" fmla="*/ 1218600 h 125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81800" y="1817640"/>
            <a:ext cx="291960" cy="1585800"/>
          </a:xfrm>
          <a:custGeom>
            <a:avLst/>
            <a:gdLst>
              <a:gd name="textAreaLeft" fmla="*/ 186480 w 291960"/>
              <a:gd name="textAreaRight" fmla="*/ 292320 w 291960"/>
              <a:gd name="textAreaTop" fmla="*/ 41040 h 1585800"/>
              <a:gd name="textAreaBottom" fmla="*/ 1544760 h 15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37080" y="3762360"/>
            <a:ext cx="292320" cy="1584360"/>
          </a:xfrm>
          <a:custGeom>
            <a:avLst/>
            <a:gdLst>
              <a:gd name="textAreaLeft" fmla="*/ 186840 w 292320"/>
              <a:gd name="textAreaRight" fmla="*/ 292680 w 2923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165800" y="4915080"/>
            <a:ext cx="142920" cy="9381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8160"/>
              <a:gd name="textAreaBottom" fmla="*/ 914040 h 93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00000" y="627120"/>
            <a:ext cx="7786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Times New Roman"/>
              </a:rPr>
              <a:t>二、薪酬实质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71640" y="5518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内心感受的回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8920" y="5346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参与决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00720" y="58262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工作空间、权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98920" y="62834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Arial"/>
              </a:rPr>
              <a:t>责任、成长机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11640" y="5518080"/>
            <a:ext cx="291960" cy="1125720"/>
          </a:xfrm>
          <a:custGeom>
            <a:avLst/>
            <a:gdLst>
              <a:gd name="textAreaLeft" fmla="*/ 186480 w 291960"/>
              <a:gd name="textAreaRight" fmla="*/ 292320 w 291960"/>
              <a:gd name="textAreaTop" fmla="*/ 29160 h 1125720"/>
              <a:gd name="textAreaBottom" fmla="*/ 109656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13080" y="5950080"/>
            <a:ext cx="35856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756720" y="2061720"/>
            <a:ext cx="7920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薪酬是组织对员工的的贡献，包括员工的的态度、行为和业绩等所做出的各种回报；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薪酬实质上是一种交换或交易。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必须服从市场的交换或交易规律。双方交换关系才能持续。          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2720" y="765000"/>
            <a:ext cx="6264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结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03:16:21Z</dcterms:created>
  <dc:creator>xp</dc:creator>
  <dc:description/>
  <dc:language>en-US</dc:language>
  <cp:lastModifiedBy>微软用户</cp:lastModifiedBy>
  <cp:lastPrinted>1899-12-30T00:00:00Z</cp:lastPrinted>
  <dcterms:modified xsi:type="dcterms:W3CDTF">2013-10-26T12:26:17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