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3A08-32CB-445C-838B-33CC83D4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4060-2044-407C-A991-1565AA16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ECA2-5177-4C58-9C06-9800156A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ABBD-01E7-4B3B-B754-9137174F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E7DF-FE10-4868-BE64-19794956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AAE3-8CFB-4E9E-B9D1-5FB9EB3A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ECEB-8D50-48F4-A8E2-6F6C20BB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0F22-6D9B-4ACE-A51A-39F59937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69B5-48E5-4178-8427-CD060A26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D5FE-EBC4-4B8E-A2C8-2EFC15BB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EF1C-A84E-4A68-9869-868F40F0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A01C-0B4D-4C6E-A000-FDF8B44E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C872-4C05-4FF1-91C4-0DDBA56D81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95640" y="2565360"/>
            <a:ext cx="468144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微软雅黑"/>
              </a:rPr>
              <a:t>绩效管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981000"/>
            <a:ext cx="352908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力资源管理师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42560" y="4797360"/>
            <a:ext cx="3183120" cy="1551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粗宋简体"/>
              </a:rPr>
              <a:t>讲 师：程  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 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134243314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   Q: 8458574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和人之间是有差异的，部门与部门之间也是有差异的，更重要的是在现实生活中要认同人的差异，而不是试图“消灭”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要让不同类型的岗位去讨论共同的标准，那样只会浪费时间；每个人的“客观标准”其实都是建立在自己认知基础上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因此并非真正的客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要试图搞出一个所有岗位、人员都适用的完美的“考核标准”，因为它根本不存在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78440" y="260280"/>
            <a:ext cx="428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这个故事可以给我们以下启示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095360" y="1270080"/>
            <a:ext cx="2558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一、绩效考评的方法与应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绩效考评的方法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绩效考评方法的应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二、绩效考评指标和标准体系设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绩效考评指标体系设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绩效考评标准的设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三、关键绩效指标的设定与应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四、</a:t>
            </a: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360</a:t>
            </a: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度考评方法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64320" y="1364760"/>
            <a:ext cx="78984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粗宋简体"/>
              </a:rPr>
              <a:t>本章内容提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24000" y="1557360"/>
            <a:ext cx="554364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一单元、绩效考评的方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一）、绩效考评的效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效标的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效标的类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特征性效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行为性效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结果性效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92360" y="549360"/>
            <a:ext cx="6335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一节、绩效考评的方法与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637640" y="13413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粗宋简体"/>
              </a:rPr>
              <a:t>（二）绩效考评方法的种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59680" y="2637000"/>
            <a:ext cx="77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行为导向型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结果导向型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综合型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055040" y="2781360"/>
            <a:ext cx="857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考核对象倾向于团队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具有双重性；岗位职责与本岗位的现实任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便于填写说明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分三个等级：极好、满意、不满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49240" y="1413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粗宋简体"/>
              </a:rPr>
              <a:t>（三）合成考评法的含义和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13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（四）日清日结法的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日清日结法（</a:t>
            </a: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OEC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法）的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海尔公司的新风格和新模式，“严、细、实、恒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海尔的始终秉承“一个核心和三个原则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三个原则：</a:t>
            </a: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PD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方正粗宋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闭环原则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方正粗宋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比较分析原则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方正粗宋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不断优化的原则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97120" y="549360"/>
            <a:ext cx="103428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粗宋简体"/>
              </a:rPr>
              <a:t>能力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2349360"/>
            <a:ext cx="633744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粗宋简体"/>
              </a:rPr>
              <a:t>（一）、结构式叙述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粗宋简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粗宋简体"/>
              </a:rPr>
              <a:t>受考评者的文字水平、实际参与考评的时间精力的限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粗宋简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粗宋简体"/>
              </a:rPr>
              <a:t>可靠性和准确性不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34000" y="13413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行为导向型考评方法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08040" y="13413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粗宋简体"/>
              </a:rPr>
              <a:t>（二）强迫选择法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51560" y="2651040"/>
            <a:ext cx="28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粗宋简体"/>
              </a:rPr>
              <a:t>应用范围较广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粗宋简体"/>
              </a:rPr>
              <a:t>属定量化考评方法</a:t>
            </a:r>
            <a:r>
              <a:rPr b="0" lang="zh-CN" sz="3200" spc="-1" strike="noStrike">
                <a:solidFill>
                  <a:srgbClr val="cccc00"/>
                </a:solidFill>
                <a:latin typeface="Arial"/>
                <a:ea typeface="方正粗宋简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383280" y="14860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粗宋简体"/>
              </a:rPr>
              <a:t>二、结果导向型考评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2997360"/>
            <a:ext cx="292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粗宋简体"/>
              </a:rPr>
              <a:t>（一）、短文法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粗宋简体"/>
              </a:rPr>
              <a:t>（二）、成绩记录法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粗宋简体"/>
              </a:rPr>
              <a:t>（三）、劳动定额法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618560" y="11970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粗宋简体"/>
              </a:rPr>
              <a:t>三、综合型绩效考评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2060640"/>
            <a:ext cx="597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方正粗宋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图解式评价量表法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方正粗宋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合成考评法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方正粗宋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日清日结法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）、设定目标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）、控制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）、考评与激励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评价中心技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971640" y="907560"/>
            <a:ext cx="74167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企业管理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人力资源的管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人力资源管理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绩效管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不做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绩效管理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等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做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绩效管理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找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997800" y="9097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粗宋简体"/>
              </a:rPr>
              <a:t>第二单元、绩效考评方法的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47640" y="2060640"/>
            <a:ext cx="6642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绩效考评的正确性、可靠性和有效性，主要受以下几种问题制约和影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一、分布误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宽厚误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苛严误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集中趋势和中间倾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8920" y="1557360"/>
            <a:ext cx="6802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粗宋简体"/>
              </a:rPr>
              <a:t>二、晕轮误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粗宋简体"/>
              </a:rPr>
              <a:t>三、个人偏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粗宋简体"/>
              </a:rPr>
              <a:t>四、优先和近期效应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粗宋简体"/>
              </a:rPr>
              <a:t>五、自我中心效应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粗宋简体"/>
              </a:rPr>
              <a:t>六、后继效应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七、评价标准对考评结果的影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35280" y="476280"/>
            <a:ext cx="5543280" cy="80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选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人际接触和交往频繁的工作岗位尤其重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结果性效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特征性效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行为性效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品质性效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P2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仅适用于激发员工表现，开发其技能，而不适用于员工之间比较的结果导向型的绩效考评方法是（  ）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短文法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评价量表法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记录法 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强制选择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(P20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835280" y="476280"/>
            <a:ext cx="5543280" cy="80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选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又称业绩评定法，由美国斯科特公司设计，曾在美国工商企业中广泛应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合成考评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EC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评价中心技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图解式评价量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(P2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835280" y="476280"/>
            <a:ext cx="5543280" cy="80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选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 下列行为或意图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会产生考评的苛严误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考评标准过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惩罚一些不服管理的员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压缩提薪人员的比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为裁员提供有说服力的证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(P22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835280" y="476280"/>
            <a:ext cx="5543280" cy="80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选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对员工进行考评时，如果前一名被考评者甲被认为是表现“差”，即使被考评者乙的表现一般，考评者仍然会绘出较高的评分。这种误差被称为是考评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相似偏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后继效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对比偏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晕轮效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(P2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476280"/>
            <a:ext cx="5543280" cy="80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选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从考评的性质和特点上看，行为导向型的主观评价方法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考评有客观依据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缺乏量化的考评标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可用于考评团队绩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受考评者主观因素约合影响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通过整体绩效来衡量员工的个体工作绩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DE (P2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476280"/>
            <a:ext cx="5543280" cy="80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多选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79280" y="1700280"/>
            <a:ext cx="896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以下对日清日结法的表述，正确的有（     ）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提高了成本和投入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提高了质量和效率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增加了员工的心理惰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提高了管理工作的有效性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提高了管理工作的及时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DE(P21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35280" y="476280"/>
            <a:ext cx="5543280" cy="80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多选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 造成宽厚误差的原因主要有（        ）  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考评标准和方法主观性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评价标准过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压缩提薪或奖励人数比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评价标准过高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在考评中曾与被考评者反复进行沟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E(P221-22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35280" y="476280"/>
            <a:ext cx="5543280" cy="80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多选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绩效管理现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1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员工觉得考核不公平，不是考绩效，而是扣工资，老板对结果也不满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公司上下一张表，除了增加工作量，无多大的实际意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绩效考核人情味很重，人为干扰因素很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企业各部门都认为绩效管理是人力资源管理者的事，与他们无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考核指标复杂，管理者不清楚，员工不明白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每次考核时各部门不堪其扰，考核逐渐走过场，流于形式，被视之为鸡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因绩效考核引起劳动争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结果导向型的进行考评方法包括（      ）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关键事件法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短文法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劳动定额法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目标管理法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直接指标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DE(P22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5280" y="476280"/>
            <a:ext cx="5543280" cy="80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多选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79280" y="549360"/>
            <a:ext cx="9144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第二节 绩效考评指标和标准体系设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6560" y="1839960"/>
            <a:ext cx="8282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第一单元、绩效考评指标体系设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一、绩效考评指标体系设计的内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（一）、适用不同对象范围的考评体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组织绩效考评体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个人绩效考评指标体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企业的岗位分类尚无统一标准或规定，下列可以作为参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可按岗位实际承担的性质和特点，对岗位进行横向区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可按岗位在企业经营过程中的地位和作用划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184280" y="961920"/>
            <a:ext cx="77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（二）、不同性质指标构成的考评体系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品质特征的绩效考评指标体系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行为过程型的绩效考评指标体系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工作结果型的绩效考评指标体系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021560" y="1701720"/>
            <a:ext cx="840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二、绩效考评指标体系的设计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针对性原则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科学性原则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明确性原则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179440" y="1197000"/>
            <a:ext cx="3594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粗宋简体"/>
              </a:rPr>
              <a:t>一、绩效考评指标体系的设计方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粗宋简体"/>
              </a:rPr>
              <a:t>（一）、要素图示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粗宋简体"/>
              </a:rPr>
              <a:t>（二）、问卷调查法；（注意七个步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粗宋简体"/>
              </a:rPr>
              <a:t>（三）、个案研究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粗宋简体"/>
              </a:rPr>
              <a:t>（四）、面谈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粗宋简体"/>
              </a:rPr>
              <a:t>（五）、经验总结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粗宋简体"/>
              </a:rPr>
              <a:t>（六）、头脑风暴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620640"/>
            <a:ext cx="21592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力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164480" y="1413000"/>
            <a:ext cx="77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二、绩效考评指标体系的设计程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工作分析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理论验证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进行指标调查，确定指标体系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进行必要的修改和调整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82080" y="112536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第二单元  绩效考评标准的设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68920" y="2421000"/>
            <a:ext cx="366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粗宋简体"/>
              </a:rPr>
              <a:t>一、绩效考评标准的设计原则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粗宋简体"/>
              </a:rPr>
              <a:t>（一）、定量准确的原则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粗宋简体"/>
              </a:rPr>
              <a:t>（二）、先进合理的原则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粗宋简体"/>
              </a:rPr>
              <a:t>（三）、突出特点的原则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粗宋简体"/>
              </a:rPr>
              <a:t>（四）、简洁扼要的原则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377240" y="1676520"/>
            <a:ext cx="389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粗宋简体"/>
              </a:rPr>
              <a:t>二、绩效考评标准的种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粗宋简体"/>
              </a:rPr>
              <a:t>（一）、综合等级标准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粗宋简体"/>
              </a:rPr>
              <a:t>（二）、分解提问标准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213800" y="1700280"/>
            <a:ext cx="38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粗宋简体"/>
              </a:rPr>
              <a:t>一、考评指标标准的评分方法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粗宋简体"/>
              </a:rPr>
              <a:t>（一）、单一要素的计分方法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粗宋简体"/>
              </a:rPr>
              <a:t>（二）、多种要素综合计分法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74760" y="765000"/>
            <a:ext cx="19177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力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230720" y="1341360"/>
            <a:ext cx="41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粗宋简体"/>
              </a:rPr>
              <a:t>二、绩效考评标准量表的设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粗宋简体"/>
              </a:rPr>
              <a:t>（一）、名称量表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粗宋简体"/>
              </a:rPr>
              <a:t>（二）、等级量表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粗宋简体"/>
              </a:rPr>
              <a:t>（三）、等距量表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粗宋简体"/>
              </a:rPr>
              <a:t>（四）、比率量表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绩效管理主要解决以下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35164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大家聚在一起要做一件什么事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这件事情要做好的标准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要用多少时间做完这件事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做得好和不好，企业分别给予什么奖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做完这件事情后，下一步做什么事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对于管理性组织和服务性组织的考评，一般不采用的指标是（   ）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工作方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工作产出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组织气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工作效率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(P2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476280"/>
            <a:ext cx="5543280" cy="80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选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“客户投诉率”属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绩效考评指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行为过程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品质特征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工作结果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工作方式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23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35280" y="476280"/>
            <a:ext cx="5543280" cy="80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选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 绩效考评指标体系设计的程序包括：①工作分析；②理论验证；③修改调整；④指标调查，排序正确的是（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①③②④                 (B)①②③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①②④③                 (D)①④②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  (P23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5280" y="476280"/>
            <a:ext cx="5543280" cy="80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选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绩效考评标准分为两种，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分解提问标准、综合提问标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综合等级标准、分解提问标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综合提问标准、分解等级标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分解等级标准、综合等级标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 (P2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476280"/>
            <a:ext cx="5543280" cy="80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选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 运用头脑风暴法进行集体讨论时，应遵循的原则有（      ）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鼓励别人改进想法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强调想法的数量  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不批评别人的想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强调想法的质量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思想愈激进愈开放愈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E(P23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35280" y="476280"/>
            <a:ext cx="5543280" cy="80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多选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4920" y="1628640"/>
            <a:ext cx="8497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以下关于等距量表的说法正确的有（       ）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有绝对零点  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数量差距相同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数量差距以相同的比例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没有绝对零点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在一个变量上对事物进行分类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D  (P24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5280" y="476280"/>
            <a:ext cx="5543280" cy="80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多选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66560" y="765000"/>
            <a:ext cx="7728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第三节   关键绩效指标的设定与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1360" y="1844640"/>
            <a:ext cx="8037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一、关键绩效指标的内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使</a:t>
            </a: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KPI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不仅为一种检测手段，更要成为实施企业战略规划的重要工具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建立战略导向的</a:t>
            </a: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KPI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体系的意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战略导向的</a:t>
            </a: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KPI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体系与一般绩效评价体系的主要区别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95280" y="1197000"/>
            <a:ext cx="83534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二、设定关键绩效指标的目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认识二方面的困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可供选择的指标多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量化标准存在困难；（主要有三方面原因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一个完整的关键绩效指标和标准体系有以下几个特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体现团队和员工个人所创的价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突出员工的贡献率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明确关键性产出的权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跟踪团队与个人实际表现，以便对差距进行分析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640320" y="1413000"/>
            <a:ext cx="707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三、选择关键绩效指标的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整体性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增值性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可测性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可控性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关联性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710880" y="1557360"/>
            <a:ext cx="707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四、确定工作产出的基本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增值产出的原则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客户导向的原则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结果优先的原则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设定权重的原则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9640" y="609120"/>
            <a:ext cx="6696360" cy="80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绩效管理的六步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步：准备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动员宣传，认清绩效管理的实质；同时就制定绩效管理制度、工作流程及管理方案等方面达成一致的意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意：绩效考核的基础是岗位说明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步：绩效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企业高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部门经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部门经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直属员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力资源汇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公司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769200" y="10540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粗宋简体"/>
              </a:rPr>
              <a:t>五、平衡计分卡的概念和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7960" y="1917720"/>
            <a:ext cx="7836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平衡计分卡（</a:t>
            </a: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The Balanced Score Car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简称</a:t>
            </a: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BSC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被</a:t>
            </a: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哈佛商业评论</a:t>
            </a: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评为“过去</a:t>
            </a: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年来最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影响力的十大管理理念”之一，为世界</a:t>
            </a: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强中</a:t>
            </a: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80%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的企业所应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24000" y="105408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平衡记分卡从四个不同的角度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财务、客户、内部流程、学习与成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从以下四个方面进一步理解和体会其基本概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是一个核心的战略管理下执行工具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是一种先进的绩效衡量的工具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是企业管理者与管理对象进行有效沟通的一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重要因素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是一种规范的管理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00000" y="836640"/>
            <a:ext cx="2735280" cy="703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粗宋简体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粗宋简体"/>
              </a:rPr>
              <a:t>能力要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1486080"/>
            <a:ext cx="684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一、提取关键绩效指标的方法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（一）、目标分解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确定战略的总目标和分目标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进行业务价值树的决策分析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各项业务关键驱动因素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（二）、关键分析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（三）、标杆基准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654640" y="1197000"/>
            <a:ext cx="3472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二、提取关键绩效指标的程序和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（一）、利用客户关系图分析工作产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（二）、提取和设定绩效考评指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具体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可度量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可实现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现实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有时限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三</a:t>
            </a: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根据提取的关键指标设定考评标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先进的标准水平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平均的标准水平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基本的标准水平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41040" y="9097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粗宋简体"/>
              </a:rPr>
              <a:t>（四）、审核关键绩效指标和标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45160" y="1701720"/>
            <a:ext cx="4960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审核关键绩效指标的要点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工作产出是否为最终产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多个考评者对同一绩效指标和标准进行评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其结果是否有可靠性和准确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指标的总和是否可以解释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考评者</a:t>
            </a: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80%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以上的工作目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关键绩效指标和考评标准是否具有可操作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关键绩效的考评标准是否预留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可以超出的空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272840" y="98100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粗宋简体"/>
              </a:rPr>
              <a:t>五、修改和完善关键绩效指标和标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12920" y="2349360"/>
            <a:ext cx="429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粗宋简体"/>
              </a:rPr>
              <a:t>对设定后的标准要不断地进行补充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粗宋简体"/>
              </a:rPr>
              <a:t>修改，不断地提高关键绩效指标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粗宋简体"/>
              </a:rPr>
              <a:t>科学性、可行性和准确性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387160" y="1125360"/>
            <a:ext cx="350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三、设定</a:t>
            </a: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KPI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时常见的问题与解决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（见表</a:t>
            </a: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P257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，表</a:t>
            </a: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4-16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88600" y="3213000"/>
            <a:ext cx="4960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四、提取设定关键绩效指标的应用实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企业一般主管人员关键绩效指标体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企业员工培训主管的关键绩效指标体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企业财务主管的关键绩效指标体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382280" y="98100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粗宋简体"/>
              </a:rPr>
              <a:t>五、企业关键绩效指标标准体系的构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2492280"/>
            <a:ext cx="741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依据平衡计分卡的设计思想构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P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体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根据不同部门所承担的责任确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P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体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根据企业工作岗位分类建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P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体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与战略导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P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体系相比，一般绩效评价体系的考评目的以（     ）为中心 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目标  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控制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战略  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激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  (P24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476280"/>
            <a:ext cx="5543280" cy="80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选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 关键绩效指标作为绩效考评的指标与标准的结合体，它必须具备的条件是（   ）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定性化、结果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定性化、行为化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定量化、结果化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定量化、行为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 (P2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35280" y="476280"/>
            <a:ext cx="5543280" cy="80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选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11280" y="1819080"/>
            <a:ext cx="822960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三步：绩效实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各部门经理与下属员工共同进行，分别依据自行制定的绩效计划一步步实施。人力资源部提供系统维护的咨询和帮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关键事件记录和不断检查是实施的关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四步：绩效考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部门经理对下属的工作表现进行评价，并与绩效计划目标进行对比，得出优劣及差异的结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899640" y="609120"/>
            <a:ext cx="6696360" cy="80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绩效管理的六步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平衡计分卡把企业的战略分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同维度。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两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三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四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五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P24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476280"/>
            <a:ext cx="5543280" cy="80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选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 提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PI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程序包括；①分析工作产出；②审核指标和标准；③修改和完善； ④设定考评标准；⑤提取和设定绩效考评指标。排序正确的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①④③⑤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①⑤②③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①④②⑤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①⑤④②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(P251-25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476280"/>
            <a:ext cx="5543280" cy="80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选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P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标准水平的分类不包括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先进的标准水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预期的标准水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平均的标准水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基本的标准水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(P255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476280"/>
            <a:ext cx="5543280" cy="80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选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战略导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P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体系的意义体现在（    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具有战略导向的牵引作用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是实施企业战略规划的重要工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能够最大限度地激发员工的斗志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是激励约束员工行为的一种新型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能调动全员的积极性、主动性和创造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24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5280" y="476280"/>
            <a:ext cx="5543280" cy="80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多选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2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平衡记分卡能够帮企业有效地解决一些关键问题，如企业（   ）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绩效考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员工招聘配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员工薪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员工培训开发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战略实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E   (P24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476280"/>
            <a:ext cx="5543280" cy="80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多选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2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2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8964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审核关键绩效指标的要点包括（      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是否具有可操作性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是否留有可以超越的空间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工作产出是否为最终产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多个考评者参与，结果是否可靠、准确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P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否解释被考评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上的工作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  (P255-25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35280" y="476280"/>
            <a:ext cx="5543280" cy="80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多选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2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7487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影响企业一般主管人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P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因素主要有（   ）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下属员工的薪酬水平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下属员工的绩效水平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员工组织氛围与满意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员工薪酬与工作环境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企业整体工作绩效水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C  (P25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35280" y="476280"/>
            <a:ext cx="5543280" cy="80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多选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2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在构建企业培训主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P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体系时，应分析其主要工作职责，它包括（      ）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帮助员工制定职业生涯的规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撰写培训评估报告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制定与实施员工培训开发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指导下属员工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收集与提供员工培训发展方面的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   (P25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476280"/>
            <a:ext cx="5543280" cy="80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多选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91520" cy="158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简答题：在审核关键绩效指标和标准时应当关注哪些要点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9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审核关键绩效指标时应当关注以下要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25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工作产出是否为最终产品。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多个考评者对同一个绩效指标和标准进行评价，其结果是否具有可靠性和准确性。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关键绩效考评指标的总和是否可以解释被考评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上的工作目标。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关键绩效指标和考评标准是否具有可操作性。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关键绩效指标的考评标准是否预留出可以超越的空间。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05016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综合题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181440" y="1170000"/>
            <a:ext cx="9325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某知名家具公司的产品销售一直采用代理商模式。随着竞争环境的变化，公司高层领导决定在保留原有营销方式的同时，组建一支属于自己的专职营销队伍。去年公司正式组建了销售部，招聘了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名推销员。经过一年多的努力，这些人员给公司带来了较好的销售业绩，但是对这些推销员的考评工作却未走上正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力资源部经理经过近一个月的时间为推销员设计了一套包含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项指标的绩效考核体系。在征询意见时，销售部经理认为，这套体系所包含的指标过多过杂，需要进行认真的推敲与修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请结合本案例回答以下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在设计推销员绩效指标体系时，可采用哪些具体方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在确定推销员绩效指标时，一般可包括哪些工作步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该公司推销员的绩效指标太多，该如何进行调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虽然需要调整该公司推销员的绩效指标，但是有些指标是必不可少的，请列举至少四项适用于推销员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PI?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五步：绩效反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将评价结果反馈给员工本人，并指导员工如何进行下一步工作做得更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六步：绩效改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阶段性总结，并根据下一阶段目标，提出更高改进要求，制定新的工作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899640" y="609120"/>
            <a:ext cx="6696360" cy="80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绩效管理的六步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-360" y="-27360"/>
            <a:ext cx="9325080" cy="73436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评分标准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3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3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5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设计销售员绩效考评指标体系时，可采用以下方法： （每项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，最高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素图示法、问卷调查法、个案研究法、面谈法、经验总结法、头脑风暴法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确定销售员的绩效考评指标体系，一般可分为以下四个步骤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销售人员进行工作岗位分析，初步确定绩效考评指标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理论验证。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进行指标调查，确定指标体系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进行必要的修改和调整。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可采取以下解决和纠正方法：（每项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，最高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删除与销售人员工作目标不符合的指标；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比较各指标与销售业绩的贡献度，删除贡献度小的指标；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合并同类项，将增值贡献率的指标划归到更高的类别指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推销员的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PI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可以是：（每项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，最高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销售额、销售费用、销售增长率、客户投诉率、不良债权率、合同履行率、服务态度等。 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2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2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20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2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20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20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200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2000"/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2000"/>
                                        <p:tgtEl>
                                          <p:spTgt spid="1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1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332000" y="549360"/>
            <a:ext cx="705636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第四节   </a:t>
            </a:r>
            <a:r>
              <a:rPr b="1" lang="en-US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360</a:t>
            </a:r>
            <a:r>
              <a:rPr b="1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度考评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45880" y="1916280"/>
            <a:ext cx="5915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一、</a:t>
            </a:r>
            <a:r>
              <a:rPr b="0" lang="en-US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360</a:t>
            </a: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度考评方法的产生与发展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产生于</a:t>
            </a: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世纪</a:t>
            </a: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年代英国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年代走向企业，成为重要管理工具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IBM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Motorola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Nokia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等公司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25400" y="1125360"/>
            <a:ext cx="3705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二、</a:t>
            </a:r>
            <a:r>
              <a:rPr b="0" lang="en-US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360</a:t>
            </a:r>
            <a:r>
              <a:rPr b="0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度考核的内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上级评价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同级评价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下级评价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客户评价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自我评价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424960" y="909720"/>
            <a:ext cx="424008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三、</a:t>
            </a:r>
            <a:r>
              <a:rPr b="0" lang="en-US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360</a:t>
            </a: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度考评方法的优缺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（一）、优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全方位、多角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考虑的包括产出和胜任特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强化核心价值观、增强竞争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发现问题并提高组织绩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客观评价，结果有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和谐气氛，激发创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双向交流，提高参与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促进员工个人发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258280" y="1486080"/>
            <a:ext cx="402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（三）、缺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详见</a:t>
            </a:r>
            <a:r>
              <a:rPr b="0" lang="en-US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P264</a:t>
            </a:r>
            <a:r>
              <a:rPr b="0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，共</a:t>
            </a:r>
            <a:r>
              <a:rPr b="0" lang="en-US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点</a:t>
            </a: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599280" y="838080"/>
            <a:ext cx="1794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四、基于互联网的</a:t>
            </a: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360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度考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（一）优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克服地域差异给绩效考评带来的问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降低评价过程的复杂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保持了整个过程的适时性与动态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降低了评价成本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（二）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公司受网络化程度影响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存在信息安全隐患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332000" y="1270080"/>
            <a:ext cx="712764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一、</a:t>
            </a:r>
            <a:r>
              <a:rPr b="0" lang="en-US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360</a:t>
            </a: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度考评的实施程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（一）、评价项目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进行需求与可行性分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编制基于岗位胜任特征模型的评价问卷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509760"/>
            <a:ext cx="22320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力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634120" y="1486080"/>
            <a:ext cx="346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（二）、培训考评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组建</a:t>
            </a:r>
            <a:r>
              <a:rPr b="0" lang="en-US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360</a:t>
            </a: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度考评队伍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培训内容提要：沟通技巧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考评实施技巧、总结评价结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方法、反馈评价结果的方法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519640" y="1125360"/>
            <a:ext cx="369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（三）、实施</a:t>
            </a:r>
            <a:r>
              <a:rPr b="0" lang="en-US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360</a:t>
            </a: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度考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实施考评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统计评价信息并报告结果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提高认可，为职业生涯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划提供建议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制度绩效改善行动计划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150800" y="1828800"/>
            <a:ext cx="840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（四）、反馈面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确定面谈的成员和对象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、有效进行反馈，及时反馈结果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419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森林里的动物们准备进行选美大赛，很多动物都报名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赛，吵吵嚷嚷好不热闹。由猫头鹰、麻雀、老鹰、蚂蚁、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熊组成的评委会，开始安排赛前的准备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时，森林之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狮子召集动物评委们，讨论如何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织这次选美比赛。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狮子说：“要选美了，咱们首先要制定出选美的标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什么是美？棕熊，先谈谈你的看法。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棕熊说：“这个问题我已经想了很久了，选美是一件重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事情，必须慎重。我们评选的标准首先应该是身体健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身体健壮才是美，就像我们熊的家族，个个都是动物界的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力士，我们有一种力量美。”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麻雀说：“我不同意棕熊的看法。美丽的动物一定要有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亮的外表，比如我们鸟类家族中的孔雀，她的羽毛多美丽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气质多优雅呀！”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0"/>
            <a:ext cx="54723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动物选美的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10920" y="1773000"/>
            <a:ext cx="748980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五）效果评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确认执行过程的安全性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评价应用效果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总结不足，找出问题，不断完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度考评方法中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具有较高的主观性，常给予较高的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自我评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下级评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上级评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同级评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  (P26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35280" y="476280"/>
            <a:ext cx="5543280" cy="80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选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度考评法是基于（       ）的一种考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性格特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胜任特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外貌特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品质特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(P26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35280" y="476280"/>
            <a:ext cx="5543280" cy="80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选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2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20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度考评宜采用（）的评价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记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公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匿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自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 (P26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35280" y="476280"/>
            <a:ext cx="5543280" cy="80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选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2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2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2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度考评方法的缺点不包括（   ）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相对而言成本较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信息一致性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定性评价比重较大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结果有效性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(P26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35280" y="476280"/>
            <a:ext cx="5543280" cy="80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选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度考评中，客户评价要求客户对员工的（     ）进行评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心理素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服务态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沟通能力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服务质量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工作数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D(P26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35280" y="476280"/>
            <a:ext cx="5543280" cy="80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多选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2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20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9280" y="1905120"/>
            <a:ext cx="87854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关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度考评，以下说法正确的是（       ）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客户评价最重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强调客观考评员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上级评价比下级评价更重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强调全方位对员工进行考评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如果没有反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难以达到提高绩效的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DE  (  P263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35280" y="476280"/>
            <a:ext cx="5543280" cy="80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多选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2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2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某公司由于出现效率低下、管理混乱、人浮于事、产品成本上升等一系列问题，总经理决定以绩效考核为突破口，对公司的管理体系进行梳理，并将“末位淘汰法”作为绩效考核制度的一项重要改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的绩效考核制度规定，每年年底由部门负责人对下属员工进行百分制考核，各部门得分排名最后的两名员工将被淘汰。   实行末位淘汰制之初，效果很明显，员工积极性有了很大的提高，公司在市场上的表现也大有起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但随着时间推移，一系列问题开始显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首先，干活越多的人，出错率越大；越坚持原则的人，得罪的人越多。结果是这两类人的绩效得分都很低，按照公司的规定，他们将被淘汰。企业很多中层主管对此意见很大，认为如果这样的员工都会流失，将没有人干活和敢说真话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次，公司产品项目部在激烈的市场竞争中取得了非常好的业绩，很难从中选出最差的两个人。由于淘汰最后两名员工是绩效考核的核心内容，这让很多部门领导处于左右为难的境地。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请结合本案例，回答以下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该公司的“末位淘汰制”主要存在哪些问题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8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对该公司“末位淘汰制”进行综合评析，提出改进建议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27280" y="0"/>
            <a:ext cx="3960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案例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4968720" cy="80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参考答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569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该公司的“末位淘汰制”主要存在哪些问题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该公司的“末位淘汰制”主要存在以下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没有对不同的部门进行区别对待，搞“一刀切”，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品项目部就是一个典型事例； 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没有建立一套科学合理的绩效考评体系，考核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因素影响过大； 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没有建立相关的配套制度，如培训制度、晋升制度、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薪酬制度等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没有根据企业不同发展阶段的变化及时进行调整。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1200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对该公司“末位淘汰制”进行综合评析，并提出改进的建议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、对“末位淘汰制”的评析：（每项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分，最高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分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）末位淘汰制在实施之初，针对人浮于事等问题的改善较为有效，当公司管理步入正轨，不一定会取得较好的效果；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分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）末位淘汰制的基础是客观公正的绩效考核，否则考核缺乏激励机制；  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）末位淘汰制的实施前提是假设员工绩效符合正态分布，具有一定的局限性；  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）末位淘汰制的持续和不当使用，有可能使员工产生不公平感和危机感，容易产生抵触情绪，影响绩效水平的提高。 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、建议从以下几个方面加以改进：（每项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分，最高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4 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分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）健全完善各项基础工作（如定编定岗定员定额，工作分析等工作），建立一套科学合理的考核评价体系； 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）采用多种管理模式，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PI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法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60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度考评方式、鼓励员工积极参与，进行全员性的绩效考评，尽量减少绩效考评中各种人为因素的干扰；  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）建立完善的内部员工流动制度，强化培训，提高后进员工的岗位技能水平。     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3356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老鹰说：“你们说的都不对，最美丽的动物应该是有一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锐利的眼睛，那才叫迷人。我们鹰的眼睛是最锐利的。”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蚂蚁说：“我不同意你们的看法，内在的美，才是最美。我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昆虫世界里的蜜蜂，天天不辞辛劳地工作，那才叫美丽呢。”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猫头鹰说：“你们的理解都有偏差，最美丽的动物应该是对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林最有贡献的动物。比如说啄木鸟，天天忙着捉虫子，没有它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努力，森林里就会到处是虫子，我们生活的环境就会很糟糕。”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评委们你一言我一语，各执己见，争论不休。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狮子看大家争了半天也没有个统一的意见，就说道：“我看大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美的认识各有看法。咱们能不能综合一下，把选美的标准定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有熊一样的力量、孔雀般漂亮的外表、鹰一样锐利的眼睛、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蜜蜂那样勤勤恳恳，还要有啄木鸟的奉献精神。按照这样的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来评选，一定能选出最美的动物。”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狮子说完后，动物们面面相觑，不知道说什么好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8229600" cy="21607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2000" spc="-1" strike="noStrike">
                <a:solidFill>
                  <a:srgbClr val="000000"/>
                </a:solidFill>
                <a:latin typeface="Arial"/>
              </a:rPr>
              <a:t>谢谢大家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cp:keywords/>
  <dc:language>en-US</dc:language>
  <cp:lastModifiedBy>925XP</cp:lastModifiedBy>
  <dcterms:modified xsi:type="dcterms:W3CDTF">2013-10-12T12:09:13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42</vt:lpwstr>
  </property>
</Properties>
</file>